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c%20del%20C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68B-C2BB-4592-9ABF-C6C2A7F9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39C-1DD9-44C6-879F-DA240FFF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791-12E7-4D5A-BEC8-F15522C3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B1D-621D-4DD1-ADB0-F9617814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B96-1F39-4D16-BCDA-74B3DE4A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D38-7958-468F-A238-E047E4F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747-2461-4479-9ACB-E7E729A2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476-E8CF-401A-BFDB-868A362F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0D8-7367-49BE-B955-89714052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455-C7DA-465C-8410-8F53110E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C82-25D8-4846-AFFB-3DD6C87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8A8-85A8-42DF-B46E-8A1E1042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375-47EF-4325-B5FA-6B92DF45793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c%20del%20C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lmsievangeli.net/" TargetMode="External"/><Relationship Id="rId2" Type="http://schemas.openxmlformats.org/officeDocument/2006/relationships/hyperlink" Target="http://www.salmsievangeli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12_143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81720" y="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1988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1988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1988f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320" y="1143000"/>
            <a:ext cx="8839080" cy="1008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000" spc="-1" strike="noStrike">
                <a:solidFill>
                  <a:srgbClr val="1988ff"/>
                </a:solidFill>
                <a:latin typeface="Comic Sans MS"/>
              </a:rPr>
              <a:t>  </a:t>
            </a:r>
            <a:r>
              <a:rPr b="1" i="1" lang="ca-ES" sz="4700" spc="-1" strike="noStrike">
                <a:solidFill>
                  <a:srgbClr val="1988ff"/>
                </a:solidFill>
                <a:latin typeface="Comic Sans MS"/>
              </a:rPr>
              <a:t>III Domingo de Pascua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94160" y="2819520"/>
            <a:ext cx="5753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1988ff"/>
                </a:solidFill>
                <a:latin typeface="Comic Sans MS"/>
              </a:rPr>
              <a:t>18 de Abril de 2010</a:t>
            </a:r>
            <a:r>
              <a:rPr b="0" i="1" lang="ca-ES" sz="4800" spc="-1" strike="noStrike">
                <a:solidFill>
                  <a:srgbClr val="1988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57200" y="6019920"/>
            <a:ext cx="87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Imágenes cedidas por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el fotógrafo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Jaume Balany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500280" y="464832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1cbbff"/>
                </a:solidFill>
                <a:latin typeface="Comic Sans MS"/>
              </a:rPr>
              <a:t>MÚSICA: “”Cantar de los</a:t>
            </a:r>
            <a:br>
              <a:rPr sz="2800"/>
            </a:br>
            <a:r>
              <a:rPr b="1" i="1" lang="ca-ES" sz="2800" spc="-1" strike="noStrike">
                <a:solidFill>
                  <a:srgbClr val="1cbbff"/>
                </a:solidFill>
                <a:latin typeface="Comic Sans MS"/>
              </a:rPr>
              <a:t>cantares” Sinagoga heb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ntic%20del%20C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5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76720" y="2478240"/>
            <a:ext cx="2361960" cy="7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ICIO</a:t>
            </a:r>
            <a:r>
              <a:rPr b="0" lang="ca-E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5208480"/>
            <a:ext cx="903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ffffff"/>
                </a:solidFill>
                <a:latin typeface="Comic Sans MS"/>
              </a:rPr>
              <a:t>Tú, Señor, si, como en el Evangelio, me preguntas: &lt;&lt;¿Me quieres?&gt;&gt;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ffffff"/>
                </a:solidFill>
                <a:latin typeface="Comic Sans MS"/>
              </a:rPr>
              <a:t>Balbuceo mi respuesta: Tú, Señor, sabes que te qui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ffffff"/>
                </a:solidFill>
                <a:latin typeface="Comic Sans MS"/>
              </a:rPr>
              <a:t>Quizá  no tanto como debiera,  pero te quiero.     </a:t>
            </a:r>
            <a:r>
              <a:rPr b="0" i="1" lang="ca-ES" sz="1800" spc="-1" strike="noStrike">
                <a:solidFill>
                  <a:srgbClr val="bbe0e3"/>
                </a:solidFill>
                <a:latin typeface="Comic Sans MS"/>
              </a:rPr>
              <a:t>Roger de Taiz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st benet\Mis documentos\Mis imágenes\bíblics\jerusjueva\mur lamen\resized_mur olga13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304920" y="152280"/>
            <a:ext cx="8534160" cy="5580360"/>
          </a:xfrm>
          <a:prstGeom prst="rect">
            <a:avLst/>
          </a:prstGeom>
          <a:solidFill>
            <a:srgbClr val="fade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Hechos 5, 27b-32.40b-41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sumo sacerdote les preguntó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No os prohibimos terminantemente enseñar en nombre de ése? Y sin embargo habéis llenado Jerusalén con vuestras enseñanzas y queréis hacernos responsables de la muerte de ese hombre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dro y los apóstoles respondieron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Hay que obedecer a Dios antes que a los hombres. El Dios de nuestros antepasados ha resucitado a Jesús, a quien vosotros matasteis colgándolo de un madero. Dios lo ha exaltado a su derecha como Príncipe y Salvador, para dar a Israel la ocasión de arrepentirse y de alcanzar el perdón de los pecados. Nosotros y el Espíritu Santo que Dios ha dado a los que le obedecen somos testigos de todo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86080" y="6400800"/>
            <a:ext cx="5857920" cy="474840"/>
          </a:xfrm>
          <a:prstGeom prst="rect">
            <a:avLst/>
          </a:prstGeom>
          <a:solidFill>
            <a:srgbClr val="fad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ugar donde se reunía el Sanedrí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x0012_092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27520" y="0"/>
            <a:ext cx="332316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306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2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371600" y="1447920"/>
            <a:ext cx="5943600" cy="122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306ae"/>
                </a:solidFill>
                <a:latin typeface="Comic Sans MS"/>
              </a:rPr>
              <a:t>Yo te alabo, Señor, </a:t>
            </a:r>
            <a:br>
              <a:rPr sz="3600"/>
            </a:br>
            <a:r>
              <a:rPr b="1" i="1" lang="ca-ES" sz="3600" spc="-1" strike="noStrike">
                <a:solidFill>
                  <a:srgbClr val="0306ae"/>
                </a:solidFill>
                <a:latin typeface="Comic Sans MS"/>
              </a:rPr>
              <a:t>porque</a:t>
            </a:r>
            <a:r>
              <a:rPr b="1" i="1" lang="ca-ES" sz="3800" spc="-1" strike="noStrike">
                <a:solidFill>
                  <a:srgbClr val="0306ae"/>
                </a:solidFill>
                <a:latin typeface="Comic Sans MS"/>
              </a:rPr>
              <a:t> me has libr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8240" y="4038480"/>
            <a:ext cx="8294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Yo te alabo, Señor, porque me has librado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no has dejado que mis enemigos se rían de mí.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Señor, Dios mío, a ti grité y me sanas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Tú, Señor, me libraste del abismo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me reanimaste cuando estaba a punto de mo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_x0012_050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295280" y="1066680"/>
            <a:ext cx="6019920" cy="1252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800" spc="-1" strike="noStrike">
                <a:solidFill>
                  <a:srgbClr val="099710"/>
                </a:solidFill>
                <a:latin typeface="Comic Sans MS"/>
              </a:rPr>
              <a:t>Yo te alabo, Señor,</a:t>
            </a:r>
            <a:br>
              <a:rPr sz="3800"/>
            </a:br>
            <a:r>
              <a:rPr b="1" i="1" lang="ca-ES" sz="3800" spc="-1" strike="noStrike">
                <a:solidFill>
                  <a:srgbClr val="099710"/>
                </a:solidFill>
                <a:latin typeface="Comic Sans MS"/>
              </a:rPr>
              <a:t>porque me has librado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95280" y="3581280"/>
            <a:ext cx="6172200" cy="26535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¡Cantad al Señor, fieles suyos,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dad gracias a su santo nombre!.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Porque su ira dura un instante; 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y su favor, toda la vida;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por la tarde nos domina el llanto,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por la mañana todo es júbi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12_139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523880" y="1523880"/>
            <a:ext cx="6400800" cy="125244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800" spc="-1" strike="noStrike">
                <a:solidFill>
                  <a:srgbClr val="9e0601"/>
                </a:solidFill>
                <a:latin typeface="Comic Sans MS"/>
              </a:rPr>
              <a:t>Yo te alabo, Señor,</a:t>
            </a:r>
            <a:br>
              <a:rPr sz="3800"/>
            </a:br>
            <a:r>
              <a:rPr b="1" i="1" lang="ca-ES" sz="3800" spc="-1" strike="noStrike">
                <a:solidFill>
                  <a:srgbClr val="9e0601"/>
                </a:solidFill>
                <a:latin typeface="Comic Sans MS"/>
              </a:rPr>
              <a:t>porque me has librad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" y="4191120"/>
            <a:ext cx="8864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¡Escucha, Señor, ten compasión de mí,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Señor, ven en mi ayuda!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Tú cambiaste mi luto en danz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Señor, Dios mío, te daré gracias por siemp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st benet\Mis documentos\Mis imágenes\bíblics\Nacions\Patmos\patmos33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380880" y="457200"/>
            <a:ext cx="8153640" cy="4997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Ap. 5, 11-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Oí después, en la visión, la voz de innumerables ángeles que estaban alrededor del trono, de los seres vivientes y de los ancianos; eran cientos y cientos, miles y miles, que decían con voz potente: Digno es el Cordero degollado,</a:t>
            </a:r>
            <a:br>
              <a:rPr sz="2300"/>
            </a:b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de recibir el poder, la riqueza, la sabiduría,</a:t>
            </a:r>
            <a:br>
              <a:rPr sz="2300"/>
            </a:b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la fuerza, el honor, la gloria y la alabanza.</a:t>
            </a:r>
            <a:br>
              <a:rPr sz="2300"/>
            </a:b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Y las criaturas todas del cielo y de la tierra, de debajo de la tierra y del mar, oí también que decían: Al que está sentado en el trono y al Cordero, alabanza, honor, gloria y poder por los siglos de los siglos. Los cuatro seres vivientes respondieron: «Amén», y los ancianos se postraron en profunda ador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28800" y="6324480"/>
            <a:ext cx="8001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tmos donde Juan tuvo las visiones del Apocali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_x0012_048 Montserrat.jpg                                             00022A85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013400" y="3797280"/>
            <a:ext cx="7588800" cy="88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9e0601"/>
                </a:solidFill>
                <a:latin typeface="Comic Sans MS"/>
              </a:rPr>
              <a:t>Alelu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99710"/>
                </a:solidFill>
                <a:latin typeface="Comic Sans MS"/>
              </a:rPr>
              <a:t>Cristo,el que creó todo, ha resuci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0b_00332-w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52280" y="152280"/>
            <a:ext cx="8763120" cy="6985080"/>
          </a:xfrm>
          <a:prstGeom prst="rect">
            <a:avLst/>
          </a:prstGeom>
          <a:solidFill>
            <a:srgbClr val="a8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9e0601"/>
                </a:solidFill>
                <a:latin typeface="Comic Sans MS"/>
              </a:rPr>
              <a:t>Juan 21, 1-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oco después, Jesús se apareció otra vez a sus discípulos junto al lago de Tiberíades. Estaban juntos Simón Pedro, Tomás «El Mellizo», Natanael el de Caná de Galilea, los hijos de Zebedeo y otros dos discípulos. En esto dijo Pedr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Voy a pescar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Los otros dijeron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Vamos contig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Salieron juntos y subieron a una barca; pero aquella noche no lograron pescar nada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Al clarear el día, se presentó Jesús en la orilla del lago, pero los discípulos no lo reconocieron. Jesús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Muchachos, ¿habéis pescado algo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llos contestaron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N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l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Echad la red al lado derecho de la barca y pescaréi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llos la echaron, y la red se llenó de tal cantidad de peces que no podían moverla. Entonces, el discípulo a quien Jesús tanto quería le dijo a Pedr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¡Es el Señor!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Al oír Simón Pedro que era el Señor, se ciñó un vestido, pues estaba desnudo, y se lanzó al agua. Los otros discípulos llegaron a la orilla en la barca, tirando de la red llena de peces, pues no era mucha la distancia que los separaba de tierra; tan sólo unos cien metr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Al saltar a tierra, vieron unas brasas, con peces colocados sobre ellas, y pan. Jesús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Traed ahora algunos de los peces que habéis pescad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Simón Pedro subió a la barca y sacó a tierra la red llena de peces; en total eran ciento cincuenta y tres peces grandes. Y, a pesar de ser tantos, la red no se rompió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Venid a comer.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</a:t>
            </a:r>
            <a:r>
              <a:rPr b="1" i="1" lang="es-E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...</a:t>
            </a:r>
            <a:r>
              <a:rPr b="1" i="1" lang="ca-ES" sz="1900" spc="-1" strike="noStrike">
                <a:solidFill>
                  <a:srgbClr val="000000"/>
                </a:solidFill>
                <a:latin typeface="Comic Sans MS"/>
              </a:rPr>
              <a:t> /.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bbff"/>
            </a:gs>
            <a:gs pos="100000">
              <a:srgbClr val="a8ff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0"/>
            <a:ext cx="876312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Ninguno de los discípulos se atrevió a preguntar: «¿Quién eres?», porque sabían muy bien que era el Señor. Jesús se acercó, tomó el pan en sus manos y se lo repartió; y lo mismo hizo con los pece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sta fue la tercera vez que Jesús se apareció a sus discípulos, después de haber resucitado de entre los muert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Después de comer, Jesús preguntó a Pedr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imón, hijo de Juan, ¿me amas más que ésto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edro le contestó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í, Señor, tú sabes que te am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ntonces Jesús le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Apacienta mis corder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volvió a preguntarle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imón, hijo de Juan, ¿me ama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edro respondió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í, Señor, tú sabes que te am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le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Cuida de mis oveja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or tercera vez insistió Jesús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imón, hijo de Juan, ¿me ama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edro se entristeció, porque Jesús le había preguntado por tercera vez si lo amaba, y le respondió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eñor tú lo sabes todo. Tú sabes que te am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ntonces Jesús le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Apacienta mis ovejas. Te aseguro que cuando eras más joven, tú mismo te ceñías el vestido e ibas adonde querías; mas, cuando seas viejo, extenderás los brazos y será otro quien te ceñirá y te conducirá adonde no quieras ir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dijo esto para indicar la clase de muerte con la que Pedro daría gloria a Dios. Después añadió: –Sígu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6:32:52Z</dcterms:created>
  <dc:creator>JOAN RAMIREZ</dc:creator>
  <dc:description/>
  <dc:language>en-US</dc:language>
  <cp:lastModifiedBy>Usuario</cp:lastModifiedBy>
  <dcterms:modified xsi:type="dcterms:W3CDTF">2010-04-13T14:40:22Z</dcterms:modified>
  <cp:revision>27</cp:revision>
  <dc:subject/>
  <dc:title>Presentación de PowerPoint</dc:title>
</cp:coreProperties>
</file>