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png" ContentType="image/png"/>
  <Override PartName="/ppt/media/Amor_Eterno.wav" ContentType="audio/x-wav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72400" y="6643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800" spc="-1" strike="noStrike">
                <a:solidFill>
                  <a:srgbClr val="3333cc"/>
                </a:solidFill>
                <a:latin typeface="Times New Roman"/>
              </a:rPr>
              <a:t>L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Amor_Etern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l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3 Rectángulo" descr=""/>
          <p:cNvPicPr/>
          <p:nvPr/>
        </p:nvPicPr>
        <p:blipFill>
          <a:blip r:embed="rId2"/>
          <a:stretch/>
        </p:blipFill>
        <p:spPr>
          <a:xfrm>
            <a:off x="2077920" y="2968560"/>
            <a:ext cx="5267520" cy="1109880"/>
          </a:xfrm>
          <a:prstGeom prst="rect">
            <a:avLst/>
          </a:prstGeom>
          <a:ln w="0">
            <a:noFill/>
          </a:ln>
        </p:spPr>
      </p:pic>
      <p:pic>
        <p:nvPicPr>
          <p:cNvPr id="39" name="4 Rectángulo" descr=""/>
          <p:cNvPicPr/>
          <p:nvPr/>
        </p:nvPicPr>
        <p:blipFill>
          <a:blip r:embed="rId3"/>
          <a:stretch/>
        </p:blipFill>
        <p:spPr>
          <a:xfrm>
            <a:off x="5632560" y="6254640"/>
            <a:ext cx="3627360" cy="554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Amor_Eter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hica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642960" y="606744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IMERO Y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y no significa que soy egoista...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IMERO YO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y eso es lo único que imp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2920" y="2602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nemos que revivir a esa mujer y hacer que dig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¡AQUÍ ESTOY!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odos los d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hicaciel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42920" y="182520"/>
            <a:ext cx="7031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Arial"/>
              </a:rPr>
              <a:t>Intentemos recuperar a esa mujer bella que nos hacía sentir seguras. Desterremos culpas; y si el       desayuno, el almuerzo, La merienda o la                      cena se demoran un poco porque nos                   estamos poniendo guapas, pensemos                          que ese cuidado a nosotros mismas, esa                      dedicación, ese amor, serán la medicina                     mágica que hará que nuestra                             autoestima crez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N VANO BUSCO12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143160" y="5357880"/>
            <a:ext cx="592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IMERO YO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... Mi vida es una piedra preciosa. Soy la única que puede hacer que se destaque por su brillo... O dejar que se apague para si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42960" y="15876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Si nuestra autoestima no está bien, nada está bien en nuestra vida; y por ello, dejemos que otros nos desprecien o nos desvaloric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1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6108840" y="6006960"/>
            <a:ext cx="35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0000"/>
                </a:solidFill>
                <a:latin typeface="Arial"/>
              </a:rPr>
              <a:t>Si  no se los manda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0000"/>
                </a:solidFill>
                <a:latin typeface="Arial"/>
              </a:rPr>
              <a:t>¡No pasa nad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722680" y="189000"/>
            <a:ext cx="62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Arial"/>
              </a:rPr>
              <a:t>Si tienes amigas o mujeres conocidas, mándales esta presentación para que nunca olviden que nadie las amará ni las valorará , si ellas no piensan en... </a:t>
            </a:r>
            <a:r>
              <a:rPr b="0" lang="es-CR" sz="2000" spc="-1" strike="noStrike">
                <a:solidFill>
                  <a:srgbClr val="ff0000"/>
                </a:solidFill>
                <a:latin typeface="Arial"/>
              </a:rPr>
              <a:t>¡PRIMERO Y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4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225360" y="32860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0000"/>
                </a:solidFill>
                <a:latin typeface="Arial"/>
              </a:rPr>
              <a:t>ENVÍALO TAMBIÉN A LOS  HOMBRES, PARA QUE SEPAN VALORAR EL GRAN TESORO QUE TIENEN….AL VER A SU LAD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97520" y="26028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ffcc"/>
                </a:solidFill>
                <a:latin typeface="Arial"/>
              </a:rPr>
              <a:t>PERO SI SE LO ENVÍAS  A UNA MUJER MARAVILLOSA QUE CONOZC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143760" y="114300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00"/>
                </a:solidFill>
                <a:latin typeface="Arial"/>
              </a:rPr>
              <a:t>LEVÁNTARAS SU AUTOESTIMA... Y TRANFORMARÁS SU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5922000" y="49291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¡ A UNA MUJER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428760" y="6286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guscha40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e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4101840" y="260280"/>
            <a:ext cx="35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Hoy me vi por primera vez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071800" y="1428840"/>
            <a:ext cx="642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oy me detuve en el espejo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de mi baño, y vi a una muje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mayor, sin sueños... Con la rutin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toda la vida, y me di cuenta que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me levanté 15 minutos más temprano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que nun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4572000" y="4143240"/>
            <a:ext cx="3929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Me había olvidado cuando fugazmente despertaba hace unos pocos años sonriente y me animaba  diciendo que ese día sería mejor  que el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uerme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673440" y="4890960"/>
            <a:ext cx="504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 tengo más de 45 años y me siento de 90; desesperada porque no he realizado muchas cosas, pero esas cosas ya no so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UEÑOS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de 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68160" y="590400"/>
            <a:ext cx="59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cisamente no recuerdo cuándo cambio esto. Por despertar atrasada, desesperada por el tiempo, por los pendientes,  empecé a no ir a los salones de belleza con la misma frecuencia, porque el dinero lo ocupaba  para obra buena actividad famil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agen26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500040" y="3071880"/>
            <a:ext cx="803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6600"/>
                </a:solidFill>
                <a:latin typeface="Arial"/>
              </a:rPr>
              <a:t>Estoy segura que todos saben que los amo, pero                 ¿cómo me pueden valorar si yo no me valoro a mí                misma? Por eso, a partir de hoy, seré PRIMERO                         YO, y lo quiero compartir con ust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-92088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93840" y="297000"/>
            <a:ext cx="667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ff"/>
                </a:solidFill>
                <a:latin typeface="Arial"/>
              </a:rPr>
              <a:t>Hoy me desperté 15 minutos antes de mi vieja                          rutina. Recordé que mi marido tuvo una reunión      de trabajo; se fue y ni me avisó. Hoy recordé           que mi hijo de 12 años no me obedece; el                  de 18 años dice que soy ridícula porque                     no soy hombre como él; y mi hija de 15                    años sólo me busca cuando necesita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guinoite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000080" y="4848120"/>
            <a:ext cx="4637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Levántense 15 minutos antes,</a:t>
            </a: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 mírense en el espejo y  díganse a sí mismas a quien ven. ¿Les gusta esa mujer o desean ser otra? Nunca es tarde para cambiar; tarde sería si mu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5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14240" y="115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Ese hoy fue hace dos años, y las cosas cambiaron muchísimo; pero no fue fácil. ¡por supuesto que no! Me costó levantarme temprano para cepillarme el cabello bien y arreglarme como para ir a trabajar. Renuncié a mi trabajo de 15 años (aún lo extraño) y empecé  a ir al gimnas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ENTREGA DE MUJER 12 BELLEZ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928800" y="58579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í... Tengo otro amor que me llena completamente... Y ese amor soy yo; y bueno, qué más puedo decir: soy otra porque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IMERO SOY Y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785880" y="122544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os primeros meses fueron un fracaso, pero después baje de peso; cambié mi forma de vestir y, hasta mi esposo asombrado, me invitó un día a cenar para preguntarme si nuestro matrimonio continuaba bien o tenía un amante: le dije sin vaci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HICA%20RO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785880" y="550080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ff"/>
                </a:solidFill>
                <a:latin typeface="Arial"/>
              </a:rPr>
              <a:t>Un día nos encontramos recordando a aquella mujer y sentimos que la fuimos sepultando lentamente. Presenciamos su lenta agonía... Y no hicimos nada para revivir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49360" y="115920"/>
            <a:ext cx="80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Nos pasa que de pronto un día miramos de reojo una vidriera y vemos una imagen reflejada que no es la n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85960" y="62118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098800" y="4232160"/>
            <a:ext cx="704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00"/>
                </a:solidFill>
                <a:latin typeface="Arial"/>
              </a:rPr>
              <a:t>La pareja, la familia, los hijos... El gato, el perro, el canario... La casa, las compras, el trabajo, el auto, la limpieza, las camas bien tendidas, el orden... Y allí debajo una mujer que grita: ¡Socorro! Que se mueve con amor, con sensibilidad, con vocación, pero que dejó lentamente que todo la supere; y se quedó allí, en ese lugar, viendo pasar la vida de los otros, que se olvidó de sí mi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2:14:09Z</dcterms:created>
  <dc:creator>fkeisy</dc:creator>
  <dc:description/>
  <dc:language>en-US</dc:language>
  <cp:lastModifiedBy>fkeisy</cp:lastModifiedBy>
  <dcterms:modified xsi:type="dcterms:W3CDTF">2009-04-02T12:19:35Z</dcterms:modified>
  <cp:revision>1</cp:revision>
  <dc:subject/>
  <dc:title>Diapositiva 1</dc:title>
</cp:coreProperties>
</file>