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49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2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0.jpeg" ContentType="image/jpeg"/>
  <Override PartName="/ppt/media/Ray%20Conniff%20-%20La%20Mer.wav" ContentType="audio/x-wav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Ray%20Conniff%20-%20La%20M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55640" y="981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Arial"/>
              </a:rPr>
              <a:t>Una ciudad de 195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7308720" y="5672160"/>
            <a:ext cx="1835280" cy="118584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250920" y="57340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19640" y="2205000"/>
            <a:ext cx="2298600" cy="41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5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7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1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1125360"/>
            <a:ext cx="61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ffffff"/>
                </a:solidFill>
                <a:latin typeface="Arial"/>
              </a:rPr>
              <a:t>Aquí est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ffffff"/>
                </a:solidFill>
                <a:latin typeface="Arial"/>
              </a:rPr>
              <a:t>la sorpres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08360" y="4869000"/>
            <a:ext cx="1800360" cy="100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067280" y="4149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Obse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9260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La maqueta completa                            de una ciudad hecha con automóviles y casas de los años 50’s                            realizada por un artista de nombre Randall Olson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Parece una verdadera ciu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879480" cy="1148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5950080"/>
            <a:ext cx="26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00"/>
                </a:solidFill>
                <a:latin typeface="Arial"/>
              </a:rPr>
              <a:t>Música: La Mer - Ray Conn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ffff00"/>
                </a:solidFill>
                <a:latin typeface="Arial"/>
              </a:rPr>
              <a:t>Imagens: Abuana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28940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9880" y="-2719440"/>
            <a:ext cx="1524240" cy="123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li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2:32:01Z</dcterms:created>
  <dc:creator>RodrigoRamos(RO)</dc:creator>
  <dc:description/>
  <dc:language>en-US</dc:language>
  <cp:lastModifiedBy>XXX</cp:lastModifiedBy>
  <dcterms:modified xsi:type="dcterms:W3CDTF">2010-10-01T13:30:39Z</dcterms:modified>
  <cp:revision>33</cp:revision>
  <dc:subject>mensagem com som</dc:subject>
  <dc:title>o baile da vida</dc:title>
</cp:coreProperties>
</file>