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68F-786B-4DB4-AED0-B63FBEC9AC4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4D51-25B0-4795-A359-5F584047309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4E4-BD43-411A-9394-4DA5ECBF03C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8FA7-DF26-4A99-86C0-E471E11C5E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262-E64B-4A63-B46C-B0E510391C9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E0B-E1CC-4EEA-A392-7A2348B5520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881-A445-45FC-B09F-16D8990B7CA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105-9651-43DC-B1C6-FC754375283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A59-BB17-4CCF-AD6D-C20E7C6784D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6CC-AE12-42D9-93B3-51B626C5F70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40B-1680-4B0D-A165-21C2BEA815F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731-DBD9-4146-8AC0-2AF4A72346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AD66-5954-4A28-A68E-83E8F442E66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345-E72B-4E18-970F-6B419BA1052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BF2-9023-49EF-9F1E-07853C37B77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FB4-7FE3-4720-8F71-D9BEEE6E5C3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020-B428-4D60-B8F0-4ED5ED558F7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FC5-95ED-4A2A-98C6-3E96A0BC7B9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56F-0209-4620-8B33-63737F97EA2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A190-DDD6-462C-8428-45F65BA084B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808-8A05-49F2-A750-2F2CD7122DB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7EA-D7E9-436D-AFD2-2D1AEA3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F0C-E0CA-48EE-ACF8-12574FC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208-2F77-4F7E-931E-72BE57C0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BF4-38C2-4D01-BCC1-2C7990BB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E8B-0070-4628-B336-D74189A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63C-A290-4332-AE6D-4CFAE9CA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4BC-F0E3-4053-8C5E-A6370EA0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0A5-0CD6-407A-83AB-6B33521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FD1-08C5-4942-8628-C72AC2E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664-41AF-48F6-A930-5BD857D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B1D-77DC-45B3-B923-7A5E9F57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86C-D52F-4EE4-B458-03D9BA1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DC8-B412-4BEC-8200-EB4A1AC63F6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059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NEUROPLAST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607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Hacer click para avan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792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Elkhonon Goldber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Neurólogo de la Universidad de New York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Director del Instituto de Neuropsicología y funcionamiento Cogni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Conector recto"/>
          <p:cNvSpPr/>
          <p:nvPr/>
        </p:nvSpPr>
        <p:spPr>
          <a:xfrm>
            <a:off x="1714680" y="3713040"/>
            <a:ext cx="5857560" cy="18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50007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moderno estudio de la Neuroplast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muestra que los cerebros de las personas mayores no degener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no que tienen una evolución particular, de acuerdo a la actividad realiza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convierte  a esas personas en gente “sabia” cuando llega a la vejez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6 Imagen" descr="ancianos.gif"/>
          <p:cNvPicPr/>
          <p:nvPr/>
        </p:nvPicPr>
        <p:blipFill>
          <a:blip r:embed="rId1"/>
          <a:srcRect l="0" t="0" r="0" b="7811"/>
          <a:stretch/>
        </p:blipFill>
        <p:spPr>
          <a:xfrm>
            <a:off x="1500120" y="500040"/>
            <a:ext cx="609624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creenShot086"/>
          <p:cNvPicPr/>
          <p:nvPr/>
        </p:nvPicPr>
        <p:blipFill>
          <a:blip r:embed="rId1"/>
          <a:stretch/>
        </p:blipFill>
        <p:spPr>
          <a:xfrm>
            <a:off x="1504800" y="2205000"/>
            <a:ext cx="60674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863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ef9f4"/>
                </a:solidFill>
                <a:latin typeface="Times New Roman"/>
              </a:rPr>
              <a:t>EL CEREBRO CAMBIA DE FORMA SEGÚN LAS ÁREAS QUE MÁS UTILIZ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creenShot085"/>
          <p:cNvPicPr/>
          <p:nvPr/>
        </p:nvPicPr>
        <p:blipFill>
          <a:blip r:embed="rId1"/>
          <a:srcRect l="0" t="0" r="18789" b="0"/>
          <a:stretch/>
        </p:blipFill>
        <p:spPr>
          <a:xfrm>
            <a:off x="3786120" y="709560"/>
            <a:ext cx="485784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28760" y="928800"/>
            <a:ext cx="32144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las personas, a medida que avanzan en edad,  se da naturalmente un deterioro mayor en el hemisferio derecho que en el izquier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 ocurre porque usan más el hemisferio izquierdo, que es el encargado de poner en marcha tareas ya aprendidas y consolid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5 Rectángulo"/>
          <p:cNvSpPr/>
          <p:nvPr/>
        </p:nvSpPr>
        <p:spPr>
          <a:xfrm>
            <a:off x="642960" y="492912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 aprender algo, necesitamos más el hemisferio derecho, pero cuando alcanzamos cierto nivel de pericia, esas actividades pasan a ser controladas por el hemisferio izquierd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creenShot084"/>
          <p:cNvPicPr/>
          <p:nvPr/>
        </p:nvPicPr>
        <p:blipFill>
          <a:blip r:embed="rId1"/>
          <a:stretch/>
        </p:blipFill>
        <p:spPr>
          <a:xfrm>
            <a:off x="1447920" y="2428920"/>
            <a:ext cx="6267240" cy="39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5000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A lo largo de la vida, acumulamos un repertorio de destrezas cogn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2d2f4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2d2f4"/>
                </a:solidFill>
                <a:latin typeface="Times New Roman"/>
              </a:rPr>
              <a:t>-habilidades y capacidad para reconocer patrone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que nos permiten abordar nuevas situaciones con famili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Es lo que popularmente llamamos “Experi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creenShot081"/>
          <p:cNvPicPr/>
          <p:nvPr/>
        </p:nvPicPr>
        <p:blipFill>
          <a:blip r:embed="rId1"/>
          <a:stretch/>
        </p:blipFill>
        <p:spPr>
          <a:xfrm>
            <a:off x="285840" y="500040"/>
            <a:ext cx="85662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28760" y="961920"/>
            <a:ext cx="521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medida que avanzamos en e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uestra actividad mental está más dom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esas “rutinas cognitivas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el “piloto automátic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ScreenShot080"/>
          <p:cNvPicPr/>
          <p:nvPr/>
        </p:nvPicPr>
        <p:blipFill>
          <a:blip r:embed="rId1"/>
          <a:stretch/>
        </p:blipFill>
        <p:spPr>
          <a:xfrm>
            <a:off x="324000" y="1566720"/>
            <a:ext cx="589572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429240" y="1571760"/>
            <a:ext cx="235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 no es malo, pues permite resolver problemas complejos mediante el “reconocimiento instantáneo” de patrones, sin mucho esfuerzo, problemas que pueden plantear un verdadero “reto” para una mente más jo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creenShot079"/>
          <p:cNvPicPr/>
          <p:nvPr/>
        </p:nvPicPr>
        <p:blipFill>
          <a:blip r:embed="rId1"/>
          <a:stretch/>
        </p:blipFill>
        <p:spPr>
          <a:xfrm>
            <a:off x="2205000" y="2421000"/>
            <a:ext cx="6296040" cy="375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57120" y="82548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Pero, la estimulación cognitiva, que obliga a utilizar el hemisferio der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es un ingrediente en el estilo de vida, que ayuda a evitar el deterioro cogni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creenShot076"/>
          <p:cNvPicPr/>
          <p:nvPr/>
        </p:nvPicPr>
        <p:blipFill>
          <a:blip r:embed="rId1"/>
          <a:stretch/>
        </p:blipFill>
        <p:spPr>
          <a:xfrm>
            <a:off x="1785960" y="685800"/>
            <a:ext cx="557208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4714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La corriente científica dominante respalda la afi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de que la vida mental intensa desempeña un papel 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en el bienestar cognitivo en las etapas avanzadas de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creenShot069"/>
          <p:cNvPicPr/>
          <p:nvPr/>
        </p:nvPicPr>
        <p:blipFill>
          <a:blip r:embed="rId1"/>
          <a:stretch/>
        </p:blipFill>
        <p:spPr>
          <a:xfrm>
            <a:off x="981000" y="2119320"/>
            <a:ext cx="7162920" cy="3666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934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Qé tal la idea de incluir el ejercicio cognitivo en form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como un rasgo en nuestro esrtilo de vid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creenShot072"/>
          <p:cNvPicPr/>
          <p:nvPr/>
        </p:nvPicPr>
        <p:blipFill>
          <a:blip r:embed="rId1"/>
          <a:stretch/>
        </p:blipFill>
        <p:spPr>
          <a:xfrm>
            <a:off x="1752480" y="2405160"/>
            <a:ext cx="56772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627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ría extraordinario si nuestra incipiente compr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 función de la neuroplasticidad en la conservación de la salud ment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era lugar a la aparición de un nuevo fenómeno de ma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Rectángulo"/>
          <p:cNvSpPr/>
          <p:nvPr/>
        </p:nvSpPr>
        <p:spPr>
          <a:xfrm>
            <a:off x="0" y="1743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FITNESS MENTAL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2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8083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Las últimas investigacines 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demuestran que la actividad mental modifica el cere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y nos conduce a lo que conocemos como “Sabidurí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Estos últimos descubrimientos se inscriben en lo que se den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NEUROPLAST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571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Sabías que el cerebro mejora con la e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CuadroTexto"/>
          <p:cNvSpPr/>
          <p:nvPr/>
        </p:nvSpPr>
        <p:spPr>
          <a:xfrm>
            <a:off x="0" y="3143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2d050"/>
                </a:solidFill>
                <a:latin typeface="Times New Roman"/>
              </a:rPr>
              <a:t>F  I 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5 CuadroTexto"/>
          <p:cNvSpPr/>
          <p:nvPr/>
        </p:nvSpPr>
        <p:spPr>
          <a:xfrm>
            <a:off x="0" y="564984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Creación original de autor anóni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Reedición de formato cortesía de Carlos Ran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Santiago de Querétaro, Mex. Abr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0" y="5357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ccff"/>
                </a:solidFill>
                <a:latin typeface="Times New Roman"/>
              </a:rPr>
              <a:t>Música: Amazing Grace - Mont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creenShot091"/>
          <p:cNvPicPr/>
          <p:nvPr/>
        </p:nvPicPr>
        <p:blipFill>
          <a:blip r:embed="rId1"/>
          <a:stretch/>
        </p:blipFill>
        <p:spPr>
          <a:xfrm>
            <a:off x="1000080" y="428760"/>
            <a:ext cx="714384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0" y="4000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urante muchos años se creyó que a partir de cierta e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dotación de neuronas ya no se renovaba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últimas investigaciones de la neurociencia demue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el cerebro se puede regenerar mediante su uso y potenci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lave para lograrlo se lla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EUROPLASTIC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es moldear la mente, el cerebro, a través de la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00040" y="2000160"/>
            <a:ext cx="2927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n marzo de 2000, investigadores de la Universidad de Londres, encontraron que los taxistas de esa ciudad, tenían una parte del cerebro, el Hipocampo -región importante para la memoria espacial-, particularmente desarrollada, mucho más que el resto de las perso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proyectosalonhogar.com/CuerpoHumano/Cerebro/hipocampo.jpg"/>
          <p:cNvPicPr/>
          <p:nvPr/>
        </p:nvPicPr>
        <p:blipFill>
          <a:blip r:embed="rId1"/>
          <a:stretch/>
        </p:blipFill>
        <p:spPr>
          <a:xfrm>
            <a:off x="3714840" y="2000160"/>
            <a:ext cx="4724280" cy="41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714840" y="627120"/>
            <a:ext cx="47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l cerebro cambia de for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egún las áreas que más utiliza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egún la actividad 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456264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taxistas desarrollaban más esa zona porque la ejercitaban má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morizando cada día calles y ru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stos hombres y muje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capacidad para memorizar calles y rutas no mengua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no que aumentaba con los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www.nyrealestatelawblog.com/j0401481.jpg"/>
          <p:cNvPicPr/>
          <p:nvPr/>
        </p:nvPicPr>
        <p:blipFill>
          <a:blip r:embed="rId1"/>
          <a:stretch/>
        </p:blipFill>
        <p:spPr>
          <a:xfrm>
            <a:off x="1500120" y="317520"/>
            <a:ext cx="6143760" cy="409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57120" y="776160"/>
            <a:ext cx="36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n 2002 científicos Alemanes encontraron los mismos hallazgos en la Circunvolución de Heschl de los músicos, área de la corteza cerebral importante para procesar la música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C:\Documents and Settings\Francisco\Desktop\Orquesta 09.jpg"/>
          <p:cNvPicPr/>
          <p:nvPr/>
        </p:nvPicPr>
        <p:blipFill>
          <a:blip r:embed="rId1"/>
          <a:stretch/>
        </p:blipFill>
        <p:spPr>
          <a:xfrm>
            <a:off x="4138560" y="285840"/>
            <a:ext cx="4648320" cy="3071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937040" y="3897360"/>
            <a:ext cx="36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Y en el 2004 los mismos resultados tuvo el Instituto de Neurología de Londres, en la circunvolución angular izquierda, estructura cerebral importante para el lenguaje, en el cerebro de las personas bilingües …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hispacpge.com/IMG/jpg/dicos_Larousse.jpg"/>
          <p:cNvPicPr/>
          <p:nvPr/>
        </p:nvPicPr>
        <p:blipFill>
          <a:blip r:embed="rId2"/>
          <a:stretch/>
        </p:blipFill>
        <p:spPr>
          <a:xfrm>
            <a:off x="357120" y="3357720"/>
            <a:ext cx="442440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creenShot089"/>
          <p:cNvPicPr/>
          <p:nvPr/>
        </p:nvPicPr>
        <p:blipFill>
          <a:blip r:embed="rId1"/>
          <a:stretch/>
        </p:blipFill>
        <p:spPr>
          <a:xfrm>
            <a:off x="762120" y="2022480"/>
            <a:ext cx="3666960" cy="392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6680" y="1906560"/>
            <a:ext cx="3996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seres humanos podemos crear nuevas neuronas a lo largo de toda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esfuerzo para crear nuevas neuronas puede incrementarse mediante el esfuerzo 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efectos son específicos: Dependiendo de la naturaleza de la actividad mental, las neuronas nuevas se multiplican con especial intensidad en distintas zonas cereb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1143000" y="906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ESTAS EXPERIENCIAS SE PUDIERON OBTENER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3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creenShot105"/>
          <p:cNvPicPr/>
          <p:nvPr/>
        </p:nvPicPr>
        <p:blipFill>
          <a:blip r:embed="rId1"/>
          <a:stretch/>
        </p:blipFill>
        <p:spPr>
          <a:xfrm>
            <a:off x="4071960" y="331920"/>
            <a:ext cx="4721040" cy="6168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42960" y="1000080"/>
            <a:ext cx="30002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Las nuevas neuronas van a parar a las zonas del cerebro que más usam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Esto es lo que se denomina “Neuroplasticidad”: La actividad puede moldear la 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“</a:t>
            </a: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Esto demuestra la importancia de mantener una actividad mental intensa, conforme avanzamos en eda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75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creenShot088"/>
          <p:cNvPicPr/>
          <p:nvPr/>
        </p:nvPicPr>
        <p:blipFill>
          <a:blip r:embed="rId1"/>
          <a:stretch/>
        </p:blipFill>
        <p:spPr>
          <a:xfrm>
            <a:off x="428760" y="2357280"/>
            <a:ext cx="8304120" cy="4079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0" y="5446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l ejercicio físico nos protege nuestra salud cardiovascul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l ejercicio cognitivo nos protege nuestra salud cerebr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s factor de protección contra la demencia y la seni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Carlos Rangel</dc:creator>
  <dc:description/>
  <dc:language>en-US</dc:language>
  <cp:lastModifiedBy>Carlos Rangel</cp:lastModifiedBy>
  <dcterms:modified xsi:type="dcterms:W3CDTF">2008-07-01T18:00:22Z</dcterms:modified>
  <cp:revision>58</cp:revision>
  <dc:subject/>
  <dc:title>2005 NBC Photo's</dc:title>
</cp:coreProperties>
</file>