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AmazingGrace_Mantovani.wav" ContentType="audio/x-wav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1DE9-CC6E-4ED2-9802-41DD817909C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993A-6922-4114-ABA1-A9BD82E01C4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C2D7-1BBC-4089-9A18-202D3B44AA7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48FA-4C36-40BB-869D-5D3D9AA92E4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148B-D928-4350-B647-8D7059E4992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6875-E97C-421F-B030-F1F2808816F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8521-3451-4FE1-8E15-26C75DD0109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5382-4142-4D68-9763-44FDDC0BBEC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8DF9-61D5-42F4-8245-804686D1777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3D7E-4955-44F6-A7F3-F06B479239D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C3F5-69AA-4C9F-A46C-0913FCBE714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6F40-91FF-44B2-AEF2-DDDA22A5694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D6E5-7D07-40A1-828A-7C3EE03D139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39B1-269C-4277-8080-6801A15B938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C9DF-5FF9-4B74-9EFA-9B90DCC4BAF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1DBA-0D99-49E7-A461-5CF8728353B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3594-AC2C-4667-A983-2DCFCCABBCC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7D3A-ED80-475E-B3EE-35FFF082FD3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35E2-6858-4DE8-B3B3-066A185EF57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E5EC-47BE-43F5-B9FA-4F4B29BE952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D410-D203-4988-9B5F-716513B6C61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10E-9498-486D-9732-3C123D1C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32F-58BC-4AEE-A00E-F3DD288B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30C-B60E-4739-8C6D-B276166E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AF6C-B63C-453D-B6D8-0279FA3B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CBE-DD65-4584-B9B7-321E39EC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D547-79C6-418E-9210-9D094D2A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5E8-8718-485A-A27F-D2AC2CB8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17AB-BA14-44E1-BF37-AB5C21C7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37F9-5B49-4CA6-A6D7-E5A34B84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F5C9-50C2-44E6-A19E-C20A7EE3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55F-7DBA-4197-9E33-4BF133B8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192-9B73-4D85-9025-77022CAF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E42B-5541-423A-A753-EF872FD27818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mazingGrace_Mantovani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3059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Times New Roman"/>
              </a:rPr>
              <a:t>NEUROPLASTIC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60721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ddd"/>
                </a:solidFill>
                <a:latin typeface="Times New Roman"/>
              </a:rPr>
              <a:t>Hacer click para avanz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3792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6d6f5"/>
                </a:solidFill>
                <a:latin typeface="Times New Roman"/>
                <a:ea typeface="Times New Roman"/>
              </a:rPr>
              <a:t>Elkhonon Goldber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d6d6f5"/>
                </a:solidFill>
                <a:latin typeface="Times New Roman"/>
                <a:ea typeface="Times New Roman"/>
              </a:rPr>
              <a:t>Neurólogo de la Universidad de New York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d6d6f5"/>
                </a:solidFill>
                <a:latin typeface="Times New Roman"/>
                <a:ea typeface="Times New Roman"/>
              </a:rPr>
              <a:t>Director del Instituto de Neuropsicología y funcionamiento Cognitiv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7 Conector recto"/>
          <p:cNvSpPr/>
          <p:nvPr/>
        </p:nvSpPr>
        <p:spPr>
          <a:xfrm>
            <a:off x="1714680" y="3713040"/>
            <a:ext cx="5857560" cy="180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  <p:sndAc>
      <p:stSnd>
        <p:snd r:embed="rId1" name="AmazingGrace_Mantovan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4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0" y="50007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moderno estudio de la Neuroplast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muestra que los cerebros de las personas mayores no degenera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no que tienen una evolución particular, de acuerdo a la actividad realizad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e convierte  a esas personas en gente “sabia” cuando llega a la vejez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6 Imagen" descr="ancianos.gif"/>
          <p:cNvPicPr/>
          <p:nvPr/>
        </p:nvPicPr>
        <p:blipFill>
          <a:blip r:embed="rId1"/>
          <a:srcRect l="0" t="0" r="0" b="7811"/>
          <a:stretch/>
        </p:blipFill>
        <p:spPr>
          <a:xfrm>
            <a:off x="1500120" y="500040"/>
            <a:ext cx="609624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f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ScreenShot086"/>
          <p:cNvPicPr/>
          <p:nvPr/>
        </p:nvPicPr>
        <p:blipFill>
          <a:blip r:embed="rId1"/>
          <a:stretch/>
        </p:blipFill>
        <p:spPr>
          <a:xfrm>
            <a:off x="1504800" y="2205000"/>
            <a:ext cx="6067440" cy="3905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0" y="863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ef9f4"/>
                </a:solidFill>
                <a:latin typeface="Times New Roman"/>
              </a:rPr>
              <a:t>EL CEREBRO CAMBIA DE FORMA SEGÚN LAS ÁREAS QUE MÁS UTILIZ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creenShot085"/>
          <p:cNvPicPr/>
          <p:nvPr/>
        </p:nvPicPr>
        <p:blipFill>
          <a:blip r:embed="rId1"/>
          <a:srcRect l="0" t="0" r="18789" b="0"/>
          <a:stretch/>
        </p:blipFill>
        <p:spPr>
          <a:xfrm>
            <a:off x="3786120" y="709560"/>
            <a:ext cx="4857840" cy="3933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428760" y="928800"/>
            <a:ext cx="321444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las personas, a medida que avanzan en edad,  se da naturalmente un deterioro mayor en el hemisferio derecho que en el izquier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o ocurre porque usan más el hemisferio izquierdo, que es el encargado de poner en marcha tareas ya aprendidas y consolid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5 Rectángulo"/>
          <p:cNvSpPr/>
          <p:nvPr/>
        </p:nvSpPr>
        <p:spPr>
          <a:xfrm>
            <a:off x="642960" y="492912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ara aprender algo, necesitamos más el hemisferio derecho, pero cuando alcanzamos cierto nivel de pericia, esas actividades pasan a ser controladas por el hemisferio izquierdo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ScreenShot084"/>
          <p:cNvPicPr/>
          <p:nvPr/>
        </p:nvPicPr>
        <p:blipFill>
          <a:blip r:embed="rId1"/>
          <a:stretch/>
        </p:blipFill>
        <p:spPr>
          <a:xfrm>
            <a:off x="1447920" y="2428920"/>
            <a:ext cx="6267240" cy="392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0" y="50004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2d2f4"/>
                </a:solidFill>
                <a:latin typeface="Times New Roman"/>
              </a:rPr>
              <a:t>A lo largo de la vida, acumulamos un repertorio de destrezas cogn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d2d2f4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d2d2f4"/>
                </a:solidFill>
                <a:latin typeface="Times New Roman"/>
              </a:rPr>
              <a:t>-habilidades y capacidad para reconocer patrone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2d2f4"/>
                </a:solidFill>
                <a:latin typeface="Times New Roman"/>
              </a:rPr>
              <a:t>que nos permiten abordar nuevas situaciones con familiar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2d2f4"/>
                </a:solidFill>
                <a:latin typeface="Times New Roman"/>
              </a:rPr>
              <a:t>Es lo que popularmente llamamos “Experienc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55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2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ScreenShot081"/>
          <p:cNvPicPr/>
          <p:nvPr/>
        </p:nvPicPr>
        <p:blipFill>
          <a:blip r:embed="rId1"/>
          <a:stretch/>
        </p:blipFill>
        <p:spPr>
          <a:xfrm>
            <a:off x="285840" y="500040"/>
            <a:ext cx="8566200" cy="5715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428760" y="961920"/>
            <a:ext cx="521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medida que avanzamos en e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uestra actividad mental está más domi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 esas “rutinas cognitivas”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 el “piloto automático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ScreenShot080"/>
          <p:cNvPicPr/>
          <p:nvPr/>
        </p:nvPicPr>
        <p:blipFill>
          <a:blip r:embed="rId1"/>
          <a:stretch/>
        </p:blipFill>
        <p:spPr>
          <a:xfrm>
            <a:off x="324000" y="1566720"/>
            <a:ext cx="5895720" cy="3934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6429240" y="1571760"/>
            <a:ext cx="2357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o no es malo, pues permite resolver problemas complejos mediante el “reconocimiento instantáneo” de patrones, sin mucho esfuerzo, problemas que pueden plantear un verdadero “reto” para una mente más jov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ScreenShot079"/>
          <p:cNvPicPr/>
          <p:nvPr/>
        </p:nvPicPr>
        <p:blipFill>
          <a:blip r:embed="rId1"/>
          <a:stretch/>
        </p:blipFill>
        <p:spPr>
          <a:xfrm>
            <a:off x="2205000" y="2421000"/>
            <a:ext cx="6296040" cy="3752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57120" y="825480"/>
            <a:ext cx="828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Pero, la estimulación cognitiva, que obliga a utilizar el hemisferio derech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es un ingrediente en el estilo de vida, que ayuda a evitar el deterioro cogni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creenShot076"/>
          <p:cNvPicPr/>
          <p:nvPr/>
        </p:nvPicPr>
        <p:blipFill>
          <a:blip r:embed="rId1"/>
          <a:stretch/>
        </p:blipFill>
        <p:spPr>
          <a:xfrm>
            <a:off x="1785960" y="685800"/>
            <a:ext cx="5572080" cy="3743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0" y="47149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2d2f4"/>
                </a:solidFill>
                <a:latin typeface="Times New Roman"/>
              </a:rPr>
              <a:t>La corriente científica dominante respalda la afi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2d2f4"/>
                </a:solidFill>
                <a:latin typeface="Times New Roman"/>
              </a:rPr>
              <a:t>de que la vida mental intensa desempeña un papel es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2d2f4"/>
                </a:solidFill>
                <a:latin typeface="Times New Roman"/>
              </a:rPr>
              <a:t>en el bienestar cognitivo en las etapas avanzadas de l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creenShot069"/>
          <p:cNvPicPr/>
          <p:nvPr/>
        </p:nvPicPr>
        <p:blipFill>
          <a:blip r:embed="rId1"/>
          <a:stretch/>
        </p:blipFill>
        <p:spPr>
          <a:xfrm>
            <a:off x="981000" y="2119320"/>
            <a:ext cx="7162920" cy="36669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0" y="9349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Times New Roman"/>
              </a:rPr>
              <a:t>Qé tal la idea de incluir el ejercicio cognitivo en forma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Times New Roman"/>
              </a:rPr>
              <a:t>como un rasgo en nuestro esrtilo de vid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ScreenShot072"/>
          <p:cNvPicPr/>
          <p:nvPr/>
        </p:nvPicPr>
        <p:blipFill>
          <a:blip r:embed="rId1"/>
          <a:stretch/>
        </p:blipFill>
        <p:spPr>
          <a:xfrm>
            <a:off x="1752480" y="2405160"/>
            <a:ext cx="5677200" cy="3952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0" y="6271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ría extraordinario si nuestra incipiente compren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a función de la neuroplasticidad en la conservación de la salud ment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era lugar a la aparición de un nuevo fenómeno de ma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5 Rectángulo"/>
          <p:cNvSpPr/>
          <p:nvPr/>
        </p:nvSpPr>
        <p:spPr>
          <a:xfrm>
            <a:off x="0" y="1743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FITNESS MENTAL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2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2808360"/>
            <a:ext cx="91440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d6f5"/>
                </a:solidFill>
                <a:latin typeface="Times New Roman"/>
                <a:ea typeface="Times New Roman"/>
              </a:rPr>
              <a:t>Las últimas investigacines cientí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d6f5"/>
                </a:solidFill>
                <a:latin typeface="Times New Roman"/>
                <a:ea typeface="Times New Roman"/>
              </a:rPr>
              <a:t>demuestran que la actividad mental modifica el cere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d6f5"/>
                </a:solidFill>
                <a:latin typeface="Times New Roman"/>
                <a:ea typeface="Times New Roman"/>
              </a:rPr>
              <a:t>y nos conduce a lo que conocemos como “Sabidurí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d6f5"/>
                </a:solidFill>
                <a:latin typeface="Times New Roman"/>
                <a:ea typeface="Times New Roman"/>
              </a:rPr>
              <a:t>Estos últimos descubrimientos se inscriben en lo que se deno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d6f5"/>
                </a:solidFill>
                <a:latin typeface="Times New Roman"/>
                <a:ea typeface="Times New Roman"/>
              </a:rPr>
              <a:t>NEUROPLAST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1571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d6f5"/>
                </a:solidFill>
                <a:latin typeface="Times New Roman"/>
                <a:ea typeface="Times New Roman"/>
              </a:rPr>
              <a:t>Sabías que el cerebro mejora con la eda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4 CuadroTexto"/>
          <p:cNvSpPr/>
          <p:nvPr/>
        </p:nvSpPr>
        <p:spPr>
          <a:xfrm>
            <a:off x="0" y="3143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92d050"/>
                </a:solidFill>
                <a:latin typeface="Times New Roman"/>
              </a:rPr>
              <a:t>F  I 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5 CuadroTexto"/>
          <p:cNvSpPr/>
          <p:nvPr/>
        </p:nvSpPr>
        <p:spPr>
          <a:xfrm>
            <a:off x="0" y="564984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3274d"/>
                </a:solidFill>
                <a:latin typeface="Times New Roman"/>
              </a:rPr>
              <a:t>Creación original de autor anóni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3274d"/>
                </a:solidFill>
                <a:latin typeface="Times New Roman"/>
              </a:rPr>
              <a:t>Reedición de formato cortesía de Carlos Rang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3274d"/>
                </a:solidFill>
                <a:latin typeface="Times New Roman"/>
              </a:rPr>
              <a:t>Santiago de Querétaro, Mex. Abr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3274d"/>
                </a:solidFill>
                <a:latin typeface="Times New Roman"/>
              </a:rPr>
              <a:t>carlitosrangel@hotmail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3 CuadroTexto"/>
          <p:cNvSpPr/>
          <p:nvPr/>
        </p:nvSpPr>
        <p:spPr>
          <a:xfrm>
            <a:off x="0" y="53578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99ccff"/>
                </a:solidFill>
                <a:latin typeface="Times New Roman"/>
              </a:rPr>
              <a:t>Música: Amazing Grace - Montov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creenShot091"/>
          <p:cNvPicPr/>
          <p:nvPr/>
        </p:nvPicPr>
        <p:blipFill>
          <a:blip r:embed="rId1"/>
          <a:stretch/>
        </p:blipFill>
        <p:spPr>
          <a:xfrm>
            <a:off x="1000080" y="428760"/>
            <a:ext cx="7143840" cy="3352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0" y="40006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urante muchos años se creyó que a partir de cierta ed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dotación de neuronas ya no se renovaba 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últimas investigaciones de la neurociencia demuest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el cerebro se puede regenerar mediante su uso y potenci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clave para lograrlo se lla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EUROPLASTICIDA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es moldear la mente, el cerebro, a través de la activ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500040" y="2000160"/>
            <a:ext cx="2927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n marzo de 2000, investigadores de la Universidad de Londres, encontraron que los taxistas de esa ciudad, tenían una parte del cerebro, el Hipocampo -región importante para la memoria espacial-, particularmente desarrollada, mucho más que el resto de las person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http://www.proyectosalonhogar.com/CuerpoHumano/Cerebro/hipocampo.jpg"/>
          <p:cNvPicPr/>
          <p:nvPr/>
        </p:nvPicPr>
        <p:blipFill>
          <a:blip r:embed="rId1"/>
          <a:stretch/>
        </p:blipFill>
        <p:spPr>
          <a:xfrm>
            <a:off x="3714840" y="2000160"/>
            <a:ext cx="4724280" cy="4143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714840" y="627120"/>
            <a:ext cx="471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l cerebro cambia de form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según las áreas que más utilizam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según la actividad 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4562640"/>
            <a:ext cx="849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taxistas desarrollaban más esa zona porque la ejercitaban má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emorizando cada día calles y ru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estos hombres y mujer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capacidad para memorizar calles y rutas no menguab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no que aumentaba con los añ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http://www.nyrealestatelawblog.com/j0401481.jpg"/>
          <p:cNvPicPr/>
          <p:nvPr/>
        </p:nvPicPr>
        <p:blipFill>
          <a:blip r:embed="rId1"/>
          <a:stretch/>
        </p:blipFill>
        <p:spPr>
          <a:xfrm>
            <a:off x="1500120" y="317520"/>
            <a:ext cx="6143760" cy="409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357120" y="776160"/>
            <a:ext cx="3635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n 2002 científicos Alemanes encontraron los mismos hallazgos en la Circunvolución de Heschl de los músicos, área de la corteza cerebral importante para procesar la música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C:\Documents and Settings\Francisco\Desktop\Orquesta 09.jpg"/>
          <p:cNvPicPr/>
          <p:nvPr/>
        </p:nvPicPr>
        <p:blipFill>
          <a:blip r:embed="rId1"/>
          <a:stretch/>
        </p:blipFill>
        <p:spPr>
          <a:xfrm>
            <a:off x="4138560" y="285840"/>
            <a:ext cx="4648320" cy="30718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4937040" y="3897360"/>
            <a:ext cx="363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Y en el 2004 los mismos resultados tuvo el Instituto de Neurología de Londres, en la circunvolución angular izquierda, estructura cerebral importante para el lenguaje, en el cerebro de las personas bilingües …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http://hispacpge.com/IMG/jpg/dicos_Larousse.jpg"/>
          <p:cNvPicPr/>
          <p:nvPr/>
        </p:nvPicPr>
        <p:blipFill>
          <a:blip r:embed="rId2"/>
          <a:stretch/>
        </p:blipFill>
        <p:spPr>
          <a:xfrm>
            <a:off x="357120" y="3357720"/>
            <a:ext cx="4424400" cy="3214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ScreenShot089"/>
          <p:cNvPicPr/>
          <p:nvPr/>
        </p:nvPicPr>
        <p:blipFill>
          <a:blip r:embed="rId1"/>
          <a:stretch/>
        </p:blipFill>
        <p:spPr>
          <a:xfrm>
            <a:off x="762120" y="2022480"/>
            <a:ext cx="3666960" cy="3924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4576680" y="1906560"/>
            <a:ext cx="39960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seres humanos podemos crear nuevas neuronas a lo largo de toda l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esfuerzo para crear nuevas neuronas puede incrementarse mediante el esfuerzo men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efectos son específicos: Dependiendo de la naturaleza de la actividad mental, las neuronas nuevas se multiplican con especial intensidad en distintas zonas cereb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5 Rectángulo"/>
          <p:cNvSpPr/>
          <p:nvPr/>
        </p:nvSpPr>
        <p:spPr>
          <a:xfrm>
            <a:off x="1143000" y="9064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ESTAS EXPERIENCIAS SE PUDIERON OBTENER LOS SIGUIENTES RESUL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2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3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ScreenShot105"/>
          <p:cNvPicPr/>
          <p:nvPr/>
        </p:nvPicPr>
        <p:blipFill>
          <a:blip r:embed="rId1"/>
          <a:stretch/>
        </p:blipFill>
        <p:spPr>
          <a:xfrm>
            <a:off x="4071960" y="331920"/>
            <a:ext cx="4721040" cy="6168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642960" y="1000080"/>
            <a:ext cx="300024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d6f5"/>
                </a:solidFill>
                <a:latin typeface="Times New Roman"/>
              </a:rPr>
              <a:t>Las nuevas neuronas van a parar a las zonas del cerebro que más usam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d6f5"/>
                </a:solidFill>
                <a:latin typeface="Times New Roman"/>
              </a:rPr>
              <a:t>Esto es lo que se denomina “Neuroplasticidad”: La actividad puede moldear la 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d6f5"/>
                </a:solidFill>
                <a:latin typeface="Times New Roman"/>
              </a:rPr>
              <a:t>“</a:t>
            </a:r>
            <a:r>
              <a:rPr b="0" lang="es-ES_tradnl" sz="2000" spc="-1" strike="noStrike">
                <a:solidFill>
                  <a:srgbClr val="d6d6f5"/>
                </a:solidFill>
                <a:latin typeface="Times New Roman"/>
              </a:rPr>
              <a:t>Esto demuestra la importancia de mantener una actividad mental intensa, conforme avanzamos en edad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2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75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ScreenShot088"/>
          <p:cNvPicPr/>
          <p:nvPr/>
        </p:nvPicPr>
        <p:blipFill>
          <a:blip r:embed="rId1"/>
          <a:stretch/>
        </p:blipFill>
        <p:spPr>
          <a:xfrm>
            <a:off x="428760" y="2357280"/>
            <a:ext cx="8304120" cy="40798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0" y="5446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El ejercicio físico nos protege nuestra salud cardiovascula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el ejercicio cognitivo nos protege nuestra salud cerebr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es factor de protección contra la demencia y la senili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0:21:49Z</dcterms:created>
  <dc:creator>Carlos Rangel</dc:creator>
  <dc:description/>
  <dc:language>en-US</dc:language>
  <cp:lastModifiedBy>Carlos Rangel</cp:lastModifiedBy>
  <dcterms:modified xsi:type="dcterms:W3CDTF">2008-07-01T18:00:22Z</dcterms:modified>
  <cp:revision>58</cp:revision>
  <dc:subject/>
  <dc:title>2005 NBC Photo's</dc:title>
</cp:coreProperties>
</file>