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B8A-E242-47AA-A502-A3931FC4A5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11A-B52C-4006-A9BB-B18ED7C5DD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38CF-388A-4F38-BEEE-827FBA2D9D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994-636E-4F92-A589-57F6C28A4A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0AC-FB9C-4043-BA20-E0513AD6FB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435-ACF9-4039-9FFA-6667D8E83D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995-DA71-4B90-A526-553E4D57BC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693F-6DCA-4A27-95B4-5160755757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6F9A-13C2-4856-BD3A-E0F289D6A9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704-D1B5-4E43-A3CF-0181C19B83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715-F551-4F51-87B5-749EB92F73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352-2003-4497-A1A3-8475409818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0C81-8F70-470B-BB1F-20C88745B5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4D0-7147-4FEC-90E9-77E805B31A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250-AF57-4339-AD60-10A00846DD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49E-34F5-43DB-9FBB-780F36D326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7A05-EA67-470A-9B8D-C13F774AD4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F88E-D530-4F5E-AFFB-A7E4B4D820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DE3A-1AE1-4410-8924-413D3459F0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B2ED-37BD-4DC9-A75E-B3557DCC38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4E2C-EA43-48ED-8E07-D67D8FB325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8DF4-6655-4D3C-8D26-469B8AD091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3310-AC96-4ECB-9CCB-C55A7A7672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B34F-5769-4D62-82EC-FEDD525621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7ED-66D8-4A66-BE66-A6C992DF33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D8C5-9638-46EB-A848-214B5EBA40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7D51-7DF2-4FF9-A27A-DE2134BA68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C0A5-5073-43A9-91AE-3036247412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557-4536-41A1-87AF-9F134D2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7AC-BDEF-41E6-9F30-52C3AF3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CEA-2EC7-4D7C-B183-049A64A2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92D-1A67-4E75-B73F-114750CA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A1C-3AF8-462D-88D7-FCA1461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B5B-5BD8-47B6-A49C-244C7FC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0C1-FFDA-4E02-9D6C-9725A993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EAE-60A1-4C6A-BB61-B56EFFE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3D8-6CCB-47F4-BAE1-78E3CA6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FC6-AC98-4243-8734-508DB7DB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433-5A0F-43D5-937A-73593575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375-3AEB-4FA5-AEF9-B45D8FA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ondopps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7E95-DB5F-43FF-BA38-7B365EF609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mondo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6453360"/>
            <a:ext cx="104796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non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non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hyperlink" Target="file:///tmp/home/.config/libreoffice/4/user/gallery/bravo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bravo.wav" TargetMode="External"/><Relationship Id="rId3" Type="http://schemas.openxmlformats.org/officeDocument/2006/relationships/hyperlink" Target="file:///tmp/home/.config/libreoffice/4/user/gallery/non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512320" y="4603680"/>
            <a:ext cx="24987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aga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clik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respuesta correc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>
            <a:hlinkClick r:id="" action="ppaction://hlinkshowjump?jump=nextslide"/>
          </p:cNvPr>
          <p:cNvSpPr/>
          <p:nvPr/>
        </p:nvSpPr>
        <p:spPr>
          <a:xfrm>
            <a:off x="6554520" y="5902200"/>
            <a:ext cx="13831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ini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42960" y="214200"/>
            <a:ext cx="5429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latin typeface="comic"/>
              </a:rPr>
              <a:t>PIENSO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99"/>
              </a:solidFill>
              <a:latin typeface="comic"/>
              <a:ea typeface="com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99"/>
                </a:solidFill>
                <a:latin typeface="comic"/>
              </a:rPr>
              <a:t>Luego…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ffff99"/>
              </a:solidFill>
              <a:latin typeface="comic"/>
              <a:ea typeface="com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067280" y="171720"/>
            <a:ext cx="4752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 hay 3 manzanas y tomas  2, ¿cuántas tien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459684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277848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639720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778200" y="409680"/>
            <a:ext cx="3137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s 2 que tom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 habrás olvidado espe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50920" y="890640"/>
            <a:ext cx="835344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médico te da tres comprimidos para tomar cada media h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Cuánto tiempo dura el tratamiento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1753560" y="6313320"/>
            <a:ext cx="14076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dia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6200280" y="6313320"/>
            <a:ext cx="17809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hora y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4268520" y="6313320"/>
            <a:ext cx="8740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90360" y="2781360"/>
            <a:ext cx="1567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m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84400" y="2786040"/>
            <a:ext cx="1488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m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908400" y="2786040"/>
            <a:ext cx="14882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m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423160" y="2781360"/>
            <a:ext cx="1460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---1/2 ora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18280" y="2781360"/>
            <a:ext cx="1593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--- 1/2 ora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819080" y="3665520"/>
            <a:ext cx="5695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|-------------------------- 1 hora en total ------------------------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48360" y="386640"/>
            <a:ext cx="75265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pastor tie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7 ovejas, todas excepto 9 mueren. ¿Cuánta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430956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659916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193320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692360" y="480960"/>
            <a:ext cx="50101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dan aquellas que no murieron, esto es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426200"/>
            <a:ext cx="84247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un cuarto hay 4 ángulos. En cada ángulo hay 1 gato. Delante de cada gato  hay 3 gatos. ¿Cuántos gatos en total hay en el cuar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7117920" y="6242040"/>
            <a:ext cx="3117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4222800" y="6242040"/>
            <a:ext cx="442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>
            <a:hlinkClick r:id="" action="ppaction://hlinkshowjump?jump=nextslide"/>
            <a:hlinkClick r:id="rId4"/>
          </p:cNvPr>
          <p:cNvSpPr/>
          <p:nvPr/>
        </p:nvSpPr>
        <p:spPr>
          <a:xfrm>
            <a:off x="1343160" y="6242040"/>
            <a:ext cx="4428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395280" y="286560"/>
            <a:ext cx="83520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4 gatos!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realidad, cada gato tiene delante otros 3 g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quellos que están en los otros áng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547640" y="4006800"/>
            <a:ext cx="60501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ás participando en una carrera, superas al seg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En qué posición te encuentr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1028160" y="6313320"/>
            <a:ext cx="10508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7620480" y="6313320"/>
            <a:ext cx="959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r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>
            <a:hlinkClick r:id="" action="ppaction://hlinkshowjump?jump=nextslide"/>
            <a:hlinkClick r:id="rId4"/>
          </p:cNvPr>
          <p:cNvSpPr/>
          <p:nvPr/>
        </p:nvSpPr>
        <p:spPr>
          <a:xfrm>
            <a:off x="4317120" y="6313320"/>
            <a:ext cx="11224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619280" y="404640"/>
            <a:ext cx="5881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Seg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as superado al segundo, luego tomaste su 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369880" y="261000"/>
            <a:ext cx="32623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Es el 14 de julio en Bélgic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2977560" y="6313320"/>
            <a:ext cx="383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5299200" y="6334200"/>
            <a:ext cx="53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37200" y="334080"/>
            <a:ext cx="4915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 superas al último, ¿en que posición está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>
            <a:hlinkClick r:id="" action="ppaction://hlinkshowjump?jump=nextslide"/>
            <a:hlinkClick r:id="rId2"/>
          </p:cNvPr>
          <p:cNvSpPr/>
          <p:nvPr/>
        </p:nvSpPr>
        <p:spPr>
          <a:xfrm>
            <a:off x="611280" y="4869000"/>
            <a:ext cx="15127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enú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>
            <a:hlinkClick r:id="" action="ppaction://hlinkshowjump?jump=nextslide"/>
            <a:hlinkClick r:id="rId3"/>
          </p:cNvPr>
          <p:cNvSpPr/>
          <p:nvPr/>
        </p:nvSpPr>
        <p:spPr>
          <a:xfrm>
            <a:off x="684360" y="5734080"/>
            <a:ext cx="1439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Últ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67320" y="260280"/>
            <a:ext cx="506196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En realidad « no penúltimo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 definición no hay nadie detrás del úl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 lo tanto no lo puedes supe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900000" y="355320"/>
            <a:ext cx="7272360" cy="1465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Yendo a un espejo de agua, una cebra encuentra 6 girafas. Cada girafa transporta 3 simios sobre la espalda. Cada simio tiene 2 pájaros sobre el hombro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¿Cuántos animales van al espejo de agu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>
            <a:hlinkClick r:id="" action="ppaction://hlinkshowjump?jump=nextslide"/>
            <a:hlinkClick r:id="rId2"/>
          </p:cNvPr>
          <p:cNvSpPr/>
          <p:nvPr/>
        </p:nvSpPr>
        <p:spPr>
          <a:xfrm>
            <a:off x="1332000" y="6237360"/>
            <a:ext cx="5032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>
            <a:hlinkClick r:id="" action="ppaction://hlinkshowjump?jump=nextslide"/>
            <a:hlinkClick r:id="rId3"/>
          </p:cNvPr>
          <p:cNvSpPr/>
          <p:nvPr/>
        </p:nvSpPr>
        <p:spPr>
          <a:xfrm>
            <a:off x="431388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717552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270960" y="405360"/>
            <a:ext cx="25081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o sólo, la cebra …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06120" y="241920"/>
            <a:ext cx="525564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Cuántos pares de medias hay en una docen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>
            <a:hlinkClick r:id="" action="ppaction://hlinkshowjump?jump=nextslide"/>
            <a:hlinkClick r:id="rId2"/>
          </p:cNvPr>
          <p:cNvSpPr/>
          <p:nvPr/>
        </p:nvSpPr>
        <p:spPr>
          <a:xfrm>
            <a:off x="7104240" y="631332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>
            <a:hlinkClick r:id="" action="ppaction://hlinkshowjump?jump=nextslide"/>
            <a:hlinkClick r:id="rId3"/>
          </p:cNvPr>
          <p:cNvSpPr/>
          <p:nvPr/>
        </p:nvSpPr>
        <p:spPr>
          <a:xfrm>
            <a:off x="133884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>
            <a:hlinkClick r:id="" action="ppaction://hlinkshowjump?jump=nextslide"/>
            <a:hlinkClick r:id="rId4"/>
          </p:cNvPr>
          <p:cNvSpPr/>
          <p:nvPr/>
        </p:nvSpPr>
        <p:spPr>
          <a:xfrm>
            <a:off x="4236480" y="631332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493280" y="285840"/>
            <a:ext cx="6730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, porque para las medias, los huevos o cualquier otra co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a docena es siempre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>
            <a:hlinkClick r:id="" action="ppaction://hlinkshowjump?jump=nextslide"/>
          </p:cNvPr>
          <p:cNvSpPr/>
          <p:nvPr/>
        </p:nvSpPr>
        <p:spPr>
          <a:xfrm>
            <a:off x="636840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429160" y="333360"/>
            <a:ext cx="3714840" cy="1739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Te has diverti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oy contento porque quiere decir que reflexionar, aprender,  recordar, responde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omic Sans MS"/>
              </a:rPr>
              <a:t>Usar el cerebro,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 divi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onc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219564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Comic Sans MS"/>
              </a:rPr>
              <a:t>Traducción del qu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bbe0e3"/>
                </a:solidFill>
                <a:latin typeface="Comic Sans MS"/>
              </a:rPr>
              <a:t>C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bbe0e3"/>
                </a:solidFill>
                <a:latin typeface="Comic Sans MS"/>
              </a:rPr>
              <a:t>05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>
            <a:hlinkClick r:id="" action="ppaction://hlinkshowjump?jump=endshow"/>
          </p:cNvPr>
          <p:cNvSpPr/>
          <p:nvPr/>
        </p:nvSpPr>
        <p:spPr>
          <a:xfrm>
            <a:off x="6882840" y="5881680"/>
            <a:ext cx="1674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ter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07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Te auguro una diversión infinita, porque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no hay fin en las cosas que tenemos por descubrir.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a sapiencia que Dios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ha dado al hombre para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permitirle conocer todo 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4129200" y="2898720"/>
            <a:ext cx="8856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Fi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80520" y="333360"/>
            <a:ext cx="53805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ún si no se festeja, el 14 julio existe en Bélg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>
            <a:hlinkClick r:id="" action="ppaction://hlinkshowjump?jump=nextslide"/>
          </p:cNvPr>
          <p:cNvSpPr/>
          <p:nvPr/>
        </p:nvSpPr>
        <p:spPr>
          <a:xfrm>
            <a:off x="6421680" y="5881680"/>
            <a:ext cx="182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88640" y="241920"/>
            <a:ext cx="57312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gunos meses tienen 31 días, ¿cuántos tienen 28 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2998800" y="6242040"/>
            <a:ext cx="44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186012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762480" y="6242040"/>
            <a:ext cx="311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79280" y="549360"/>
            <a:ext cx="878544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2, porque todos los meses tienen 28 días. (aún aquellos que tienen 30 o 31)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943280" y="261000"/>
            <a:ext cx="440676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Cuántos animales comen con su cola?</a:t>
            </a:r>
            <a:r>
              <a:rPr b="0" lang="fr-FR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7210800" y="6242040"/>
            <a:ext cx="113472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o s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1524240" y="6242040"/>
            <a:ext cx="1058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g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>
            <a:hlinkClick r:id="" action="ppaction://hlinkshowjump?jump=nextslide"/>
            <a:hlinkClick r:id="rId4"/>
          </p:cNvPr>
          <p:cNvSpPr/>
          <p:nvPr/>
        </p:nvSpPr>
        <p:spPr>
          <a:xfrm>
            <a:off x="4355640" y="6242040"/>
            <a:ext cx="83448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22200" y="480960"/>
            <a:ext cx="628740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dos, porque ningún animal se saca la cola para c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>
            <a:hlinkClick r:id="" action="ppaction://hlinkshowjump?jump=nextslide"/>
          </p:cNvPr>
          <p:cNvSpPr/>
          <p:nvPr/>
        </p:nvSpPr>
        <p:spPr>
          <a:xfrm>
            <a:off x="636516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54760" y="457920"/>
            <a:ext cx="72612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¿Es legal en California casarse con la hermana de la propia viuda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>
            <a:hlinkClick r:id="" action="ppaction://hlinkshowjump?jump=nextslide"/>
            <a:hlinkClick r:id="rId2"/>
          </p:cNvPr>
          <p:cNvSpPr/>
          <p:nvPr/>
        </p:nvSpPr>
        <p:spPr>
          <a:xfrm>
            <a:off x="3230640" y="6313320"/>
            <a:ext cx="5328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>
            <a:hlinkClick r:id="" action="ppaction://hlinkshowjump?jump=nextslide"/>
            <a:hlinkClick r:id="rId3"/>
          </p:cNvPr>
          <p:cNvSpPr/>
          <p:nvPr/>
        </p:nvSpPr>
        <p:spPr>
          <a:xfrm>
            <a:off x="5333400" y="6334200"/>
            <a:ext cx="383400" cy="368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052000" y="409680"/>
            <a:ext cx="54050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 hay una viuda, significa que estamos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r lo tanto no podemos casa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>
            <a:hlinkClick r:id="" action="ppaction://hlinkshowjump?jump=nextslide"/>
          </p:cNvPr>
          <p:cNvSpPr/>
          <p:nvPr/>
        </p:nvSpPr>
        <p:spPr>
          <a:xfrm>
            <a:off x="6357240" y="5902200"/>
            <a:ext cx="1768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ik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a conti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06:18:45Z</dcterms:created>
  <dc:creator>CLP</dc:creator>
  <dc:description/>
  <dc:language>en-US</dc:language>
  <cp:lastModifiedBy> </cp:lastModifiedBy>
  <dcterms:modified xsi:type="dcterms:W3CDTF">2009-05-25T22:33:07Z</dcterms:modified>
  <cp:revision>14</cp:revision>
  <dc:subject/>
  <dc:title>Pienso luego...</dc:title>
</cp:coreProperties>
</file>