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6F3-EC5A-4CB8-BFBC-1FE265C693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D79-DDF1-40E6-93CF-B69185979E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11A-9DBA-4B91-9242-CA93E5DCC0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7CE9-877D-49B3-96D7-47FC6222B3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ECFB-AF21-413B-8059-59EC2E79BA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CB81-459E-4D69-B6EB-16BAB494A7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A83-5D7D-4A3B-9F3F-E43E80F844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1E9-1F7A-4F2C-9AEA-8584CFE24E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A20A-088E-42B1-87CE-B44AD719A6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91D7-D639-474F-BA9A-56B13D3C03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A3E9-6605-41E6-9790-D1232139C9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FBD-61EA-41B9-94A9-120F5F09A5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066D-7239-48AB-9D07-2942E90900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AA5-6BD3-47D9-8836-0AE6882546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AC8-7719-4816-B040-3F46BA9815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9A0E-2C9A-4C09-92D4-B5B5C29A06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474-9193-495A-8DD3-954534C275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AEC3-141B-4811-8723-ED6DDA6BDD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50D3-7C7D-49FF-936F-5ED8BBF301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42E-8922-4674-A304-F56E5750EC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D164-E9F4-40D0-A41A-69043CA79A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C07-A500-4E70-BB8F-8D929F2FD0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75C2-58DD-4D71-92C4-19A2688F14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D08-D7EF-4A2F-9B71-F46707BF11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5D4-5590-4712-A209-AE0201C7E2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208B-DEBF-4369-9C52-9741273CCF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16A3-FFBD-4307-9274-BFB5740A93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6CF-5C16-4A28-9A04-10870BB935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908-DE34-4E6C-B52C-51DA078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D78-4AD9-4198-A24B-03A6268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A12-B96F-4BF4-8E35-2341D7E6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BC2-F04C-46C9-BF89-1DBA2172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FA4-90E0-4E1E-AD96-4D2E58FB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D90-302A-404A-A2E0-CBD77A24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C1E-56F2-4691-B3A6-6003424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7CE-E744-4401-B326-3377BF8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2F6-AB83-4B0D-B34C-2064BF6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F21-64AF-449F-930E-FEEFFF4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AEB-7C8E-4571-B6BD-44BEEF7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508-7C93-4F50-AABB-557D9114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ondopps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3D9-8647-4EF8-96D1-358883DF21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mondo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6453360"/>
            <a:ext cx="104796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512320" y="4603680"/>
            <a:ext cx="24987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ag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clik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respuesta correc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>
            <a:hlinkClick r:id="" action="ppaction://hlinkshowjump?jump=nextslide"/>
          </p:cNvPr>
          <p:cNvSpPr/>
          <p:nvPr/>
        </p:nvSpPr>
        <p:spPr>
          <a:xfrm>
            <a:off x="6554520" y="5902200"/>
            <a:ext cx="13831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ini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42960" y="214200"/>
            <a:ext cx="5429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PIENS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Luego…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067280" y="171720"/>
            <a:ext cx="4752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hay 3 manzanas y tomas  2, ¿cuántas tie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459684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277848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639720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778200" y="409680"/>
            <a:ext cx="3137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s 2 que tom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 habrás olvidado espe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50920" y="890640"/>
            <a:ext cx="83534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médico te da tres comprimidos para tomar cada media h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 tiempo dura el tratamiento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1753560" y="6313320"/>
            <a:ext cx="14076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dia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6200280" y="6313320"/>
            <a:ext cx="17809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hora 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4268520" y="6313320"/>
            <a:ext cx="874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90360" y="2781360"/>
            <a:ext cx="1567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400" y="2786040"/>
            <a:ext cx="1488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908400" y="2786040"/>
            <a:ext cx="1488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23160" y="2781360"/>
            <a:ext cx="1460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---1/2 ora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18280" y="2781360"/>
            <a:ext cx="1593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--- 1/2 ora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819080" y="3665520"/>
            <a:ext cx="5695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|-------------------------- 1 hora en total ------------------------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48360" y="386640"/>
            <a:ext cx="7526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pastor tie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7 ovejas, todas excepto 9 mueren. ¿Cuánt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430956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659916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193320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92360" y="480960"/>
            <a:ext cx="50101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dan aquellas que no murieron, esto es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426200"/>
            <a:ext cx="84247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un cuarto hay 4 ángulos. En cada ángulo hay 1 gato. Delante de cada gato  hay 3 gatos. ¿Cuántos gatos en total hay en el cuar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7117920" y="6242040"/>
            <a:ext cx="3117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4222800" y="6242040"/>
            <a:ext cx="442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1343160" y="6242040"/>
            <a:ext cx="442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395280" y="286560"/>
            <a:ext cx="83520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4 gatos!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realidad, cada gato tiene delante otros 3 g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quellos que están en los otros áng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547640" y="4006800"/>
            <a:ext cx="60501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ás participando en una carrera, superas al 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n qué posición te encuentr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1028160" y="6313320"/>
            <a:ext cx="10508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7620480" y="6313320"/>
            <a:ext cx="959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r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4317120" y="6313320"/>
            <a:ext cx="11224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619280" y="404640"/>
            <a:ext cx="5881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as superado al segundo, luego tomaste su 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369880" y="261000"/>
            <a:ext cx="3262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s el 14 de julio en Bélgic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2977560" y="6313320"/>
            <a:ext cx="383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5299200" y="6334200"/>
            <a:ext cx="53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37200" y="334080"/>
            <a:ext cx="4915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superas al último, ¿en que posición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>
            <a:hlinkClick r:id="" action="ppaction://hlinkshowjump?jump=nextslide"/>
            <a:hlinkClick r:id="rId2"/>
          </p:cNvPr>
          <p:cNvSpPr/>
          <p:nvPr/>
        </p:nvSpPr>
        <p:spPr>
          <a:xfrm>
            <a:off x="611280" y="4869000"/>
            <a:ext cx="15127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en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>
            <a:hlinkClick r:id="" action="ppaction://hlinkshowjump?jump=nextslide"/>
            <a:hlinkClick r:id="rId3"/>
          </p:cNvPr>
          <p:cNvSpPr/>
          <p:nvPr/>
        </p:nvSpPr>
        <p:spPr>
          <a:xfrm>
            <a:off x="684360" y="5734080"/>
            <a:ext cx="1439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67320" y="260280"/>
            <a:ext cx="506196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realidad « no penúltimo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definición no hay nadie detrás del úl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lo tanto no lo puedes sup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900000" y="355320"/>
            <a:ext cx="7272360" cy="1465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Yendo a un espejo de agua, una cebra encuentra 6 girafas. Cada girafa transporta 3 simios sobre la espalda. Cada simio tiene 2 pájaros sobre el hombro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¿Cuántos animales van al espejo de agu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>
            <a:hlinkClick r:id="" action="ppaction://hlinkshowjump?jump=nextslide"/>
            <a:hlinkClick r:id="rId2"/>
          </p:cNvPr>
          <p:cNvSpPr/>
          <p:nvPr/>
        </p:nvSpPr>
        <p:spPr>
          <a:xfrm>
            <a:off x="1332000" y="6237360"/>
            <a:ext cx="5032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>
            <a:hlinkClick r:id="" action="ppaction://hlinkshowjump?jump=nextslide"/>
            <a:hlinkClick r:id="rId3"/>
          </p:cNvPr>
          <p:cNvSpPr/>
          <p:nvPr/>
        </p:nvSpPr>
        <p:spPr>
          <a:xfrm>
            <a:off x="431388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717552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270960" y="405360"/>
            <a:ext cx="25081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o sólo, la cebra …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06120" y="241920"/>
            <a:ext cx="5255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s pares de medias hay en una docen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7104240" y="631332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133884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423648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93280" y="285840"/>
            <a:ext cx="6730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, porque para las medias, los huevos o cualquier otra co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a docena es siempr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>
            <a:hlinkClick r:id="" action="ppaction://hlinkshowjump?jump=nextslide"/>
          </p:cNvPr>
          <p:cNvSpPr/>
          <p:nvPr/>
        </p:nvSpPr>
        <p:spPr>
          <a:xfrm>
            <a:off x="636840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429160" y="333360"/>
            <a:ext cx="3714840" cy="173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Te has diverti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oy contento porque quiere decir que reflexionar, aprender,  recordar, respon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Usar el cerebro,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 divi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onc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219564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Comic Sans MS"/>
              </a:rPr>
              <a:t>Traducción del qu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bbe0e3"/>
                </a:solidFill>
                <a:latin typeface="Comic Sans MS"/>
              </a:rPr>
              <a:t>C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bbe0e3"/>
                </a:solidFill>
                <a:latin typeface="Comic Sans MS"/>
              </a:rPr>
              <a:t>05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>
            <a:hlinkClick r:id="" action="ppaction://hlinkshowjump?jump=endshow"/>
          </p:cNvPr>
          <p:cNvSpPr/>
          <p:nvPr/>
        </p:nvSpPr>
        <p:spPr>
          <a:xfrm>
            <a:off x="6882840" y="5881680"/>
            <a:ext cx="1674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07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e auguro una diversión infinita, porque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o hay fin en las cosas que tenemos por descubrir.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a sapiencia que Dios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ha dado al hombre para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permitirle conocer todo 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4129200" y="2898720"/>
            <a:ext cx="885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Fi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80520" y="333360"/>
            <a:ext cx="53805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ún si no se festeja, el 14 julio existe en Bélg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>
            <a:hlinkClick r:id="" action="ppaction://hlinkshowjump?jump=nextslide"/>
          </p:cNvPr>
          <p:cNvSpPr/>
          <p:nvPr/>
        </p:nvSpPr>
        <p:spPr>
          <a:xfrm>
            <a:off x="6421680" y="5881680"/>
            <a:ext cx="182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88640" y="241920"/>
            <a:ext cx="57312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gunos meses tienen 31 días, ¿cuántos tienen 28 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299880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186012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76248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9280" y="549360"/>
            <a:ext cx="878544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, porque todos los meses tienen 28 días. (aún aquellos que tienen 30 o 31)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943280" y="261000"/>
            <a:ext cx="4406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s animales comen con su cola?</a:t>
            </a:r>
            <a:r>
              <a:rPr b="0" lang="fr-F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7210800" y="6242040"/>
            <a:ext cx="11347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o s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1524240" y="6242040"/>
            <a:ext cx="1058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g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4355640" y="6242040"/>
            <a:ext cx="8344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22200" y="480960"/>
            <a:ext cx="62874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dos, porque ningún animal se saca la cola para c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>
            <a:hlinkClick r:id="" action="ppaction://hlinkshowjump?jump=nextslide"/>
          </p:cNvPr>
          <p:cNvSpPr/>
          <p:nvPr/>
        </p:nvSpPr>
        <p:spPr>
          <a:xfrm>
            <a:off x="636516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54760" y="457920"/>
            <a:ext cx="72612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s legal en California casarse con la hermana de la propia viud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3230640" y="6313320"/>
            <a:ext cx="53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5333400" y="6334200"/>
            <a:ext cx="383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052000" y="409680"/>
            <a:ext cx="54050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hay una viuda, significa que estamos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lo tanto no podemos casa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6:18:45Z</dcterms:created>
  <dc:creator>CLP</dc:creator>
  <dc:description/>
  <dc:language>en-US</dc:language>
  <cp:lastModifiedBy> </cp:lastModifiedBy>
  <dcterms:modified xsi:type="dcterms:W3CDTF">2009-05-25T22:33:07Z</dcterms:modified>
  <cp:revision>14</cp:revision>
  <dc:subject/>
  <dc:title>Pienso luego...</dc:title>
</cp:coreProperties>
</file>