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A8C-C82E-48C9-A274-D20E50A4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329-AA06-495A-A9F3-2C9EEC7D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075-F54C-485A-962E-F9D93E2D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280-20D0-4E9B-BA77-F8FB4B14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A84-B55F-4B83-864A-62D59C15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C3B-B3A3-456F-8790-C569FD16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A76-DB4D-48E9-AD0D-C5C07952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E51-60AB-4C67-8926-2D7DE740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4AB-B8D6-4BD1-B6E6-6F710EEB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D15-30FC-4D89-85A2-90B25CBD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767-3452-4602-8AEE-2641ABB9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B3D9-18D4-4C95-831E-838D45AE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162A-2931-4A00-B8AA-849DF897D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-15840"/>
            <a:ext cx="6912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92320" y="0"/>
            <a:ext cx="495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22280" y="0"/>
            <a:ext cx="649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71720" y="0"/>
            <a:ext cx="520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14400"/>
            <a:ext cx="720072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24200" y="0"/>
            <a:ext cx="529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-19080"/>
            <a:ext cx="78483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-27000"/>
            <a:ext cx="878544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0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3120" y="0"/>
            <a:ext cx="61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-50760"/>
            <a:ext cx="763272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13040" y="0"/>
            <a:ext cx="531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-25560"/>
            <a:ext cx="7632720" cy="69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9700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-52560"/>
            <a:ext cx="705816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-54000"/>
            <a:ext cx="820728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-39600"/>
            <a:ext cx="8642160" cy="69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280" y="6480"/>
            <a:ext cx="7993080" cy="69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17720" y="0"/>
            <a:ext cx="530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56144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-52560"/>
            <a:ext cx="864216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280" y="-46080"/>
            <a:ext cx="878544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9700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99960"/>
            <a:ext cx="918036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1440"/>
            <a:ext cx="8136000" cy="69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1280" y="-46080"/>
            <a:ext cx="792144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3240"/>
            <a:ext cx="8496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81160" y="0"/>
            <a:ext cx="497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44720" y="0"/>
            <a:ext cx="525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09600" y="0"/>
            <a:ext cx="672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00320" y="0"/>
            <a:ext cx="65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6920" y="-4680"/>
            <a:ext cx="756144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42920" y="-30240"/>
            <a:ext cx="705816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22:49:33Z</dcterms:created>
  <dc:creator>Compañía Minera Antamina S.A</dc:creator>
  <dc:description/>
  <dc:language>en-US</dc:language>
  <cp:lastModifiedBy>Compañía Minera Antamina S.A</cp:lastModifiedBy>
  <dcterms:modified xsi:type="dcterms:W3CDTF">2010-04-10T01:42:11Z</dcterms:modified>
  <cp:revision>3</cp:revision>
  <dc:subject/>
  <dc:title>Slide 1</dc:title>
</cp:coreProperties>
</file>