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D066-BCAF-4DC9-AA52-2376BFE1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944-3D56-459E-AFCC-FB5283EC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4330-C647-49DA-8148-49C97908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6E80-D9F3-41CC-9A94-4E9D2F87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E08-62D2-4675-AB1C-765BC08F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3335-781C-410A-9CFA-B0134B3B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BF9-8FB6-4E28-A231-27779C4A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9D8-CFC9-4986-84FA-28C7D7D4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E438-5F05-4190-BE2D-D78A6F11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508-EC00-44BE-AE13-0E27390C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AF7-A593-49F4-AA0F-E7BA0E2C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CB24-A9A9-495E-B9C3-903001AC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0356-DE8A-4302-A115-B276593FD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16000" y="-15840"/>
            <a:ext cx="6912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92320" y="0"/>
            <a:ext cx="495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22280" y="0"/>
            <a:ext cx="649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71720" y="0"/>
            <a:ext cx="520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14400"/>
            <a:ext cx="720072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24200" y="0"/>
            <a:ext cx="529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-19080"/>
            <a:ext cx="78483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-27000"/>
            <a:ext cx="878544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70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3120" y="0"/>
            <a:ext cx="61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-50760"/>
            <a:ext cx="7632720" cy="69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13040" y="0"/>
            <a:ext cx="531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-25560"/>
            <a:ext cx="7632720" cy="69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9700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42920" y="-52560"/>
            <a:ext cx="705816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-54000"/>
            <a:ext cx="820728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-39600"/>
            <a:ext cx="8642160" cy="69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1280" y="6480"/>
            <a:ext cx="7993080" cy="69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17720" y="0"/>
            <a:ext cx="530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56144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-52560"/>
            <a:ext cx="864216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9280" y="-46080"/>
            <a:ext cx="878544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9700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99960"/>
            <a:ext cx="918036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1440"/>
            <a:ext cx="8136000" cy="69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11280" y="-46080"/>
            <a:ext cx="792144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9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3240"/>
            <a:ext cx="8496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81160" y="0"/>
            <a:ext cx="497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44720" y="0"/>
            <a:ext cx="525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09600" y="0"/>
            <a:ext cx="672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00320" y="0"/>
            <a:ext cx="65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26920" y="-4680"/>
            <a:ext cx="756144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42920" y="-30240"/>
            <a:ext cx="705816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22:49:33Z</dcterms:created>
  <dc:creator>Compañía Minera Antamina S.A</dc:creator>
  <dc:description/>
  <dc:language>en-US</dc:language>
  <cp:lastModifiedBy>Compañía Minera Antamina S.A</cp:lastModifiedBy>
  <dcterms:modified xsi:type="dcterms:W3CDTF">2010-04-10T01:42:11Z</dcterms:modified>
  <cp:revision>3</cp:revision>
  <dc:subject/>
  <dc:title>Slide 1</dc:title>
</cp:coreProperties>
</file>