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_13%20Mozart%20-%20Concierto%20para%20flauta%20y%20arpa%20-%20Andantino%20236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D22-E9C6-419C-91BF-4F154604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0FC-B984-4040-9E05-AB1B212E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ECB-F5E1-493D-869D-302B11D3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675-AB61-40A6-9349-19664A75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DD2-F362-45AB-8B1F-35A9ED8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408-7EDD-4D2A-92A4-E16A2ABA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CE2-7B29-466C-8996-38559094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F41-B802-45F7-BC50-0D30D1C6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5F9-D315-4E2F-826D-976A467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CF2-CB74-4C94-A6D8-1A69D80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2E5-50E7-4682-8DC7-89515A2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ED9-18CD-4B59-A803-B25D49B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3F55-C2F3-4344-A3B6-DB93D051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_13%20Mozart%20-%20Concierto%20para%20flauta%20y%20arpa%20-%20Andantino%2023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brazo%20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El perdón supone una mirada limpia y profunda,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un encuentro fraterno,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 y una opción por el prój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172200"/>
            <a:ext cx="8169120" cy="733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Texto: Mateo 18,15-20 / 23 Tiempo Ordinario –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Comentarios y presentación: Asun Gutiérrez.</a:t>
            </a:r>
            <a:br>
              <a:rPr sz="1400"/>
            </a:b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Música: Mozart. Concierto para flauta y arpa. Andan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_13%20Mozart%20-%20Concierto%20para%20flauta%20y%20arpa%20-%20Andantino%2023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tella2011_CeremoniaBukaera1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8305560" cy="335268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texto forma parte del cuarto discurso de Mateo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ocido con el nombre de “discurso comunitari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continuación de la parábola de la oveja perdid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uestra la actitud fundamental que debe existir en la comun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misericordia semejante a la del Padre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modelo de comunidad que nos presenta Mateo es el de una com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hermanos en la que las murallas de clases soci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juicios, privilegios, autoritarismos se han de derriba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que nazca la comunidad de iguales y particip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Estela Ald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MIGAS%20caricia%20bailar_en_la_oscuridad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15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or eso, si tu hermano te ofende, ve y repréndelo a solas. Si te escucha, habrás ganado a tu hermano.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16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Si no te escucha, toma contigo uno o dos, para que cualquier asunto se resuelva en presencia de dos o tres test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nos anima a ayudarnos mutuamente a ser mejores. Es una invitación a reflexionar sobre cómo son nuestras relaciones con l@s demá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Evangelio nos llama constantemente a aprender y a practica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perdón desde el amo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Estamos más habituad@s al lenguaje de la responsabilidad y la culp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 al del amor y la gratu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perdón adquiere un nuevo significado cuando aprendemos a perdonarn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cuando nos sentimos perdonad@s gratuita e incondicional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LEGRÏA%20Estella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52280"/>
            <a:ext cx="8153280" cy="10087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 no les hace caso, díselo a la comunidad; y si tampoco hace caso a la comunidad, considéralo como un pagano o un publica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2562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habla a la comunidad. No remite a ningún otro respons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situación actual, ¿a qué comunidad? ¿Habría que decirlo en las concentraciones multitudinarias? ¿En las celebraciones de grupos reducidos alrededor de la Mesa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La estructura de las parroquias y de la Iglesia se corresponde con la comun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Jesús pensaba y quería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Se tiene en cuenta lo que quiere y piensa la comun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omunidad de Jesús no está formada por “buenos y malos”, “perdonados y perdonadores”, “jueces y reos”, sino por herman@s que se quieren y se ayud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udo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nudo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s aseguro que lo que atéis en la tierra quedará atado en el cielo; y lo que desatéis en la tierra quedará desatado en el ci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18120"/>
            <a:ext cx="8991720" cy="20142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habla en plural, sus palabras siempre se dirigen a toda l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tar o desatar”. De nosotr@s depende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apostó por “atar” su vida a las personas empobrecidas, enfermas, víctimas de la corrupción y de la injusticia, “desatándolas” de todo tipo de exclusión y opre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 vida es signo de acogida, liberación y perdón. Modelo y ejemplo para la nues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S%20BANCA%20NEGRA%20oh%20dios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878280" cy="541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ambién os aseguro que, si dos de vosotros se ponen de acuerdo en la tierra para pedir cualquier cosa, la obtendrán de mi Padre celestial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orque donde están dos o tres reunidos en mi nombre, allí estoy yo en medio de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84344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ncuentro fraterno, siendo plenamente humano (“ponerse de acuerdo”), es signo eficaz de la presencia liberadora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a oración y por la oración aprendemos a vivir en confianza incondicional. Nos convertimos en cauce de la presencia, acogida, solidaridad, ternura... de Jesús, l@s un@s para l@s otr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uestra tarea es ayudarnos mutuamente a ser personas más humanas, más libre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más felices, caminando junt@s hacia la fraternidad univers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1676520"/>
            <a:ext cx="2590920" cy="236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600200"/>
            <a:ext cx="2438280" cy="266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ÁPIZ%20PA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380880"/>
            <a:ext cx="6858000" cy="69519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personas que construy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tierra libre, fraterna y soli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una tierra nuev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los niños crez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 la certeza de un mundo mej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 fuerza del am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perdón y en la paz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manos que leva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los que cayeron al borde del cam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el respeto y la tolera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acoge a cada cual como e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el esfuerzo dia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conserva la natur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s generaciones presentes y futura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Dios, Padre/Madre de todos,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amigo y compañero de cami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personas, reflejos del amor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 bondad porque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no creo que la bondad es el fondo de toda criatura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de todo ser humano, no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no creo más en la bondad que en la maldad, no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o creo en Dios y creo en la bondad, a pesar de todo. Amé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José Arreg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917800">
            <a:off x="614520" y="361440"/>
            <a:ext cx="1266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REO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8:02:48Z</dcterms:created>
  <dc:creator> Asun Gutiérrez</dc:creator>
  <dc:description/>
  <dc:language>en-US</dc:language>
  <cp:lastModifiedBy> </cp:lastModifiedBy>
  <dcterms:modified xsi:type="dcterms:W3CDTF">2011-08-28T16:07:28Z</dcterms:modified>
  <cp:revision>50</cp:revision>
  <dc:subject>jeasam@gmail.com</dc:subject>
  <dc:title>23 Tiempo Ordinario A</dc:title>
</cp:coreProperties>
</file>