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_13%20Mozart%20-%20Concierto%20para%20flauta%20y%20arpa%20-%20Andantino%20236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564-70EF-431B-8439-BA946951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A1C-3A56-432A-B67B-71F4B1D3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E29-BBAF-46C1-9279-B8DE66BF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3EE-CC7D-48E4-B74A-2B9BA3D1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F0B-1AD7-427A-8AAD-E11F3E2E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251-90EF-4CFE-8845-FB809CF2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5B3-9D14-4E99-86BE-B95BD8B8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409-E454-4316-8B49-7BF846BB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42B-C4B6-4DC1-97A4-5B174132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0DF-75A4-43D7-9076-70B9D2DB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692-B6A0-4E43-B31E-64BF334D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DC3-05F5-498B-9CF9-45F0F4F3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9E40-1E80-42C1-ACB4-72E0DF079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_13%20Mozart%20-%20Concierto%20para%20flauta%20y%20arpa%20-%20Andantino%20236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brazo%20gri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omic Sans MS"/>
              </a:rPr>
              <a:t>El perdón supone una mirada limpia y profunda,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Comic Sans MS"/>
              </a:rPr>
              <a:t>un encuentro fraterno,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Comic Sans MS"/>
              </a:rPr>
              <a:t> y una opción por el próji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172200"/>
            <a:ext cx="8169120" cy="7333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Comic Sans MS"/>
              </a:rPr>
              <a:t>Texto: Mateo 18,15-20 / 23 Tiempo Ordinario –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Comic Sans MS"/>
              </a:rPr>
              <a:t>Comentarios y presentación: Asun Gutiérrez.</a:t>
            </a:r>
            <a:br>
              <a:rPr sz="1400"/>
            </a:br>
            <a:r>
              <a:rPr b="0" lang="es-ES" sz="1400" spc="-1" strike="noStrike">
                <a:solidFill>
                  <a:srgbClr val="ccecff"/>
                </a:solidFill>
                <a:latin typeface="Comic Sans MS"/>
              </a:rPr>
              <a:t>Música: Mozart. Concierto para flauta y arpa. Andanti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_13%20Mozart%20-%20Concierto%20para%20flauta%20y%20arpa%20-%20Andantino%20236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Estella2011_CeremoniaBukaera1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533520"/>
            <a:ext cx="8305560" cy="3352680"/>
          </a:xfrm>
          <a:prstGeom prst="ellipse">
            <a:avLst/>
          </a:prstGeom>
          <a:solidFill>
            <a:srgbClr val="008000">
              <a:alpha val="50000"/>
            </a:srgbClr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texto forma parte del cuarto discurso de Mateo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nocido con el nombre de “discurso comunitario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 continuación de la parábola de la oveja perdida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uestra la actitud fundamental que debe existir en la comunid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misericordia semejante a la del Padre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modelo de comunidad que nos presenta Mateo es el de una comu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 hermanos en la que las murallas de clases social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rejuicios, privilegios, autoritarismos se han de derribar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que nazca la comunidad de iguales y particip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00"/>
                </a:solidFill>
                <a:latin typeface="Comic Sans MS"/>
              </a:rPr>
              <a:t>Estela Ald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MIGAS%20caricia%20bailar_en_la_oscuridad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33cc"/>
                </a:solidFill>
                <a:latin typeface="Georgia"/>
              </a:rPr>
              <a:t>15</a:t>
            </a: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Por eso, si tu hermano te ofende, ve y repréndelo a solas. Si te escucha, habrás ganado a tu hermano. </a:t>
            </a:r>
            <a:r>
              <a:rPr b="0" lang="en-US" sz="2000" spc="-1" strike="noStrike" baseline="30000">
                <a:solidFill>
                  <a:srgbClr val="3333cc"/>
                </a:solidFill>
                <a:latin typeface="Georgia"/>
              </a:rPr>
              <a:t>16</a:t>
            </a:r>
            <a:r>
              <a:rPr b="0" lang="en-US" sz="2000" spc="-1" strike="noStrike">
                <a:solidFill>
                  <a:srgbClr val="3333cc"/>
                </a:solidFill>
                <a:latin typeface="Georgia"/>
              </a:rPr>
              <a:t>Si no te escucha, toma contigo uno o dos, para que cualquier asunto se resuelva en presencia de dos o tres testig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68760"/>
            <a:ext cx="9144000" cy="2288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esús nos anima a ayudarnos mutuamente a ser mejores. Es una invitación a reflexionar sobre cómo son nuestras relaciones con l@s demá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Evangelio nos llama constantemente a aprender y a practica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perdón desde el amor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¿Estamos más habituad@s al lenguaje de la responsabilidad y la culp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 al del amor y la gratui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perdón adquiere un nuevo significado cuando aprendemos a perdonarno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cuando nos sentimos perdonad@s gratuita e incondicional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LEGRÏA%20Estella2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152280"/>
            <a:ext cx="8153280" cy="100872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17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 no les hace caso, díselo a la comunidad; y si tampoco hace caso a la comunidad, considéralo como un pagano o un publica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495680"/>
            <a:ext cx="9144000" cy="25628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esús habla a la comunidad. No remite a ningún otro respons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la situación actual, ¿a qué comunidad? ¿Habría que decirlo en las concentraciones multitudinarias? ¿En las celebraciones de grupos reducidos alrededor de la Mesa?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La estructura de las parroquias y de la Iglesia se corresponde con la comunidad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Jesús pensaba y quería?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Se tiene en cuenta lo que quiere y piensa la comuni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comunidad de Jesús no está formada por “buenos y malos”, “perdonados y perdonadores”, “jueces y reos”, sino por herman@s que se quieren y se ayud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nudo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nudo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18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Os aseguro que lo que atéis en la tierra quedará atado en el cielo; y lo que desatéis en la tierra quedará desatado en el ciel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18120"/>
            <a:ext cx="8991720" cy="20142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Jesús habla en plural, sus palabras siempre se dirigen a toda la comun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tar o desatar”. De nosotr@s depende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Jesús apostó por “atar” su vida a las personas empobrecidas, enfermas, víctimas de la corrupción y de la injusticia, “desatándolas” de todo tipo de exclusión y opres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u vida es signo de acogida, liberación y perdón. Modelo y ejemplo para la nues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MANOS%20BANCA%20NEGRA%20oh%20dios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3878280" cy="5410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19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ambién os aseguro que, si dos de vosotros se ponen de acuerdo en la tierra para pedir cualquier cosa, la obtendrán de mi Padre celestial.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20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Porque donde están dos o tres reunidos en mi nombre, allí estoy yo en medio de el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484344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encuentro fraterno, siendo plenamente humano (“ponerse de acuerdo”), es signo eficaz de la presencia liberadora de Jesú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la oración y por la oración aprendemos a vivir en confianza incondicional. Nos convertimos en cauce de la presencia, acogida, solidaridad, ternura... de Jesús, l@s un@s para l@s otr@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uestra tarea es ayudarnos mutuamente a ser personas más humanas, más libres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más felices, caminando junt@s hacia la fraternidad univers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1676520"/>
            <a:ext cx="2590920" cy="236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600200"/>
            <a:ext cx="2438280" cy="2666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LÁPIZ%20PA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0" y="380880"/>
            <a:ext cx="6858000" cy="695196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eo en las personas que construy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tierra libre, fraterna y solid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eo en una tierra nuev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onde los niños crez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n la certeza de un mundo mej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eo en la fuerza del amo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l perdón y en la paz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eo en las manos que leva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 los que cayeron al borde del cam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eo en el respeto y la tolera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 acoge a cada cual como es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eo en el esfuerzo dia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 conserva la naturale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las generaciones presentes y futuras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eo en Dios, Padre/Madre de todos,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amigo y compañero de cami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eo en las personas, reflejos del amor de 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eo en la bondad porque creo en 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i no creo que la bondad es el fondo de toda criatura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de todo ser humano, no creo en 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i no creo más en la bondad que en la maldad, no creo en 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ero creo en Dios y creo en la bondad, a pesar de todo. Amén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00"/>
                </a:solidFill>
                <a:latin typeface="Comic Sans MS"/>
              </a:rPr>
              <a:t>José Arreg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 rot="20917800">
            <a:off x="614520" y="361440"/>
            <a:ext cx="1266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66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REO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66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8:02:48Z</dcterms:created>
  <dc:creator> Asun Gutiérrez</dc:creator>
  <dc:description/>
  <dc:language>en-US</dc:language>
  <cp:lastModifiedBy> </cp:lastModifiedBy>
  <dcterms:modified xsi:type="dcterms:W3CDTF">2011-08-28T16:07:28Z</dcterms:modified>
  <cp:revision>50</cp:revision>
  <dc:subject>jeasam@gmail.com</dc:subject>
  <dc:title>23 Tiempo Ordinario A</dc:title>
</cp:coreProperties>
</file>