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deRosyRichardClaydermanRomeoyJulieta.wav" ContentType="audio/x-wav"/>
  <Override PartName="/ppt/media/image5.jpeg" ContentType="image/jpeg"/>
  <Override PartName="/ppt/media/image10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eRosyRichardClaydermanRomeoyJuliet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0" y="-136440"/>
            <a:ext cx="9144000" cy="713088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 txBox="1"/>
          <p:nvPr/>
        </p:nvSpPr>
        <p:spPr>
          <a:xfrm>
            <a:off x="1547640" y="5734080"/>
            <a:ext cx="720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Vivaldi"/>
              </a:rPr>
              <a:t>Audio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Vivaldi"/>
              <a:ea typeface="Vivaldi"/>
            </a:endParaRPr>
          </a:p>
        </p:txBody>
      </p:sp>
    </p:spTree>
  </p:cSld>
  <p:transition spd="slow">
    <p:zoom dir="out"/>
    <p:sndAc>
      <p:stSnd>
        <p:snd r:embed="rId2" name="deRosyRichardClaydermanRomeoyJuliet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42920" y="1268280"/>
            <a:ext cx="7050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 Narrow"/>
              </a:rPr>
              <a:t>Envía este mensaje a todas aquellas personas que puedas, para que se sientan libres de las cadenas del resenti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1400" y="42926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 Narrow"/>
              </a:rPr>
              <a:t>¡Que DIOS te siga bendiciendo por haber perdonad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5816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0" y="260280"/>
            <a:ext cx="459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Arial Narrow"/>
              </a:rPr>
              <a:t>Un día, el Maestro n</a:t>
            </a:r>
            <a:r>
              <a:rPr b="1" i="1" lang="es-ES" sz="2400" spc="-1" strike="noStrike">
                <a:solidFill>
                  <a:srgbClr val="ffffff"/>
                </a:solidFill>
                <a:latin typeface="Arial Narrow"/>
              </a:rPr>
              <a:t>os pidió de tarea que lleváramos papas </a:t>
            </a:r>
            <a:r>
              <a:rPr b="1" i="1" lang="es-MX" sz="2400" spc="-1" strike="noStrike">
                <a:solidFill>
                  <a:srgbClr val="ffffff"/>
                </a:solidFill>
                <a:latin typeface="Arial Narrow"/>
              </a:rPr>
              <a:t>crudas </a:t>
            </a:r>
            <a:r>
              <a:rPr b="1" i="1" lang="es-ES" sz="2400" spc="-1" strike="noStrike">
                <a:solidFill>
                  <a:srgbClr val="ffffff"/>
                </a:solidFill>
                <a:latin typeface="Arial Narrow"/>
              </a:rPr>
              <a:t>y una bolsa de plás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844640"/>
            <a:ext cx="437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Arial Narrow"/>
              </a:rPr>
              <a:t>Nos dijo que pusiéramos en la bolsa plástica una papa por cada persona a la que guardábamos resentimiento y escribiéramos su nombre en e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210200"/>
            <a:ext cx="44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Arial Narrow"/>
              </a:rPr>
              <a:t>Nos pidió</a:t>
            </a:r>
            <a:r>
              <a:rPr b="1" i="1" lang="es-ES" sz="2400" spc="-1" strike="noStrike">
                <a:solidFill>
                  <a:srgbClr val="ffffff"/>
                </a:solidFill>
                <a:latin typeface="Arial Narrow"/>
              </a:rPr>
              <a:t> que durante una semana lleváramos con nosotros a todos lados esa bolsa de papas</a:t>
            </a:r>
            <a:r>
              <a:rPr b="1" i="1" lang="es-MX" sz="2400" spc="-1" strike="noStrike">
                <a:solidFill>
                  <a:srgbClr val="ffffff"/>
                </a:solidFill>
                <a:latin typeface="Arial Narrow"/>
              </a:rPr>
              <a:t> en la mochila</a:t>
            </a:r>
            <a:r>
              <a:rPr b="1" i="1" lang="es-ES" sz="2400" spc="-1" strike="noStrike">
                <a:solidFill>
                  <a:srgbClr val="ffffff"/>
                </a:solidFill>
                <a:latin typeface="Arial Narrow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Arial Narrow"/>
              </a:rPr>
              <a:t>¡</a:t>
            </a:r>
            <a:r>
              <a:rPr b="1" i="1" lang="es-ES" sz="2400" spc="-1" strike="noStrike">
                <a:solidFill>
                  <a:srgbClr val="ffffff"/>
                </a:solidFill>
                <a:latin typeface="Arial Narrow"/>
              </a:rPr>
              <a:t>Algunas bolsas eran realmente pesadas</a:t>
            </a:r>
            <a:r>
              <a:rPr b="1" i="1" lang="es-MX" sz="2400" spc="-1" strike="noStrike">
                <a:solidFill>
                  <a:srgbClr val="ffffff"/>
                </a:solidFill>
                <a:latin typeface="Arial Narrow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216000"/>
            <a:ext cx="9396360" cy="7253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1657440"/>
            <a:ext cx="51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 Narrow"/>
              </a:rPr>
              <a:t>Naturalmente la condición de las papas se iba deteriorando con el ti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2781360"/>
            <a:ext cx="518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 Narrow"/>
              </a:rPr>
              <a:t>El fastidio de acarrear esa bolsa a todo momento, me demostró claramente el peso que cargaba a diario en mi corazón y en mi vida debido al resentimiento</a:t>
            </a:r>
            <a:r>
              <a:rPr b="1" i="1" lang="es-MX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Arial Narrow"/>
              </a:rPr>
              <a:t>También aprendí,</a:t>
            </a:r>
            <a:r>
              <a:rPr b="1" i="1" lang="es-ES" sz="2400" spc="-1" strike="noStrike">
                <a:solidFill>
                  <a:srgbClr val="ffffff"/>
                </a:solidFill>
                <a:latin typeface="Arial Narrow"/>
              </a:rPr>
              <a:t> como mientras ponía mi atención en ella para no olvidarla, desatendía cosas que eran más importantes para 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7307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08360" y="3357720"/>
            <a:ext cx="54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 Narrow"/>
              </a:rPr>
              <a:t>Este ejercicio </a:t>
            </a:r>
            <a:r>
              <a:rPr b="1" i="1" lang="es-MX" sz="2400" spc="-1" strike="noStrike">
                <a:solidFill>
                  <a:srgbClr val="000000"/>
                </a:solidFill>
                <a:latin typeface="Arial Narrow"/>
              </a:rPr>
              <a:t>me hizo pensar sobre</a:t>
            </a:r>
            <a:r>
              <a:rPr b="1" i="1" lang="es-E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s-MX" sz="2400" spc="-1" strike="noStrike">
                <a:solidFill>
                  <a:srgbClr val="000000"/>
                </a:solidFill>
                <a:latin typeface="Arial Narrow"/>
              </a:rPr>
              <a:t>el </a:t>
            </a:r>
            <a:r>
              <a:rPr b="1" i="1" lang="es-ES" sz="2400" spc="-1" strike="noStrike">
                <a:solidFill>
                  <a:srgbClr val="000000"/>
                </a:solidFill>
                <a:latin typeface="Arial Narrow"/>
              </a:rPr>
              <a:t>precio que pagaba por </a:t>
            </a:r>
            <a:r>
              <a:rPr b="1" i="1" lang="es-MX" sz="2400" spc="-1" strike="noStrike">
                <a:solidFill>
                  <a:srgbClr val="000000"/>
                </a:solidFill>
                <a:latin typeface="Arial Narrow"/>
              </a:rPr>
              <a:t>no perdonar </a:t>
            </a:r>
            <a:r>
              <a:rPr b="1" i="1" lang="es-ES" sz="2400" spc="-1" strike="noStrike">
                <a:solidFill>
                  <a:srgbClr val="000000"/>
                </a:solidFill>
                <a:latin typeface="Arial Narrow"/>
              </a:rPr>
              <a:t>algo que ya había pasado y no podía cambiarse.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95640" y="5086440"/>
            <a:ext cx="514836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 Narrow"/>
              </a:rPr>
              <a:t>Muchas veces pensamos que el perdón es un regalo para el otro, sin darnos cuenta que los </a:t>
            </a:r>
            <a:r>
              <a:rPr b="1" i="1" lang="es-MX" sz="2400" spc="-1" strike="noStrike">
                <a:solidFill>
                  <a:srgbClr val="000000"/>
                </a:solidFill>
                <a:latin typeface="Arial Narrow"/>
              </a:rPr>
              <a:t>primeros</a:t>
            </a:r>
            <a:r>
              <a:rPr b="1" i="1" lang="es-ES" sz="2400" spc="-1" strike="noStrike">
                <a:solidFill>
                  <a:srgbClr val="000000"/>
                </a:solidFill>
                <a:latin typeface="Arial Narrow"/>
              </a:rPr>
              <a:t> beneficiados somos nosotros mis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7076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9280" y="692280"/>
            <a:ext cx="3419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 Narrow"/>
              </a:rPr>
              <a:t>Todos tenemos papas pudriéndose en nuestra "mochila" sentim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 Narrow"/>
              </a:rPr>
              <a:t>La falta de perdón, es como un veneno que tomamos diariamente a gotas, pero que finalmente nos termina envenena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59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780000" y="2133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5280" y="425520"/>
            <a:ext cx="8424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 Narrow"/>
              </a:rPr>
              <a:t>Muchas veces </a:t>
            </a:r>
            <a:r>
              <a:rPr b="1" i="1" lang="es-MX" sz="2400" spc="-1" strike="noStrike">
                <a:solidFill>
                  <a:srgbClr val="000000"/>
                </a:solidFill>
                <a:latin typeface="Arial Narrow"/>
              </a:rPr>
              <a:t>al primero</a:t>
            </a:r>
            <a:r>
              <a:rPr b="1" i="1" lang="es-ES" sz="2400" spc="-1" strike="noStrike">
                <a:solidFill>
                  <a:srgbClr val="000000"/>
                </a:solidFill>
                <a:latin typeface="Arial Narrow"/>
              </a:rPr>
              <a:t> que tienes que perdonar es a ti mismo, por todas las cosas que no fueron </a:t>
            </a:r>
            <a:r>
              <a:rPr b="1" i="1" lang="es-MX" sz="2400" spc="-1" strike="noStrike">
                <a:solidFill>
                  <a:srgbClr val="000000"/>
                </a:solidFill>
                <a:latin typeface="Arial Narrow"/>
              </a:rPr>
              <a:t>como hubieras querido que fuesen</a:t>
            </a:r>
            <a:r>
              <a:rPr b="1" i="1" lang="es-ES" sz="24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201600"/>
            <a:ext cx="9144000" cy="7059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476280"/>
            <a:ext cx="80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 Narrow"/>
              </a:rPr>
              <a:t>El perdón nos libera de ataduras que nos amargan el alma y enferman el cuerp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557360"/>
            <a:ext cx="604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 Narrow"/>
              </a:rPr>
              <a:t>No significa que estés de acuerdo con lo que pasó, ni que lo aprueb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2637000"/>
            <a:ext cx="54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 Narrow"/>
              </a:rPr>
              <a:t>Perdonar no significa dejar de darle importancia a lo que sucedió, ni darle la razón a alguien que te lastim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4076640"/>
            <a:ext cx="5473440" cy="21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 Narrow"/>
              </a:rPr>
              <a:t>Simplemente significa, dejar de lado aquellos pensamientos negativos que nos causaron dolor o eno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i="1" lang="es-ES" sz="2400" spc="-1" strike="noStrike">
                <a:solidFill>
                  <a:srgbClr val="ffff00"/>
                </a:solidFill>
                <a:latin typeface="Arial Narrow"/>
              </a:rPr>
              <a:t>El perdón se basa en la aceptación de lo que pas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233280"/>
            <a:ext cx="9144000" cy="6624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356000" y="1989000"/>
            <a:ext cx="4535640" cy="4480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0066ff"/>
                </a:solidFill>
                <a:latin typeface="Marigold"/>
              </a:rPr>
              <a:t>El perdón rompe las cadenas y lo hace verdaderamente lib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92160"/>
            <a:ext cx="9144000" cy="7042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-2776680" y="4581360"/>
            <a:ext cx="147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Marigold"/>
              </a:rPr>
              <a:t>Solamente aquel que es bastante fuerte para perdonar una ofensa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Marigold"/>
              </a:rPr>
              <a:t>sabe amar</a:t>
            </a:r>
            <a:r>
              <a:rPr b="1" i="1" lang="es-ES" sz="2400" spc="-1" strike="noStrike">
                <a:solidFill>
                  <a:srgbClr val="ffff00"/>
                </a:solidFill>
                <a:latin typeface="Marig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                                                           </a:t>
            </a:r>
            <a:r>
              <a:rPr b="1" i="1" lang="es-ES" sz="1800" spc="-1" strike="noStrike">
                <a:solidFill>
                  <a:srgbClr val="ffff00"/>
                </a:solidFill>
                <a:latin typeface="Times New Roman"/>
              </a:rPr>
              <a:t>Gandh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00" y="1052640"/>
            <a:ext cx="89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ffff"/>
                </a:solidFill>
                <a:latin typeface="Monotype Corsiva"/>
              </a:rPr>
              <a:t>¡DECÍDETE HOY MISMO A PERDONA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997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perdonar es el valor de los valient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4:57:35Z</dcterms:created>
  <dc:creator>User</dc:creator>
  <dc:description/>
  <dc:language>en-US</dc:language>
  <cp:lastModifiedBy>Dr. Betulio  Vergel</cp:lastModifiedBy>
  <dcterms:modified xsi:type="dcterms:W3CDTF">2007-03-27T13:55:49Z</dcterms:modified>
  <cp:revision>27</cp:revision>
  <dc:subject/>
  <dc:title>Diapositiva 1</dc:title>
</cp:coreProperties>
</file>