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19%20romance%20deux%20vois-0001.wav" ContentType="audio/x-wav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AB5-1836-4B52-8775-8744F3CC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2D7-393D-4754-AAFC-BA7A3A0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69D-BF19-46FC-88B0-52FE14EF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4C6-4E0C-44E3-A709-F305C58B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A87-9B48-4C61-AA63-36C72A11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3BEA-DD7E-4966-8213-C58A5223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20CB-190C-4520-9960-0963BE6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D52-0208-4815-9BAC-7032F0E9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D134-B6A4-4814-A76A-875F299E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633-70C1-47DD-889F-784E4C6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908-0CDB-4F63-8D01-9885E55E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376-01D8-4A8B-9993-341EE41E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3D68-3440-4E9F-B2B7-F3CBAAC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8EB-E973-4145-BAB1-EF218BD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272-C807-42CE-97B7-91DD65A7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B227-A666-4254-B80B-9F3FCC5D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723-D851-450C-A33E-4AA919EE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54C3-2E38-49C6-B70C-4F8FAA7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A4D4-88ED-4743-A177-3AB081F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E06E-B59C-4E79-AA51-3168D27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58E1-3C2B-4F17-9F58-780AB63D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DD8B-A30C-4B66-8158-FE5D1239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0AD-BC01-450B-9FD0-45D92633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2D8E-E48A-4312-A7FF-4DFB01D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C2AA-F4D7-4C4C-99D1-DE1D5FB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DC9F-2847-4309-AB47-274AA3E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7ECB-FC95-42FE-ADBE-B014CDA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5906-8A5B-42E1-82ED-8F9EFA7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AD07-16BF-4340-AD1F-633418CB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C1CA-BCCD-491B-BB11-848B5797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D8AB-050D-468B-BC8A-94DD8D06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22E8-575F-4D7F-B0F2-D64E39DF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B2FD-9F2B-4B74-92C7-1F4459E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8B7-65F1-4DFC-8A08-F1A6F06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1FEC-1892-435F-B91C-A6E6F22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D03C-6970-4038-A4C0-9BFE02B1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9FDF-6A61-41E2-98B7-9675D9EE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D0AF-DF4D-41BC-8792-2B3D702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73D3-6B5A-4A4B-A28D-6826B28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3C82-9E1D-4AF8-ACAE-B3C8AE3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6B3C-2F32-4E9D-8660-03E6E3E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4314-304C-49D2-8288-A0B934B1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2BBA-EE5C-430A-9975-CB7883C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F851-1B0E-4952-ABB7-C2BC4FC4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C7E-60BC-4649-98A4-AEE66629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AB29-3667-4840-A556-6ED6F43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3B75-2A7A-40CE-A315-634E696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8A7F-195C-491D-B9F5-694B410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93EB-5C07-4832-9C8F-DB229063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5EB9-37D0-4304-926A-E88156A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B0D3-A170-4585-9B02-DDA6DAD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5CC8-A252-417A-82A0-D798633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4071-6C0D-42B5-A729-2E6BA9E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DF46B-51C0-4BCA-9166-4E0023A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B76E-E321-4A63-8A3C-45AACD64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1F5-06F8-4012-9381-BCB77E83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F3D9-D30C-44DE-A154-885B026D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48A9-01E7-4D82-8BB5-31934E25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6086-51A7-4662-BCC5-C9585BC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A1E2-ABBE-4707-BB18-3F8DBC5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4EC8-DB8F-4C16-8027-A5CD8CEE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A65A-F60B-46A6-A23E-D9B2561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6317-3AEE-4F42-BD6A-A88C37D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D4FA-508D-48B2-8F2D-4D28BA1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4C36-3788-48D2-BB11-BE8EA8C3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1BDF-A28A-4EBA-B93F-8B3E491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468-DC0C-461A-93E5-E748F0F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3417-B111-434A-924C-0B02597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0E54-9965-47E4-9408-BE7511B3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9107-61DB-431C-9EF6-86B44E09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D838-7C62-4394-8A8D-5D9AF3EB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AF29-0F40-407A-B0B3-2329ECD8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6ECA-C361-4DB8-8E1C-66ECEE2A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C83A-3FF1-4729-8356-6E4CD1CA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AADF6-FAB6-481A-8ED0-4B6BFF3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A8507-BA13-45DF-B46A-D7BEFB3A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291B-8B24-4816-99C2-0EE885F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B5B-DB95-4070-8364-BB77909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32C1-1C0C-4228-9143-09E03CE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C82C-6748-48E6-9F21-DBB1845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B044-10D6-4746-9B66-791FF43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3D80-6388-4703-9013-E611CECF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EDBE-36AA-44E1-A2EE-DDBAB1F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F0194-ADD3-4635-9927-EFEA5C5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8643C-B625-4251-8C8D-2DBFF572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5C68-9DC6-4636-BEF0-B0636307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5FABA-ABE9-4C65-8B72-5C8F5087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F9B3-CF9B-4E72-B99F-6DB8893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D05-92CD-43BE-97A8-155B9EC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F201-DA35-4E63-8330-85F0878F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81AB-6900-4FD3-9D21-B9144DC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C10E-1F65-417A-9AE1-9540851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FF3F-D851-4C9E-8797-A9E7A16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44A4-D398-4B54-868E-2395936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DD815-E52D-41BF-AF16-42524EFE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58EA9-33F1-45EF-BC0E-14A24535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A206-319A-4DCE-A2B8-9EC5FB5944D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154-39CF-43CF-A3E3-B256E63CB7F0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006-3401-4F34-9A34-D87FBEEFEF6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42C8-6854-43BE-8C1A-2DB820D8BC1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631-1DD1-4F9A-8E85-709374A177E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92B-8C5E-467E-848F-769EC2E37E5A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99C-A1DA-4E85-9E5F-14BD7C641346}" type="slidenum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DD9E-CEE9-4859-B39E-997809478826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9%20romance%20deux%20vois-0001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3 Rectángulo"/>
          <p:cNvSpPr/>
          <p:nvPr/>
        </p:nvSpPr>
        <p:spPr>
          <a:xfrm>
            <a:off x="250920" y="476280"/>
            <a:ext cx="8715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a paciencia es un árbol de raíz amarga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pero de frutos muy dulc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00"/>
                </a:solidFill>
                <a:latin typeface="Century Gothic"/>
              </a:rPr>
              <a:t>Yo, y no me acuerdo quién.</a:t>
            </a: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2781360"/>
            <a:ext cx="642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palabras de un genio, no pueden dejar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eerse con mucha atención, para lo cual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 preparado especialmente en  párrafos 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un fondo musical para acompaña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beso… el beso de cada vez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hasta la próxim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592440" y="5084640"/>
            <a:ext cx="1627200" cy="1549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713840" y="638172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Arial"/>
              </a:rPr>
              <a:t>2001 - 2011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47640" y="1264680"/>
            <a:ext cx="61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 importante es seguir creciend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como pasar por distintas estacion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da una hay que bajarse y tomar el otro tren (son las crisis evolutivas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os se bajan en una y ahí se quedan, no siguen en el viaje de la vi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86120" y="755280"/>
            <a:ext cx="836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centración urbana genera la familia nuclear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pá, mamá y uno o dos hijos, donde es tan pequeñ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espacio, que no cabe el abuelo, va al geriátric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tienen que mandar al nieto a la guarderí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o ¿quiénes son los mejores cuidadores para el nieto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abuelo y la abuel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Qué mejor maestra jardinera que un abuelo o una abuela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mbos están fuera de la producción, fuera de la tensió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cesaria para la lucha cotidiana, ambos están en el mun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 imaginario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06560" y="1309680"/>
            <a:ext cx="894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 del Estero el tata viejo es un personaje muy importa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el que sabe la historia de la familia, transmite la información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güelos cuidan al gurí, las dos puntas de la vida se complementa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nuestro país la vejez está desvalorizada, los viejos son marginado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ambio social fue tan brusco que su experiencia habla de una Argent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perdimos, si terminan en el geriátrico, los tratan como chicos, los retan y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humillan, se deprimen y aparecen todas las enfermedades que tienen qu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r con las bajas defens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97960" y="1050840"/>
            <a:ext cx="8262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mbio, en las sociedades más sanas, esta es una época muy ric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que es la de la reflexión, que es parecida al juego y la creatividad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o ya después de haber visto la película entera y haberla entendido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última etapa es lo que se llama la senectud, que a veces tiene u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terioro grave, neuronal, de las funciones ment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todas maneras, el final del proceso de la vid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 la muerte, es un tema negado en nuestra cultur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final, la agonía, a veces tiene características traumática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algunos partos, al inici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humanos somos todos de la tribu de los "Uterumbas"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que vamos del útero a la tumb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2800" y="1187640"/>
            <a:ext cx="80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 estar en cualquier edad, incluso setent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henta años, y el que tiene un proyecto se alej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a mue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o lo vi en Pichón anciano, él decía: </a:t>
            </a: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“la muer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está tan lejos como grande sea la esperanza qu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construimos”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tema es la construcción de la esperanz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Cómo la podes construir?, si esa historia tiene senti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se arroja adelante como esperanz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1 CuadroTexto"/>
          <p:cNvSpPr/>
          <p:nvPr/>
        </p:nvSpPr>
        <p:spPr>
          <a:xfrm>
            <a:off x="1116000" y="549360"/>
            <a:ext cx="6951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Hoy es </a:t>
            </a:r>
            <a:fld id="{9A5CCA3C-2AE6-45E2-867D-A67134674CFC}" type="datetime2"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viernes, 31 de julio de 2026</a:t>
            </a:fld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Son las </a:t>
            </a:r>
            <a:fld id="{85881662-51FD-4361-8235-A2F0B0B4CB00}" type="datetime12"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04:58 p. m.</a:t>
            </a:fld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50922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fredo Moffat - Psicólogo - “Terapia de Crisis. La emergencia psicológica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la colaboración en la edición especial de </a:t>
            </a:r>
            <a:r>
              <a:rPr b="0" lang="es-ES" sz="1800" spc="-1" strike="noStrike">
                <a:solidFill>
                  <a:srgbClr val="cccc00"/>
                </a:solidFill>
                <a:latin typeface="Arial"/>
              </a:rPr>
              <a:t>GuilleJo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ara América.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259704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dres que no le tienen miedo a la muer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en hijos que no le tienen miedo a la vi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 rot="21175200">
            <a:off x="8100720" y="5733720"/>
            <a:ext cx="647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826000"/>
                </a:gradFill>
                <a:latin typeface="Impact"/>
              </a:rPr>
              <a:t>f i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82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56280" y="201240"/>
            <a:ext cx="7832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" La muerte está tan lejos como grande sea la esperanza que construimos”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tema es la construcción de la esperanz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fredo Moffat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sicólogo social, psicodramatista y arquitecto argentino. Terapista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isis. Nació en 1934 y es considerado uno de los discípulos predilectos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rique Pichón Riviere. Participó en la fundación de la Escuela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sicología Argentin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163680" cy="3294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H="1">
            <a:off x="5148360" y="1197000"/>
            <a:ext cx="287280" cy="57636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16000" y="1279440"/>
            <a:ext cx="712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egación de la edad es una tonterí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 tenía miedo a esta etapa que empieza después de los sesenta año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hora, que más o menos estoy instalado en ella (tengo setenta y tres años), me doy cuenta que se me ha simplificado la vida, y la mayor parte de las cosas que antes me preocupaban, ahora creo que son boludeces, pero quedó lo esencial: el amor, los hijos, la justicia social, la solidaridad (y también el dulce de leche y la crema chantilly…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9640" y="15242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edad no está tan mal, el tema de la muerte siempre angustia, pero yo reía que iba a ser peor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tontería hacerse el pendejo, fíjense s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viera que ir al gimnasio, sería todo un laburo y no podría gozar de esto de hacerme el filósof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cumplí sesenta años hice una fiesta en la Escuela. Y dije: tengo dos caminos, o me convierto en un viejo sabio, o en un viejo pelotud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 último me pareció aburrid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no asumís la edad, no gozás ni la una ni la otr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30000" y="1122840"/>
            <a:ext cx="59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temor a la vejez hace que la ocultemo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sea considerada como algo indign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ocultar en un geriátric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 ya no servimos má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12720" y="939240"/>
            <a:ext cx="782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uve en Estados Unidos había una actriz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había sido muy famosa, Bette Davis, que ya esta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y viejita y tenía el rostro con las arrugas del tiem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ra conductora y tenía un programa muy respetad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que podía decir cosas sabias, porque esta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ómoda en esa edad, era creíb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8760" y="1005480"/>
            <a:ext cx="798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én en Italia, estando en una plaza de Rom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de ver que estaban todos los viejit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los respetados nonos) jugando a las cartas y toman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zano, con gran dignidad, y la gente iba a preguntarl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a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o en la Argentina, cuando llegás a esta etap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 meten en un geriátrico y no aprovechan la histori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 necesaria para construir el futur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02120" y="639000"/>
            <a:ext cx="827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Amazonas no hay jubilación de viejo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 fui hace muchos años, de aventurero, con mochila 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olsa de dormir, y ahí estaban los viejitos de l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ibu mirando el río Xingú que desemboca en el Amazona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pensé: "Ahí está la biblioteca nacional..."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o sabía de partos, otro de can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tro de plantas medicinale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ellos los cuidaban much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 eran los transmisores de la sabidurí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había transmisión escrita (se moría el de las canoa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tenían que cruzar nadando…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nían una dignidad como los que vi en la Ind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lí, en el proceso de vida, se respetan todas las etapa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2520" y="1035000"/>
            <a:ext cx="895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países de la cultura occidental, tecnológica, donde lo que no 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uevo hay que tirarlo, lo mismo se hace con los seres humanos, y eso es un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ntería. En la cultura norteamericana todos tienen que ser jóvenes y lindo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y una etapa de la vida en que uno es niño, otra en que es joven, otr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de es adulto y otra donde es viej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sotros atravesamos las cuatro etapas de la vida, si negamos un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mos a tener problema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se nos niega la infancia vamos a perder la creatividad, si se nos reprimió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adolescencia, vamos a perder la rebeldí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8:04:45Z</dcterms:created>
  <dc:creator>Artoro</dc:creator>
  <dc:description/>
  <dc:language>en-US</dc:language>
  <cp:lastModifiedBy>Artoro</cp:lastModifiedBy>
  <dcterms:modified xsi:type="dcterms:W3CDTF">2011-10-15T08:16:15Z</dcterms:modified>
  <cp:revision>2</cp:revision>
  <dc:subject/>
  <dc:title>Diapositiva 1</dc:title>
</cp:coreProperties>
</file>