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19%20romance%20deux%20vois-0001.wav" ContentType="audio/x-wav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BCF-3E8D-48E8-AA40-97661210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4D8-BA86-4701-A8B9-0EB73AB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AEA-B955-46F1-9B65-D8653010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4DB-DA07-4E0F-B311-6E89BF34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24E-2EB0-49A4-ADE8-F733071E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44A-4867-4ECD-A20C-3820E55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6FA-2F5D-4B3F-8A6A-0A525EB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D12C-842E-45F2-86D6-CEE1E0E2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6EF5-8CBB-44FD-99F6-88B2FB9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CA6C-4648-4635-B47D-4692F5B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2D1E-3D9F-41E4-B68B-FDE4DDE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F2F-4777-45CF-BF1D-6BD52A3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D69-2167-40CC-ABE6-B9ADDB2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621-1F7C-4B73-B87F-B80B80E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083A-56E2-4667-BD9F-C1A25C11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6A3C-6911-48B9-A264-944CF7A7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37C3-1684-4574-843E-D3E110AA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51D6-883F-4F9D-AD6C-8094B927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66C0-5621-4636-8B52-65CDACA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F9FC-2B80-4C3B-949E-EA6968BC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A52D-093C-490C-8D5C-9126CF6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2DB1-CBDA-4E2C-A789-59F1AB0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93E-4B81-4076-BF7C-E0AC0DE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0DD5-A705-4E4D-A92A-CC40D0F8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AE26-B8BD-4E52-974B-350E905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6A47-8D54-48D3-870E-732FEE9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B140-9AFC-42A6-8ADC-114C0031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4FBF-CC54-4FD3-B7D5-07482E32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E020-6BFD-4723-9941-D92338C1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B5F9-4962-45A1-A46D-AD69749E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681D-7133-47A0-81F3-03E74EE2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D013-FA9F-431F-9AC6-C58285C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80D4-B3EF-4E3E-831E-BD41F4A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A75-A791-49CD-9149-1C84C9EB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F5FA-AA7F-41E1-9EC4-4F90B347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D523-E04E-4CB9-9CA8-262B31F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84A9-8E2E-4EE3-B005-55B0619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7C0F-97E8-4238-92EB-033CE52F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82FF-CDD0-4040-8A1C-33E73A5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1B62-9E90-452F-9C02-81A9B5CE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C130-03B7-4866-9C5F-A602775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D825-C731-498A-8071-663016E7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3A75-5FEA-4BCC-9E3B-AC747941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E29D-C72F-4C9E-BC4E-02CC84B0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F64-F957-4F91-8627-C5CA8675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4EA2E-7EC1-4DAC-9EE9-CACBAB8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F0D4-566B-43A5-B62E-AD55733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916A-2E37-4110-AB8F-783BD05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68C1-5B3E-460B-9461-FE0F67A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65E3-0B34-4A09-9D92-7CDC725D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082A-F90F-4DC7-B11F-F60CE0DA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2D5A-A503-4E98-B3F4-AAEF6E8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0C6C-2A8C-4C0F-ACF2-F416E80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C42F-8533-4513-97FC-BEC5FD8B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4D83-2D0A-4A09-9581-FA140763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2A4-FEAC-469B-BC77-B3DC807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156D-D1A6-4A79-9477-C6D55EBE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714F-C92F-4CF2-9969-A70A9E01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1FAC-78BB-4F85-8ACF-78C09F6A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C3CC8-0F50-4736-B134-026CEC17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500D-B3A2-4E09-BDCB-08EBA50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E311-A9CD-4006-9095-D6AA1F2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3797-AA33-41D2-8FD9-2CAC6A9B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1B27E-7923-49A8-B5A7-950AF11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65B9-18F1-4DF7-BED9-B4F13CB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67457-FBEB-404B-BB11-63A37A0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F6F-760A-4E53-8BFB-E41562A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066D5-13B8-4B54-9E9F-AF3EA8B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7967-5E0E-4960-90CC-C7C0C76E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276D-73FF-47EB-BA20-ECC8F0D6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41B2-17DB-42F8-B8D7-34DA4C97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2EAA3-783F-47AB-8759-98394EC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3E7D-C14A-4509-A607-C373F60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CCCA-3684-4A9F-94FA-A5B0D01A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8EE67-6767-48B7-AB16-7289377A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E4AE-61FC-4013-8849-98BCE92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E2A7-699C-46C8-8194-66FB9D5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A44-8F26-4B9A-B7F5-0F4B3D6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828F1-24CA-46E1-8B9F-6E160F6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43FB-7C24-4F27-A318-8CF6DC4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7F27-3D67-47A6-B4A8-8C0013C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0DA0-38FD-4432-8061-13230343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DC23-2908-41BA-988D-5650716F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F0E18-522E-41AA-9319-0BB7B0D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AD2E0-FE89-4C4B-BF3A-A6DFEED6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82CF-E248-4326-BAC1-6195846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01C3-2070-4F91-BEF3-969BC330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F577A-4EC5-458B-BB35-DE978E4B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918-8219-4AE3-A538-50AF2D4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853F-8507-48AE-9AF1-5098E7A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A3F9C-2D8B-4822-B55D-1FD0366E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2EF6B-98EC-4500-9187-0B749060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2D1F-88E4-4D09-A029-46A1750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41F3-E934-420A-BCD2-E838F726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DAC9-D27E-4C2F-9A81-9A588B45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D3F31-2338-40C9-A61D-92C3B721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D10-62E8-449E-8FE3-ED8371553A2A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A5E-A942-49D0-AC89-9ED52A7E219A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A6E-C1B7-405E-85CE-E61D15D6099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33E-03BA-4E95-925C-7FED594DC36C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6F26-038A-402A-A852-06FEC228D56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B8EE-7ACE-44B8-8BA1-635FD1A74EC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4A7-718F-4B78-AC93-2143FBF25BB5}" type="slidenum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454-A462-457F-90F4-708C8D1E920F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9%20romance%20deux%20vois-0001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3 Rectángulo"/>
          <p:cNvSpPr/>
          <p:nvPr/>
        </p:nvSpPr>
        <p:spPr>
          <a:xfrm>
            <a:off x="250920" y="476280"/>
            <a:ext cx="8715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La paciencia es un árbol de raíz amarga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pero de frutos muy dulc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00"/>
                </a:solidFill>
                <a:latin typeface="Century Gothic"/>
              </a:rPr>
              <a:t>Yo, y no me acuerdo quién.</a:t>
            </a: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2781360"/>
            <a:ext cx="642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palabras de un genio, no pueden dejar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eerse con mucha atención, para lo cual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 preparado especialmente en  párrafos 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un fondo musical para acompaña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beso… el beso de cada vez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hasta la próxim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592440" y="5084640"/>
            <a:ext cx="1627200" cy="1549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713840" y="638172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Arial"/>
              </a:rPr>
              <a:t>2001 - 2011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47640" y="1264680"/>
            <a:ext cx="61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 importante es seguir creciend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como pasar por distintas estacion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da una hay que bajarse y tomar el otro tren (son las crisis evolutivas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os se bajan en una y ahí se quedan, no siguen en el viaje de la vi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86120" y="755280"/>
            <a:ext cx="836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centración urbana genera la familia nuclear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pá, mamá y uno o dos hijos, donde es tan pequeñ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espacio, que no cabe el abuelo, va al geriátric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tienen que mandar al nieto a la guarderí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o ¿quiénes son los mejores cuidadores para el nieto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abuelo y la abuel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Qué mejor maestra jardinera que un abuelo o una abuela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mbos están fuera de la producción, fuera de la tensió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cesaria para la lucha cotidiana, ambos están en el mun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o imaginario..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06560" y="1309680"/>
            <a:ext cx="894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 del Estero el tata viejo es un personaje muy importa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el que sabe la historia de la familia, transmite la información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güelos cuidan al gurí, las dos puntas de la vida se complementa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nuestro país la vejez está desvalorizada, los viejos son marginado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ambio social fue tan brusco que su experiencia habla de una Argent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perdimos, si terminan en el geriátrico, los tratan como chicos, los retan y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humillan, se deprimen y aparecen todas las enfermedades que tienen qu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r con las bajas defens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97960" y="1050840"/>
            <a:ext cx="8262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mbio, en las sociedades más sanas, esta es una época muy ric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que es la de la reflexión, que es parecida al juego y la creatividad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o ya después de haber visto la película entera y haberla entendido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última etapa es lo que se llama la senectud, que a veces tiene un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terioro grave, neuronal, de las funciones ment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 todas maneras, el final del proceso de la vid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 la muerte, es un tema negado en nuestra cultur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final, la agonía, a veces tiene características traumáticas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algunos partos, al inici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humanos somos todos de la tribu de los "Uterumbas"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que vamos del útero a la tumb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2800" y="1187640"/>
            <a:ext cx="80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 estar en cualquier edad, incluso setent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henta años, y el que tiene un proyecto se alej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la muer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o lo vi en Pichón anciano, él decía: </a:t>
            </a: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“la muer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está tan lejos como grande sea la esperanza qu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construimos”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l tema es la construcción de la esperanz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Cómo la podes construir?, si esa historia tiene senti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se arroja adelante como esperanz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1 CuadroTexto"/>
          <p:cNvSpPr/>
          <p:nvPr/>
        </p:nvSpPr>
        <p:spPr>
          <a:xfrm>
            <a:off x="1116000" y="549360"/>
            <a:ext cx="69516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Hoy es </a:t>
            </a:r>
            <a:fld id="{5CA4663D-ACAE-4CFA-97E8-E944178FBF68}" type="datetime2"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miércoles, 29 de julio de 2026</a:t>
            </a:fld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Son las </a:t>
            </a:r>
            <a:fld id="{D14063D7-71F2-4983-A78D-4E3AD214FF53}" type="datetime12">
              <a:rPr b="1" lang="es-AR" sz="2000" spc="-1" strike="noStrike">
                <a:solidFill>
                  <a:srgbClr val="cccc00"/>
                </a:solidFill>
                <a:latin typeface="Century Gothic"/>
              </a:rPr>
              <a:t>07:33 a. m.</a:t>
            </a:fld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50922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fredo Moffat - Psicólogo - “Terapia de Crisis. La emergencia psicológica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la colaboración en la edición especial de </a:t>
            </a:r>
            <a:r>
              <a:rPr b="0" lang="es-ES" sz="1800" spc="-1" strike="noStrike">
                <a:solidFill>
                  <a:srgbClr val="cccc00"/>
                </a:solidFill>
                <a:latin typeface="Arial"/>
              </a:rPr>
              <a:t>GuilleJo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ara América. 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259704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dres que no le tienen miedo a la muert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en hijos que no le tienen miedo a la vi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 rot="21175200">
            <a:off x="8100720" y="5733720"/>
            <a:ext cx="647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826000"/>
                </a:gradFill>
                <a:latin typeface="Impact"/>
              </a:rPr>
              <a:t>f i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82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56280" y="201240"/>
            <a:ext cx="7832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" La muerte está tan lejos como grande sea la esperanza que construimos”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tema es la construcción de la esperanz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fredo Moffat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sicólogo social, psicodramatista y arquitecto argentino. Terapista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isis. Nació en 1934 y es considerado uno de los discípulos predilectos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rique Pichón Riviere. Participó en la fundación de la Escuela de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sicología Argentin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163680" cy="3294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H="1">
            <a:off x="5148360" y="1197000"/>
            <a:ext cx="287280" cy="576360"/>
          </a:xfrm>
          <a:prstGeom prst="line">
            <a:avLst/>
          </a:prstGeom>
          <a:ln w="381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16000" y="1279440"/>
            <a:ext cx="712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egación de la edad es una tonterí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 tenía miedo a esta etapa que empieza después de los sesenta año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hora, que más o menos estoy instalado en ella (tengo setenta y tres años), me doy cuenta que se me ha simplificado la vida, y la mayor parte de las cosas que antes me preocupaban, ahora creo que son boludeces, pero quedó lo esencial: el amor, los hijos, la justicia social, la solidaridad (y también el dulce de leche y la crema chantilly…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9640" y="15242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edad no está tan mal, el tema de la muerte siempre angustia, pero yo reía que iba a ser peor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a tontería hacerse el pendejo, fíjense s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viera que ir al gimnasio, sería todo un laburo y no podría gozar de esto de hacerme el filósof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cumplí sesenta años hice una fiesta en la Escuela. Y dije: tengo dos caminos, o me convierto en un viejo sabio, o en un viejo pelotud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 último me pareció aburrid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no asumís la edad, no gozás ni la una ni la otr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30000" y="1122840"/>
            <a:ext cx="59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temor a la vejez hace que la ocultemo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sea considerada como algo indign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ocultar en un geriátric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 ya no servimos má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12720" y="939240"/>
            <a:ext cx="782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uve en Estados Unidos había una actriz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había sido muy famosa, Bette Davis, que ya esta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y viejita y tenía el rostro con las arrugas del tiem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ra conductora y tenía un programa muy respetado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que podía decir cosas sabias, porque esta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ómoda en esa edad, era creíb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8760" y="1005480"/>
            <a:ext cx="798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mbién en Italia, estando en una plaza de Rom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de ver que estaban todos los viejito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los respetados nonos) jugando a las cartas y tomand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zano, con gran dignidad, y la gente iba a preguntarl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a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o en la Argentina, cuando llegás a esta etap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 meten en un geriátrico y no aprovechan la histori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 necesaria para construir el futur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02120" y="639000"/>
            <a:ext cx="827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Amazonas no hay jubilación de viejo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 fui hace muchos años, de aventurero, con mochila 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olsa de dormir, y ahí estaban los viejitos de la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ibu mirando el río Xingú que desemboca en el Amazona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pensé: "Ahí está la biblioteca nacional..."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o sabía de partos, otro de canoa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tro de plantas medicinales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ellos los cuidaban mucho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 eran los transmisores de la sabidurí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había transmisión escrita (se moría el de las canoa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 tenían que cruzar nadando…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nían una dignidad como los que vi en la Ind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lí, en el proceso de vida, se respetan todas las etapa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2520" y="1035000"/>
            <a:ext cx="895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países de la cultura occidental, tecnológica, donde lo que no e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uevo hay que tirarlo, lo mismo se hace con los seres humanos, y eso es un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ntería. En la cultura norteamericana todos tienen que ser jóvenes y lindo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y una etapa de la vida en que uno es niño, otra en que es joven, otra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de es adulto y otra donde es viej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sotros atravesamos las cuatro etapas de la vida, si negamos un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amos a tener problema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se nos niega la infancia vamos a perder la creatividad, si se nos reprimió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adolescencia, vamos a perder la rebeldí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8:04:45Z</dcterms:created>
  <dc:creator>Artoro</dc:creator>
  <dc:description/>
  <dc:language>en-US</dc:language>
  <cp:lastModifiedBy>Artoro</cp:lastModifiedBy>
  <dcterms:modified xsi:type="dcterms:W3CDTF">2011-10-15T08:16:15Z</dcterms:modified>
  <cp:revision>2</cp:revision>
  <dc:subject/>
  <dc:title>Diapositiva 1</dc:title>
</cp:coreProperties>
</file>