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Andre_Rieu-danse_avec_les_loups_(theme_principal).wav" ContentType="audio/x-wav"/>
  <Override PartName="/ppt/media/image3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D9C3-1B5A-4033-978A-52087831AA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6DC-5356-4FA1-A360-EC1D1E2A09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726F-7E46-4ACD-A41C-57854C9A58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2499-9CEB-4B7F-9E4F-1C08425C0B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E111-4E1C-4D76-B34C-287D595561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3B5C-494B-4F75-9F17-9CAC9B13B8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1FE7-AAA5-40EA-BA82-1D2153C901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478A-BED7-41FA-9D9E-72DD973896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887A-671C-4FC3-977E-0A9ED23A13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E0D6-B057-4E8C-A404-BA8A0CA10D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911C-FD44-4E9A-8C3D-5984F7962D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9168-0713-4159-8461-9C853B3DFE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6395-79FA-4C72-9DCF-3020E81DCD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E5E9-0DF3-4B23-BAD8-38A164C71E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D800-D8D9-4083-BA64-E3B81ED7D6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E368-2EE1-4FD9-BB63-346CF47431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3B63-90E9-48F2-B89C-E44BC3EE02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4E5-74CD-4809-B3F8-C21DD6B3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015-8E09-44E2-8696-F0698851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2E8-03DB-4760-8364-1A23DAC9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22E-A6EC-4D40-A876-0CE8366C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60C-0917-4827-A9B8-F46A3A41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ED5-2E51-44C6-8589-CA877ACD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DAB-87A9-47C6-871F-B1A333E8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434-FAE0-4C38-92AF-61919903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487-5671-4613-B4DE-1D1071FA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75D-917B-431D-A3C4-D2035453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83A-3B75-46C2-8235-B1803BC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7D1-B3AB-4EED-8D07-4B33DC2C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80FF-44B4-4E5A-A07B-6B7B6C6F2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ndre_Rieu-danse_avec_les_loups_(theme_principal)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9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Espace réservé du contenu 3" descr="film7.jpg"/>
          <p:cNvPicPr/>
          <p:nvPr/>
        </p:nvPicPr>
        <p:blipFill>
          <a:blip r:embed="rId1"/>
          <a:stretch/>
        </p:blipFill>
        <p:spPr>
          <a:xfrm>
            <a:off x="-214200" y="0"/>
            <a:ext cx="9572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00040" y="3857760"/>
            <a:ext cx="80726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5" descr=""/>
          <p:cNvPicPr/>
          <p:nvPr/>
        </p:nvPicPr>
        <p:blipFill>
          <a:blip r:embed="rId2"/>
          <a:stretch/>
        </p:blipFill>
        <p:spPr>
          <a:xfrm>
            <a:off x="-19080" y="3638520"/>
            <a:ext cx="8791560" cy="3011400"/>
          </a:xfrm>
          <a:prstGeom prst="rect">
            <a:avLst/>
          </a:prstGeom>
          <a:ln w="0">
            <a:noFill/>
          </a:ln>
        </p:spPr>
      </p:pic>
      <p:sp>
        <p:nvSpPr>
          <p:cNvPr id="52" name="6 CuadroTexto"/>
          <p:cNvSpPr/>
          <p:nvPr/>
        </p:nvSpPr>
        <p:spPr>
          <a:xfrm>
            <a:off x="3186000" y="613080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Arial"/>
              </a:rPr>
              <a:t>Défilement 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 thruBlk="true"/>
    <p:sndAc>
      <p:stSnd>
        <p:snd r:embed="rId3" name="Andre_Rieu-danse_avec_les_loups_(theme_principal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3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Espace réservé du contenu 3" descr="fond-ecran-11469,loups [640x480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Image 5" descr="487-Loups153-57682 [640x480].jpg"/>
          <p:cNvPicPr/>
          <p:nvPr/>
        </p:nvPicPr>
        <p:blipFill>
          <a:blip r:embed="rId2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Image 6" descr="fond-ecran-11430,loups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Espace réservé du contenu 3" descr="aupbernard08 [640x480]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95" name="Image 4" descr="fond-ecran-11409,loups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Image 5" descr="fond-ecran-11409,loups [640x480].jpg"/>
          <p:cNvPicPr/>
          <p:nvPr/>
        </p:nvPicPr>
        <p:blipFill>
          <a:blip r:embed="rId3"/>
          <a:stretch/>
        </p:blipFill>
        <p:spPr>
          <a:xfrm>
            <a:off x="642960" y="482760"/>
            <a:ext cx="7786800" cy="5840280"/>
          </a:xfrm>
          <a:prstGeom prst="rect">
            <a:avLst/>
          </a:prstGeom>
          <a:ln w="0">
            <a:noFill/>
          </a:ln>
        </p:spPr>
      </p:pic>
      <p:pic>
        <p:nvPicPr>
          <p:cNvPr id="97" name="Image 6" descr="fond-ecran-11409,loups [640x480].jpg"/>
          <p:cNvPicPr/>
          <p:nvPr/>
        </p:nvPicPr>
        <p:blipFill>
          <a:blip r:embed="rId4"/>
          <a:stretch/>
        </p:blipFill>
        <p:spPr>
          <a:xfrm>
            <a:off x="1643040" y="1231920"/>
            <a:ext cx="5595840" cy="419724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fond-ecran-11409,loups [640x480].jpg"/>
          <p:cNvPicPr/>
          <p:nvPr/>
        </p:nvPicPr>
        <p:blipFill>
          <a:blip r:embed="rId5"/>
          <a:stretch/>
        </p:blipFill>
        <p:spPr>
          <a:xfrm>
            <a:off x="2286000" y="1677960"/>
            <a:ext cx="4143240" cy="3108240"/>
          </a:xfrm>
          <a:prstGeom prst="rect">
            <a:avLst/>
          </a:prstGeom>
          <a:ln w="0">
            <a:noFill/>
          </a:ln>
        </p:spPr>
      </p:pic>
      <p:pic>
        <p:nvPicPr>
          <p:cNvPr id="99" name="Image 8" descr="fond-ecran-11409,loups [640x480].jpg"/>
          <p:cNvPicPr/>
          <p:nvPr/>
        </p:nvPicPr>
        <p:blipFill>
          <a:blip r:embed="rId6"/>
          <a:stretch/>
        </p:blipFill>
        <p:spPr>
          <a:xfrm>
            <a:off x="3286080" y="2249640"/>
            <a:ext cx="2143080" cy="1608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4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4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3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4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4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4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Espace réservé du contenu 3" descr="fond-ecran-11421,loups [640x480].jpg"/>
          <p:cNvPicPr/>
          <p:nvPr/>
        </p:nvPicPr>
        <p:blipFill>
          <a:blip r:embed="rId1"/>
          <a:stretch/>
        </p:blipFill>
        <p:spPr>
          <a:xfrm>
            <a:off x="-7920" y="-41400"/>
            <a:ext cx="9199440" cy="6899400"/>
          </a:xfrm>
          <a:prstGeom prst="rect">
            <a:avLst/>
          </a:prstGeom>
          <a:ln w="0">
            <a:noFill/>
          </a:ln>
        </p:spPr>
      </p:pic>
      <p:pic>
        <p:nvPicPr>
          <p:cNvPr id="102" name="Image 4" descr="fond-ecran-11424,loups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Image 6" descr="fond-ecran-11405,loups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Espace réservé du contenu 3" descr="fond-ecran-11469,loups [640x480].jpg"/>
          <p:cNvPicPr/>
          <p:nvPr/>
        </p:nvPicPr>
        <p:blipFill>
          <a:blip r:embed="rId1"/>
          <a:stretch/>
        </p:blipFill>
        <p:spPr>
          <a:xfrm>
            <a:off x="-7920" y="-41400"/>
            <a:ext cx="9199440" cy="6899400"/>
          </a:xfrm>
          <a:prstGeom prst="rect">
            <a:avLst/>
          </a:prstGeom>
          <a:ln w="0">
            <a:noFill/>
          </a:ln>
        </p:spPr>
      </p:pic>
      <p:pic>
        <p:nvPicPr>
          <p:cNvPr id="106" name="Image 4" descr="fond-ecran-11470,loups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5" descr="Loups_106_1024x768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Espace réservé du contenu 3" descr="487-Loups113-43316 [640x480].jpg"/>
          <p:cNvPicPr/>
          <p:nvPr/>
        </p:nvPicPr>
        <p:blipFill>
          <a:blip r:embed="rId1"/>
          <a:stretch/>
        </p:blipFill>
        <p:spPr>
          <a:xfrm>
            <a:off x="-27000" y="-30240"/>
            <a:ext cx="9221760" cy="6888240"/>
          </a:xfrm>
          <a:prstGeom prst="rect">
            <a:avLst/>
          </a:prstGeom>
          <a:ln w="0">
            <a:noFill/>
          </a:ln>
        </p:spPr>
      </p:pic>
      <p:pic>
        <p:nvPicPr>
          <p:cNvPr id="110" name="Image 4" descr="487-Loups315-60056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Image 6" descr="Loups_09_1024x76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xit" presetID="2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3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Espace réservé du contenu 3" descr="fond-ecran-11417,loups [640x480].jpg"/>
          <p:cNvPicPr/>
          <p:nvPr/>
        </p:nvPicPr>
        <p:blipFill>
          <a:blip r:embed="rId1"/>
          <a:stretch/>
        </p:blipFill>
        <p:spPr>
          <a:xfrm>
            <a:off x="-27000" y="-6480"/>
            <a:ext cx="9190080" cy="6864480"/>
          </a:xfrm>
          <a:prstGeom prst="rect">
            <a:avLst/>
          </a:prstGeom>
          <a:ln w="0">
            <a:noFill/>
          </a:ln>
        </p:spPr>
      </p:pic>
      <p:pic>
        <p:nvPicPr>
          <p:cNvPr id="114" name="Image 4" descr="fond-ecran-11468,loups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Image 5" descr="fond-ecran-11427,loups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Espace réservé du contenu 3" descr="Loups_02_1024x768.jpg"/>
          <p:cNvPicPr/>
          <p:nvPr/>
        </p:nvPicPr>
        <p:blipFill>
          <a:blip r:embed="rId1"/>
          <a:stretch/>
        </p:blipFill>
        <p:spPr>
          <a:xfrm>
            <a:off x="-7920" y="-41400"/>
            <a:ext cx="9199440" cy="689940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4"/>
          <p:cNvSpPr/>
          <p:nvPr/>
        </p:nvSpPr>
        <p:spPr>
          <a:xfrm>
            <a:off x="4357800" y="487188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Edwardian Script ITC"/>
              </a:rPr>
              <a:t>Musique André R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Edwardian Script ITC"/>
              </a:rPr>
              <a:t>Danse avec les L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4"/>
          <p:cNvSpPr/>
          <p:nvPr/>
        </p:nvSpPr>
        <p:spPr>
          <a:xfrm>
            <a:off x="2179800" y="2874960"/>
            <a:ext cx="478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ff"/>
                </a:solidFill>
                <a:latin typeface="Edwardian Script ITC"/>
              </a:rPr>
              <a:t>F i 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7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Espace réservé du contenu 5" descr="487-Loups41-79830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5" name="Image 6" descr="film15.jpg"/>
          <p:cNvPicPr/>
          <p:nvPr/>
        </p:nvPicPr>
        <p:blipFill>
          <a:blip r:embed="rId2"/>
          <a:stretch/>
        </p:blipFill>
        <p:spPr>
          <a:xfrm>
            <a:off x="0" y="0"/>
            <a:ext cx="116506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Image 8" descr="487-Loups101-51249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Espace réservé du contenu 3" descr="fond-ecran-11392,loups [640x480].jpg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59" name="Image 12" descr="487-Loups129-77168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Image 13" descr="487-Loups04-5659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Espace réservé du contenu 5" descr="487-Loups315-60056 [640x480].jpg"/>
          <p:cNvPicPr/>
          <p:nvPr/>
        </p:nvPicPr>
        <p:blipFill>
          <a:blip r:embed="rId1"/>
          <a:stretch/>
        </p:blipFill>
        <p:spPr>
          <a:xfrm>
            <a:off x="-7920" y="11160"/>
            <a:ext cx="9129600" cy="6846840"/>
          </a:xfrm>
          <a:prstGeom prst="rect">
            <a:avLst/>
          </a:prstGeom>
          <a:ln w="0">
            <a:noFill/>
          </a:ln>
        </p:spPr>
      </p:pic>
      <p:pic>
        <p:nvPicPr>
          <p:cNvPr id="63" name="Image 16" descr="487-Loups05-22577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Image 17" descr="487-Loups118-22944 [640x480].jpg"/>
          <p:cNvPicPr/>
          <p:nvPr/>
        </p:nvPicPr>
        <p:blipFill>
          <a:blip r:embed="rId3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65" name="Image 18" descr="fond-ecran-1403,loups [640x480].jpg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Image 20" descr="487-Loups418-64451 [640x480].jpg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434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Espace réservé du contenu 3" descr="fond-ecran-1403,loups [640x480].jpg"/>
          <p:cNvPicPr/>
          <p:nvPr/>
        </p:nvPicPr>
        <p:blipFill>
          <a:blip r:embed="rId1"/>
          <a:stretch/>
        </p:blipFill>
        <p:spPr>
          <a:xfrm>
            <a:off x="-7920" y="-41400"/>
            <a:ext cx="9199440" cy="6899400"/>
          </a:xfrm>
          <a:prstGeom prst="rect">
            <a:avLst/>
          </a:prstGeom>
          <a:ln w="0">
            <a:noFill/>
          </a:ln>
        </p:spPr>
      </p:pic>
      <p:pic>
        <p:nvPicPr>
          <p:cNvPr id="69" name="Image 4" descr="Loups_10_1024x76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Image 5" descr="Loups_04_1024x76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Image 6" descr="Loups_107_1024x768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Espace réservé du contenu 3" descr="Loups_108_1024x768 [640x480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Image 4" descr="Loups_114_1024x768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Image 5" descr="fond-ecran-11400,loups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Espace réservé du contenu 3" descr="487-Loups24-19102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78" name="Image 5" descr="487-Loups134-55925 [640x480].jpg"/>
          <p:cNvPicPr/>
          <p:nvPr/>
        </p:nvPicPr>
        <p:blipFill>
          <a:blip r:embed="rId2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pic>
        <p:nvPicPr>
          <p:cNvPr id="79" name="Image 6" descr="487-Loups151-20146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4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4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Espace réservé du contenu 3" descr="487-Loups130-35243 [640x480].jpg"/>
          <p:cNvPicPr/>
          <p:nvPr/>
        </p:nvPicPr>
        <p:blipFill>
          <a:blip r:embed="rId1"/>
          <a:stretch/>
        </p:blipFill>
        <p:spPr>
          <a:xfrm>
            <a:off x="-27000" y="-6480"/>
            <a:ext cx="9190080" cy="6864480"/>
          </a:xfrm>
          <a:prstGeom prst="rect">
            <a:avLst/>
          </a:prstGeom>
          <a:ln w="0">
            <a:noFill/>
          </a:ln>
        </p:spPr>
      </p:pic>
      <p:pic>
        <p:nvPicPr>
          <p:cNvPr id="82" name="Image 4" descr="Loups_16_1600x12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mage 7" descr="film1.jpg"/>
          <p:cNvPicPr/>
          <p:nvPr/>
        </p:nvPicPr>
        <p:blipFill>
          <a:blip r:embed="rId3"/>
          <a:srcRect l="19357" t="0" r="8370" b="0"/>
          <a:stretch/>
        </p:blipFill>
        <p:spPr>
          <a:xfrm>
            <a:off x="0" y="0"/>
            <a:ext cx="40006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Image 8" descr="fond-ecran1-1442,loups [640x480]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Espace réservé du contenu 3" descr="fond-ecran-11437,loups [640x480].jpg"/>
          <p:cNvPicPr/>
          <p:nvPr/>
        </p:nvPicPr>
        <p:blipFill>
          <a:blip r:embed="rId1"/>
          <a:stretch/>
        </p:blipFill>
        <p:spPr>
          <a:xfrm>
            <a:off x="-7920" y="-41400"/>
            <a:ext cx="9151920" cy="6899400"/>
          </a:xfrm>
          <a:prstGeom prst="rect">
            <a:avLst/>
          </a:prstGeom>
          <a:ln w="0">
            <a:noFill/>
          </a:ln>
        </p:spPr>
      </p:pic>
      <p:pic>
        <p:nvPicPr>
          <p:cNvPr id="87" name="Image 4" descr="fond-ecran-11448,loups [640x480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Image 5" descr="fond-ecran-11439,loups [640x480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2:52:42Z</dcterms:created>
  <dc:creator/>
  <dc:description/>
  <dc:language>en-US</dc:language>
  <cp:lastModifiedBy>Carlos Rangel</cp:lastModifiedBy>
  <dcterms:modified xsi:type="dcterms:W3CDTF">2009-02-04T23:30:22Z</dcterms:modified>
  <cp:revision>29</cp:revision>
  <dc:subject/>
  <dc:title>Loups. </dc:title>
</cp:coreProperties>
</file>