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Andre_Rieu-danse_avec_les_loups_(theme_principal).wav" ContentType="audio/x-wav"/>
  <Override PartName="/ppt/media/image3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D286-E153-4D64-8CA2-C29127FE7A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E71B-AA05-4729-BC0B-5B64644CF0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B5C0-E07D-444E-B453-FD174EBFCD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F9CB-94E6-4219-B8E8-13ADA1F5C4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FE9C-25B0-4267-A891-FF5775DDBA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C3FA-A873-4296-BDD2-AF55CA7070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312F-15F9-4B9F-A60D-CF2C7DB009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5C54-1795-4639-8FF9-24B5E7EF3B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0103-AB38-4058-8666-1F9FF8366D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5D02-1126-4297-BE94-433795C180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1DC4-35B7-48B9-834F-1D5EA50DDC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133B-82B4-41FE-9C60-687685F6DB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A5E4-31D3-4DC9-888E-35868819DE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393D-0435-40F8-ABFD-33EBB2F9D4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3FCA-58CB-4E0D-92F8-3BDE300895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FF52-AAA7-4D1F-89B1-728F1DCE05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F3D8-773A-4933-B61B-B0396FD7F5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4B3-BED3-435F-B01F-D24A6B86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02C5-B95C-4D72-BA47-38353E64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CBB-1347-43F2-A16A-A59D6AB3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D80-CAEF-479D-9A58-6D21FC20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42F1-54A2-4CB9-AB8F-8235ACE5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EE9-2F8E-4C37-AE7C-A59E11A8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B96-9140-458D-A2FD-53FC50D2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5C3-7B2B-46BC-9C3A-660AEA19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6EE-C50C-47C0-A9BC-F5D3B2E0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3F7-202D-4A18-A2B4-BA7266BF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CC9-7A47-4682-ABF8-1DF06EE8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843-EA94-4F00-8B96-818C05DB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58CB-04B9-4F98-B920-A6FC0BC72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ndre_Rieu-danse_avec_les_loups_(theme_principal)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9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Espace réservé du contenu 3" descr="film7.jpg"/>
          <p:cNvPicPr/>
          <p:nvPr/>
        </p:nvPicPr>
        <p:blipFill>
          <a:blip r:embed="rId1"/>
          <a:stretch/>
        </p:blipFill>
        <p:spPr>
          <a:xfrm>
            <a:off x="-214200" y="0"/>
            <a:ext cx="9572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00040" y="3857760"/>
            <a:ext cx="80726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5" descr=""/>
          <p:cNvPicPr/>
          <p:nvPr/>
        </p:nvPicPr>
        <p:blipFill>
          <a:blip r:embed="rId2"/>
          <a:stretch/>
        </p:blipFill>
        <p:spPr>
          <a:xfrm>
            <a:off x="-19080" y="3638520"/>
            <a:ext cx="8791560" cy="3011400"/>
          </a:xfrm>
          <a:prstGeom prst="rect">
            <a:avLst/>
          </a:prstGeom>
          <a:ln w="0">
            <a:noFill/>
          </a:ln>
        </p:spPr>
      </p:pic>
      <p:sp>
        <p:nvSpPr>
          <p:cNvPr id="52" name="6 CuadroTexto"/>
          <p:cNvSpPr/>
          <p:nvPr/>
        </p:nvSpPr>
        <p:spPr>
          <a:xfrm>
            <a:off x="3186000" y="613080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Arial"/>
              </a:rPr>
              <a:t>Défilement auto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 thruBlk="true"/>
    <p:sndAc>
      <p:stSnd>
        <p:snd r:embed="rId3" name="Andre_Rieu-danse_avec_les_loups_(theme_principal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3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3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Espace réservé du contenu 3" descr="fond-ecran-11469,loups [640x480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Image 5" descr="487-Loups153-57682 [640x480].jpg"/>
          <p:cNvPicPr/>
          <p:nvPr/>
        </p:nvPicPr>
        <p:blipFill>
          <a:blip r:embed="rId2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Image 6" descr="fond-ecran-11430,loups [640x480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Espace réservé du contenu 3" descr="aupbernard08 [640x480]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95" name="Image 4" descr="fond-ecran-11409,loups [640x48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Image 5" descr="fond-ecran-11409,loups [640x480].jpg"/>
          <p:cNvPicPr/>
          <p:nvPr/>
        </p:nvPicPr>
        <p:blipFill>
          <a:blip r:embed="rId3"/>
          <a:stretch/>
        </p:blipFill>
        <p:spPr>
          <a:xfrm>
            <a:off x="642960" y="482760"/>
            <a:ext cx="7786800" cy="5840280"/>
          </a:xfrm>
          <a:prstGeom prst="rect">
            <a:avLst/>
          </a:prstGeom>
          <a:ln w="0">
            <a:noFill/>
          </a:ln>
        </p:spPr>
      </p:pic>
      <p:pic>
        <p:nvPicPr>
          <p:cNvPr id="97" name="Image 6" descr="fond-ecran-11409,loups [640x480].jpg"/>
          <p:cNvPicPr/>
          <p:nvPr/>
        </p:nvPicPr>
        <p:blipFill>
          <a:blip r:embed="rId4"/>
          <a:stretch/>
        </p:blipFill>
        <p:spPr>
          <a:xfrm>
            <a:off x="1643040" y="1231920"/>
            <a:ext cx="5595840" cy="419724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fond-ecran-11409,loups [640x480].jpg"/>
          <p:cNvPicPr/>
          <p:nvPr/>
        </p:nvPicPr>
        <p:blipFill>
          <a:blip r:embed="rId5"/>
          <a:stretch/>
        </p:blipFill>
        <p:spPr>
          <a:xfrm>
            <a:off x="2286000" y="1677960"/>
            <a:ext cx="4143240" cy="3108240"/>
          </a:xfrm>
          <a:prstGeom prst="rect">
            <a:avLst/>
          </a:prstGeom>
          <a:ln w="0">
            <a:noFill/>
          </a:ln>
        </p:spPr>
      </p:pic>
      <p:pic>
        <p:nvPicPr>
          <p:cNvPr id="99" name="Image 8" descr="fond-ecran-11409,loups [640x480].jpg"/>
          <p:cNvPicPr/>
          <p:nvPr/>
        </p:nvPicPr>
        <p:blipFill>
          <a:blip r:embed="rId6"/>
          <a:stretch/>
        </p:blipFill>
        <p:spPr>
          <a:xfrm>
            <a:off x="3286080" y="2249640"/>
            <a:ext cx="2143080" cy="1608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4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4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4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3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4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4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4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Espace réservé du contenu 3" descr="fond-ecran-11421,loups [640x480].jpg"/>
          <p:cNvPicPr/>
          <p:nvPr/>
        </p:nvPicPr>
        <p:blipFill>
          <a:blip r:embed="rId1"/>
          <a:stretch/>
        </p:blipFill>
        <p:spPr>
          <a:xfrm>
            <a:off x="-7920" y="-41400"/>
            <a:ext cx="9199440" cy="6899400"/>
          </a:xfrm>
          <a:prstGeom prst="rect">
            <a:avLst/>
          </a:prstGeom>
          <a:ln w="0">
            <a:noFill/>
          </a:ln>
        </p:spPr>
      </p:pic>
      <p:pic>
        <p:nvPicPr>
          <p:cNvPr id="102" name="Image 4" descr="fond-ecran-11424,loups [640x48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Image 6" descr="fond-ecran-11405,loups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Espace réservé du contenu 3" descr="fond-ecran-11469,loups [640x480].jpg"/>
          <p:cNvPicPr/>
          <p:nvPr/>
        </p:nvPicPr>
        <p:blipFill>
          <a:blip r:embed="rId1"/>
          <a:stretch/>
        </p:blipFill>
        <p:spPr>
          <a:xfrm>
            <a:off x="-7920" y="-41400"/>
            <a:ext cx="9199440" cy="6899400"/>
          </a:xfrm>
          <a:prstGeom prst="rect">
            <a:avLst/>
          </a:prstGeom>
          <a:ln w="0">
            <a:noFill/>
          </a:ln>
        </p:spPr>
      </p:pic>
      <p:pic>
        <p:nvPicPr>
          <p:cNvPr id="106" name="Image 4" descr="fond-ecran-11470,loups [640x48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5" descr="Loups_106_1024x768 [640x480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Espace réservé du contenu 3" descr="487-Loups113-43316 [640x480].jpg"/>
          <p:cNvPicPr/>
          <p:nvPr/>
        </p:nvPicPr>
        <p:blipFill>
          <a:blip r:embed="rId1"/>
          <a:stretch/>
        </p:blipFill>
        <p:spPr>
          <a:xfrm>
            <a:off x="-27000" y="-30240"/>
            <a:ext cx="9221760" cy="6888240"/>
          </a:xfrm>
          <a:prstGeom prst="rect">
            <a:avLst/>
          </a:prstGeom>
          <a:ln w="0">
            <a:noFill/>
          </a:ln>
        </p:spPr>
      </p:pic>
      <p:pic>
        <p:nvPicPr>
          <p:cNvPr id="110" name="Image 4" descr="487-Loups315-60056 [640x48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Image 6" descr="Loups_09_1024x76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xit" presetID="2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3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Espace réservé du contenu 3" descr="fond-ecran-11417,loups [640x480].jpg"/>
          <p:cNvPicPr/>
          <p:nvPr/>
        </p:nvPicPr>
        <p:blipFill>
          <a:blip r:embed="rId1"/>
          <a:stretch/>
        </p:blipFill>
        <p:spPr>
          <a:xfrm>
            <a:off x="-27000" y="-6480"/>
            <a:ext cx="9190080" cy="6864480"/>
          </a:xfrm>
          <a:prstGeom prst="rect">
            <a:avLst/>
          </a:prstGeom>
          <a:ln w="0">
            <a:noFill/>
          </a:ln>
        </p:spPr>
      </p:pic>
      <p:pic>
        <p:nvPicPr>
          <p:cNvPr id="114" name="Image 4" descr="fond-ecran-11468,loups [640x48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Image 5" descr="fond-ecran-11427,loups [640x480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Espace réservé du contenu 3" descr="Loups_02_1024x768.jpg"/>
          <p:cNvPicPr/>
          <p:nvPr/>
        </p:nvPicPr>
        <p:blipFill>
          <a:blip r:embed="rId1"/>
          <a:stretch/>
        </p:blipFill>
        <p:spPr>
          <a:xfrm>
            <a:off x="-7920" y="-41400"/>
            <a:ext cx="9199440" cy="6899400"/>
          </a:xfrm>
          <a:prstGeom prst="rect">
            <a:avLst/>
          </a:prstGeom>
          <a:ln w="0">
            <a:noFill/>
          </a:ln>
        </p:spPr>
      </p:pic>
      <p:sp>
        <p:nvSpPr>
          <p:cNvPr id="118" name="ZoneTexte 4"/>
          <p:cNvSpPr/>
          <p:nvPr/>
        </p:nvSpPr>
        <p:spPr>
          <a:xfrm>
            <a:off x="4357800" y="487188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Edwardian Script ITC"/>
              </a:rPr>
              <a:t>Musique André Ri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Edwardian Script ITC"/>
              </a:rPr>
              <a:t>Danse avec les L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4"/>
          <p:cNvSpPr/>
          <p:nvPr/>
        </p:nvSpPr>
        <p:spPr>
          <a:xfrm>
            <a:off x="2179800" y="2874960"/>
            <a:ext cx="478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ff"/>
                </a:solidFill>
                <a:latin typeface="Edwardian Script ITC"/>
              </a:rPr>
              <a:t>F i 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7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Espace réservé du contenu 5" descr="487-Loups41-79830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5" name="Image 6" descr="film15.jpg"/>
          <p:cNvPicPr/>
          <p:nvPr/>
        </p:nvPicPr>
        <p:blipFill>
          <a:blip r:embed="rId2"/>
          <a:stretch/>
        </p:blipFill>
        <p:spPr>
          <a:xfrm>
            <a:off x="0" y="0"/>
            <a:ext cx="116506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Image 8" descr="487-Loups101-51249 [640x480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Espace réservé du contenu 3" descr="fond-ecran-11392,loups [640x480].jpg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59" name="Image 12" descr="487-Loups129-77168 [640x48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Image 13" descr="487-Loups04-5659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Espace réservé du contenu 5" descr="487-Loups315-60056 [640x480].jpg"/>
          <p:cNvPicPr/>
          <p:nvPr/>
        </p:nvPicPr>
        <p:blipFill>
          <a:blip r:embed="rId1"/>
          <a:stretch/>
        </p:blipFill>
        <p:spPr>
          <a:xfrm>
            <a:off x="-7920" y="11160"/>
            <a:ext cx="9129600" cy="6846840"/>
          </a:xfrm>
          <a:prstGeom prst="rect">
            <a:avLst/>
          </a:prstGeom>
          <a:ln w="0">
            <a:noFill/>
          </a:ln>
        </p:spPr>
      </p:pic>
      <p:pic>
        <p:nvPicPr>
          <p:cNvPr id="63" name="Image 16" descr="487-Loups05-22577.jpg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Image 17" descr="487-Loups118-22944 [640x480].jpg"/>
          <p:cNvPicPr/>
          <p:nvPr/>
        </p:nvPicPr>
        <p:blipFill>
          <a:blip r:embed="rId3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65" name="Image 18" descr="fond-ecran-1403,loups [640x480].jpg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Image 20" descr="487-Loups418-64451 [640x480].jpg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34434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Espace réservé du contenu 3" descr="fond-ecran-1403,loups [640x480].jpg"/>
          <p:cNvPicPr/>
          <p:nvPr/>
        </p:nvPicPr>
        <p:blipFill>
          <a:blip r:embed="rId1"/>
          <a:stretch/>
        </p:blipFill>
        <p:spPr>
          <a:xfrm>
            <a:off x="-7920" y="-41400"/>
            <a:ext cx="9199440" cy="6899400"/>
          </a:xfrm>
          <a:prstGeom prst="rect">
            <a:avLst/>
          </a:prstGeom>
          <a:ln w="0">
            <a:noFill/>
          </a:ln>
        </p:spPr>
      </p:pic>
      <p:pic>
        <p:nvPicPr>
          <p:cNvPr id="69" name="Image 4" descr="Loups_10_1024x76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Image 5" descr="Loups_04_1024x76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Image 6" descr="Loups_107_1024x768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Espace réservé du contenu 3" descr="Loups_108_1024x768 [640x480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Image 4" descr="Loups_114_1024x768 [640x48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Image 5" descr="fond-ecran-11400,loups [640x480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Espace réservé du contenu 3" descr="487-Loups24-19102.jpg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78" name="Image 5" descr="487-Loups134-55925 [640x480].jpg"/>
          <p:cNvPicPr/>
          <p:nvPr/>
        </p:nvPicPr>
        <p:blipFill>
          <a:blip r:embed="rId2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pic>
        <p:nvPicPr>
          <p:cNvPr id="79" name="Image 6" descr="487-Loups151-20146 [640x480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4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4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Espace réservé du contenu 3" descr="487-Loups130-35243 [640x480].jpg"/>
          <p:cNvPicPr/>
          <p:nvPr/>
        </p:nvPicPr>
        <p:blipFill>
          <a:blip r:embed="rId1"/>
          <a:stretch/>
        </p:blipFill>
        <p:spPr>
          <a:xfrm>
            <a:off x="-27000" y="-6480"/>
            <a:ext cx="9190080" cy="6864480"/>
          </a:xfrm>
          <a:prstGeom prst="rect">
            <a:avLst/>
          </a:prstGeom>
          <a:ln w="0">
            <a:noFill/>
          </a:ln>
        </p:spPr>
      </p:pic>
      <p:pic>
        <p:nvPicPr>
          <p:cNvPr id="82" name="Image 4" descr="Loups_16_1600x12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Image 7" descr="film1.jpg"/>
          <p:cNvPicPr/>
          <p:nvPr/>
        </p:nvPicPr>
        <p:blipFill>
          <a:blip r:embed="rId3"/>
          <a:srcRect l="19357" t="0" r="8370" b="0"/>
          <a:stretch/>
        </p:blipFill>
        <p:spPr>
          <a:xfrm>
            <a:off x="0" y="0"/>
            <a:ext cx="40006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Image 8" descr="fond-ecran1-1442,loups [640x480]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Espace réservé du contenu 3" descr="fond-ecran-11437,loups [640x480].jpg"/>
          <p:cNvPicPr/>
          <p:nvPr/>
        </p:nvPicPr>
        <p:blipFill>
          <a:blip r:embed="rId1"/>
          <a:stretch/>
        </p:blipFill>
        <p:spPr>
          <a:xfrm>
            <a:off x="-7920" y="-41400"/>
            <a:ext cx="9151920" cy="6899400"/>
          </a:xfrm>
          <a:prstGeom prst="rect">
            <a:avLst/>
          </a:prstGeom>
          <a:ln w="0">
            <a:noFill/>
          </a:ln>
        </p:spPr>
      </p:pic>
      <p:pic>
        <p:nvPicPr>
          <p:cNvPr id="87" name="Image 4" descr="fond-ecran-11448,loups [640x48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Image 5" descr="fond-ecran-11439,loups [640x480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2:52:42Z</dcterms:created>
  <dc:creator/>
  <dc:description/>
  <dc:language>en-US</dc:language>
  <cp:lastModifiedBy>Carlos Rangel</cp:lastModifiedBy>
  <dcterms:modified xsi:type="dcterms:W3CDTF">2009-02-04T23:30:22Z</dcterms:modified>
  <cp:revision>29</cp:revision>
  <dc:subject/>
  <dc:title>Loups. </dc:title>
</cp:coreProperties>
</file>