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onate_au_Clair_de_Lune.wav" ContentType="audio/x-wav"/>
  <Override PartName="/ppt/media/image2.gif" ContentType="image/gif"/>
  <Override PartName="/ppt/media/image1.wmf" ContentType="image/x-wmf"/>
  <Override PartName="/ppt/media/who's%20the%20boss.pps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D741-DA3E-4840-A106-E7655E91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76C1-C888-4A3F-8421-90665616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FAD-1DAA-424F-A455-C6A0200A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ABF-5024-4CE0-B70C-C93C494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F6F-B526-4E6C-9EF7-03704D49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CFB-B01A-4739-875A-C0F30896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EC9-3C68-4FEA-B09B-7B15F18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9E4-168F-46C6-AB24-7A24A56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8C4-92A9-4FF4-97E5-243E00C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178-6F38-4E52-827D-3F6606CA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3C3-1C3F-4EDB-A358-5E067403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510-A820-4D71-BFFB-20C9215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A8A-9B20-410F-AC15-71BABBB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3D0-7E21-4980-96C7-4436244A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F8BB-670A-4AEA-84DD-D1D66D2ECAA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nate_au_Clair_de_Lun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who&apos;s%20the%20boss.pps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148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TEST DE VELOC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755640" y="3141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DE CLIQUE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8436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00"/>
                </a:solidFill>
                <a:latin typeface="Berlin Sans FB Demi"/>
              </a:rPr>
              <a:t>CON PRECI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84360" y="333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Berlin Sans FB Demi"/>
              </a:rPr>
              <a:t>TIEMPO CADU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11280" y="1268280"/>
            <a:ext cx="78483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erlin Sans FB Demi"/>
              </a:rPr>
              <a:t>¡Eres muy lento/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erlin Sans FB Demi"/>
              </a:rPr>
              <a:t>¿No eres capaz de componer ni la primera palab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214200" y="550080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RE</a:t>
            </a:r>
            <a:r>
              <a:rPr b="1" lang="it-IT" sz="4400" spc="-1" strike="noStrike">
                <a:solidFill>
                  <a:srgbClr val="000000"/>
                </a:solidFill>
                <a:latin typeface="Berlin Sans FB Demi"/>
              </a:rPr>
              <a:t>INT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199046"/>
          <p:cNvPicPr/>
          <p:nvPr/>
        </p:nvPicPr>
        <p:blipFill>
          <a:blip r:embed="rId2"/>
          <a:stretch/>
        </p:blipFill>
        <p:spPr>
          <a:xfrm>
            <a:off x="3564000" y="3357720"/>
            <a:ext cx="2305080" cy="2143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>
            <a:hlinkClick r:id="" action="ppaction://hlinkshowjump?jump=nextslide"/>
          </p:cNvPr>
          <p:cNvSpPr/>
          <p:nvPr/>
        </p:nvSpPr>
        <p:spPr>
          <a:xfrm>
            <a:off x="6227640" y="57340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E</a:t>
            </a:r>
            <a:r>
              <a:rPr b="1" lang="it-IT" sz="4400" spc="-1" strike="noStrike">
                <a:solidFill>
                  <a:srgbClr val="000000"/>
                </a:solidFill>
                <a:latin typeface="Berlin Sans FB Demi"/>
              </a:rPr>
              <a:t>SC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iguur12"/>
          <p:cNvPicPr/>
          <p:nvPr/>
        </p:nvPicPr>
        <p:blipFill>
          <a:blip r:embed="rId1"/>
          <a:stretch/>
        </p:blipFill>
        <p:spPr>
          <a:xfrm>
            <a:off x="324000" y="3213000"/>
            <a:ext cx="3975120" cy="34052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468360" y="1413000"/>
            <a:ext cx="8136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erlin Sans FB Demi"/>
              </a:rPr>
              <a:t>¡¡ El juego está trucado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Berlin Sans FB Demi"/>
              </a:rPr>
              <a:t>¡¡ Nunca lo podrías terminar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333360"/>
            <a:ext cx="7848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Berlin Sans FB Demi"/>
              </a:rPr>
              <a:t>¡  Pelotud@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464000" y="4071960"/>
            <a:ext cx="46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s-ES_tradnl" sz="4400" spc="-1" strike="noStrike">
                <a:solidFill>
                  <a:srgbClr val="333399"/>
                </a:solidFill>
                <a:latin typeface="Arial Black"/>
              </a:rPr>
              <a:t>y ahora mandáselo a otr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200"/>
                            </p:stCondLst>
                            <p:childTnLst>
                              <p:par>
                                <p:cTn id="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72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765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Por esto no me salía … es muy bueno</a:t>
            </a: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2060640"/>
            <a:ext cx="6409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Día </a:t>
            </a:r>
            <a:fld id="{EDABF163-C469-4472-8D9D-60CDAE444B3D}" type="datetime2">
              <a:rPr b="1" lang="es-ES_tradnl" sz="3200" spc="-1" strike="noStrike">
                <a:solidFill>
                  <a:srgbClr val="000000"/>
                </a:solidFill>
                <a:latin typeface="Berlin Sans FB Demi"/>
              </a:rPr>
              <a:t>miércoles, 29 de julio de 20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3141720"/>
            <a:ext cx="48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La hora, </a:t>
            </a:r>
            <a:fld id="{AFBB43AF-5427-49C8-9B30-23426F8D05B7}" type="datetime13">
              <a:rPr b="1" lang="es-SV" sz="3200" spc="-1" strike="noStrike">
                <a:solidFill>
                  <a:srgbClr val="000000"/>
                </a:solidFill>
                <a:latin typeface="Berlin Sans FB Demi"/>
              </a:rPr>
              <a:t>07:40:46 AM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iguur12"/>
          <p:cNvPicPr/>
          <p:nvPr/>
        </p:nvPicPr>
        <p:blipFill>
          <a:blip r:embed="rId1"/>
          <a:stretch/>
        </p:blipFill>
        <p:spPr>
          <a:xfrm>
            <a:off x="324000" y="3213000"/>
            <a:ext cx="3975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68360" y="549360"/>
            <a:ext cx="84596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Forma la palabra pinchando sobre las letras en el orden adecua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 </a:t>
            </a:r>
            <a:r>
              <a:rPr b="1" lang="it-IT" sz="3600" spc="-1" strike="noStrike">
                <a:solidFill>
                  <a:srgbClr val="990000"/>
                </a:solidFill>
                <a:latin typeface="Berlin Sans FB Demi"/>
              </a:rPr>
              <a:t>Si hay dos letras iguales, pincha primero sobre la de la derecha, pero dentro del límite de ti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Berlin Sans FB Demi"/>
              </a:rPr>
              <a:t>ATENCIÓN: Se indican las palabras (más fácil imposi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" action="ppaction://hlinkshowjump?jump=nextslide"/>
          </p:cNvPr>
          <p:cNvSpPr/>
          <p:nvPr/>
        </p:nvSpPr>
        <p:spPr>
          <a:xfrm>
            <a:off x="684360" y="522936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Berlin Sans FB Demi"/>
              </a:rPr>
              <a:t>¡¡ INICIO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800"/>
                            </p:stCondLst>
                            <p:childTnLst>
                              <p:par>
                                <p:cTn id="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14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78800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78800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49236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219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084720" y="47242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738036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j0199046"/>
          <p:cNvPicPr/>
          <p:nvPr/>
        </p:nvPicPr>
        <p:blipFill>
          <a:blip r:embed="rId1"/>
          <a:stretch/>
        </p:blipFill>
        <p:spPr>
          <a:xfrm>
            <a:off x="1332000" y="549360"/>
            <a:ext cx="3240000" cy="3012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73272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435640" y="47242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788000" y="2924280"/>
            <a:ext cx="33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</a:rPr>
              <a:t>Pescad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843280" y="472608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8:19:49Z</dcterms:created>
  <dc:creator>SirVictor</dc:creator>
  <dc:description/>
  <dc:language>en-US</dc:language>
  <cp:lastModifiedBy> </cp:lastModifiedBy>
  <dcterms:modified xsi:type="dcterms:W3CDTF">2010-04-18T22:21:01Z</dcterms:modified>
  <cp:revision>19</cp:revision>
  <dc:subject/>
  <dc:title>Diapositiva 1</dc:title>
</cp:coreProperties>
</file>