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Setmanes%20Danielw.wav" ContentType="audio/x-wav"/>
  <Override PartName="/ppt/media/image4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B9F-98C4-4BAB-B981-17912625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741-23B5-4E3D-B60B-303EF36B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62F-8CC1-41CE-9E42-9F5AD90A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648D-53C7-41D2-9645-305A85BE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C17-4707-4BE1-B977-E6BD0CDA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46C-62D5-46B6-BD04-6F24A5DA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B85-E412-4F22-A802-413FD063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754B-459B-4B18-B1C0-DF37277E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36A-2A56-4DA3-8644-F77FECCA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0CE-EFA9-45B6-93C1-216044A9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AEC-30C8-4D5C-9A2F-114408A1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1E8-66EF-46C7-9CE9-9CC613C7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E92A-73B4-4E57-B035-5FB56D60A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Setmanes%20Daniel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981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ebff"/>
                </a:solidFill>
                <a:latin typeface="Arial Black"/>
              </a:rPr>
              <a:t>ADVI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beb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270828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42900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d82b5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d82b5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10552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95280" y="6093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b3f67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b3f67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87280" y="1197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ADVI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3733920"/>
            <a:ext cx="82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3880" y="59436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139520" y="130320"/>
            <a:ext cx="1688040" cy="627480"/>
          </a:xfrm>
          <a:prstGeom prst="rect">
            <a:avLst/>
          </a:prstGeom>
          <a:solidFill>
            <a:srgbClr val="ebebff"/>
          </a:solidFill>
          <a:ln w="9360">
            <a:solidFill>
              <a:srgbClr val="d9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6049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Música: Canto tradicional catalán: “Se acaban las semanas de Daniel”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3’)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Setmanes%20Daniel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8" dur="8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0" dur="1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488360" cy="561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771640" y="5445000"/>
            <a:ext cx="6193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asta que “todo invierno sea primaver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89000"/>
            <a:ext cx="777744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Os he ganado para la libert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304920"/>
            <a:ext cx="835200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ned cuidado: no se os embote la mente con el vicio, la bebida y los agobios de la vida, y se os eche encima de repente aquel día; porque caerá como un lazo sobre todos los habitantes de la tierra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5640" y="189000"/>
            <a:ext cx="7920000" cy="4581360"/>
            <a:chOff x="755640" y="189000"/>
            <a:chExt cx="7920000" cy="45813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971640" y="262080"/>
              <a:ext cx="7569000" cy="45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55640" y="189000"/>
              <a:ext cx="7920000" cy="1368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79280" y="189000"/>
            <a:ext cx="71294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se os embote la mente con agobios que esclavizan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4869000"/>
            <a:ext cx="77407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 alguien ofreciera todo el oro a cambio de amor, recibiría sólo menosprecio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(Ct 8,7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3280" y="1628640"/>
            <a:ext cx="5653080" cy="550800"/>
          </a:xfrm>
          <a:prstGeom prst="rect">
            <a:avLst/>
          </a:prstGeom>
          <a:solidFill>
            <a:srgbClr val="00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Monedas del tiempo de Jesú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304920"/>
            <a:ext cx="8353440" cy="596052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ad siempre despiertos, pidiendo fuerza para escapar de todo lo que está por venir y manteneros en pie ante el Hijo del hombre."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26920" y="426960"/>
            <a:ext cx="7417080" cy="554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9280" y="189000"/>
            <a:ext cx="43927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i el camino se hace largo, velad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5877000"/>
            <a:ext cx="5508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Os mantenéis en pie?</a:t>
            </a: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1268280"/>
            <a:ext cx="6048360" cy="4514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haz con nosotros este CAMINO de adviento, y en Navidad nos encontraremos de una manera NUEVA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2200" y="476280"/>
            <a:ext cx="864252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"/>
              </a:rPr>
              <a:t>EVANGELIO DE LUC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"/>
              </a:rPr>
              <a:t>nos acompañará todo el añ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492280"/>
            <a:ext cx="8686800" cy="344448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El Reino está entre vosotros  Lc 17,2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Velad y orad en toda oca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No tengas miedo pequeño rebaño Lc 12,32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Dios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se revela a los pequeñ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Todo lo mío es tuyo  Lc 15,3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l Padre ama a TODOS los hijo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700280"/>
            <a:ext cx="74170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ensamientos clav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16440" y="146160"/>
            <a:ext cx="499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10"/>
                </a:solidFill>
                <a:latin typeface="Arial Black"/>
              </a:rPr>
              <a:t>ADVIENTO  Ciclo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87280" y="907920"/>
            <a:ext cx="662940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8664e6"/>
                </a:solidFill>
                <a:latin typeface="Arial Black"/>
              </a:rPr>
              <a:t>UN CAMINO</a:t>
            </a:r>
            <a:endParaRPr b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8664e6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565360"/>
            <a:ext cx="8281800" cy="3933360"/>
          </a:xfrm>
          <a:prstGeom prst="rect">
            <a:avLst/>
          </a:prstGeom>
          <a:solidFill>
            <a:srgbClr val="cccc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INGO 1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nar velando para mantenernos en pié el día de su ve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ING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llanar el camino con Juan Baut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INGO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os camina hacia nosotros para encontra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INGO 4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ayamos con María a visita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5365800" y="50760"/>
            <a:ext cx="19946880" cy="6780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5904000"/>
            <a:ext cx="4896000" cy="55080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El viene a encontrarn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48360" y="333360"/>
            <a:ext cx="180036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Tumbas del s. 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566 -0.01202 L 0.62621 0.00879 E">
                                      <p:cBhvr>
                                        <p:cTn id="57" dur="14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380880"/>
            <a:ext cx="8353440" cy="54291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21, 25-28. 34-36 En aquel tiempo, dijo Jesús a sus discípulos: "Habrá signos en el sol y la luna y las estrellas, y en la tierra angustia de las gentes, enloquecidas por el estruendo del mar y el oleaje. Los hombres quedarán sin aliento por el miedo y la ansiedad ante lo que se le viene encima al mundo, pues los astros se tambalearán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5880"/>
            <a:ext cx="8208720" cy="55080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mágenes del Cedrón. Abajo tumbas judí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000" y="333360"/>
            <a:ext cx="8820000" cy="6407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189000"/>
            <a:ext cx="48261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Vivís sin aliento y con ansie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57880"/>
            <a:ext cx="6049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uando todo tambalea, todo recomien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5278320"/>
            <a:ext cx="2663640" cy="146448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Sepulcros antiguos de 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la Eleo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907920"/>
            <a:ext cx="7848360" cy="50457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onces verán al Hijo del hombre venir en una nube, con gran poder y majestad.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2680" y="260280"/>
            <a:ext cx="6781680" cy="6116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300720" y="189000"/>
            <a:ext cx="26989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enéis Mi po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5357880"/>
            <a:ext cx="7093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unque no lo percibáis,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Espíritu está en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304920"/>
            <a:ext cx="8610480" cy="54255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uando empiece a suceder esto, levantaos, alzad la cabeza: se acerca vuestra liberación.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11-25T12:04:29Z</dcterms:modified>
  <cp:revision>300</cp:revision>
  <dc:subject>stbenet@benedictinescat.com</dc:subject>
  <dc:title>evangeli</dc:title>
</cp:coreProperties>
</file>