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etmanes%20Danielw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1BD-442F-4B16-9C52-2E012BB1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8EE-5C28-4D4D-8C18-EACB96C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648-B78C-4DC2-B920-CAD67D30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66F-FCDF-479E-8166-E89131FE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154-7D2F-4727-9EFA-7BAC897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6FE-6588-40BD-91C8-341F7457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190-9AF8-4BC2-B569-6EFBFCE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CCF-0AAD-43A9-8EDB-97930B38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A4D-F63E-44F6-B5F4-7E83C8F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3B5-A9C6-4FE0-A784-CA1214D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71B-DABD-4D5E-BD34-0647A70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3C7-1B73-4F78-962F-402281E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319-74E9-471F-AFA6-E2C0DDD0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etmanes%20Daniel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1055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6093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7339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9436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604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Música: Canto tradicional catalán: “Se acaban las semanas de Daniel”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3’)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Setmanes%20Daniel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71640" y="5445000"/>
            <a:ext cx="6193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asta que “todo invierno sea primaver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777744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he ganado para la libert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35200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ned cuidado: no se os embote la mente con el vicio, la bebida y los agobios de la vida, y se os eche encima de repente aquel día; porque caerá como un lazo sobre todos los habitantes de la tierr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189000"/>
            <a:ext cx="7920000" cy="4581360"/>
            <a:chOff x="755640" y="189000"/>
            <a:chExt cx="7920000" cy="4581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971640" y="262080"/>
              <a:ext cx="7569000" cy="45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55640" y="189000"/>
              <a:ext cx="7920000" cy="136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79280" y="189000"/>
            <a:ext cx="7129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se os embote la mente con agobios que esclavizan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869000"/>
            <a:ext cx="7740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lguien ofreciera todo el oro a cambio de amor, recibiría sólo menosprecio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Ct 8,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1628640"/>
            <a:ext cx="5653080" cy="5508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nedas del tiemp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835344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d siempre despiertos, pidiendo fuerza para escapar de todo lo que está por venir y manteneros en pie ante el Hijo del hombre."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426960"/>
            <a:ext cx="7417080" cy="55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189000"/>
            <a:ext cx="4392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i el camino se hace largo, velad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877000"/>
            <a:ext cx="550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s mantenéis en pie?</a:t>
            </a: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268280"/>
            <a:ext cx="6048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con nosotros este CAMINO de adviento, y en Navidad nos encontraremos de una manera NUEVA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492280"/>
            <a:ext cx="868680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16440" y="146160"/>
            <a:ext cx="499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10"/>
                </a:solidFill>
                <a:latin typeface="Arial Black"/>
              </a:rPr>
              <a:t>ADVIENTO  Ciclo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87280" y="907920"/>
            <a:ext cx="66294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UN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65360"/>
            <a:ext cx="8281800" cy="3933360"/>
          </a:xfrm>
          <a:prstGeom prst="rect">
            <a:avLst/>
          </a:prstGeom>
          <a:solidFill>
            <a:srgbClr val="cc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1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nar velando para mantenernos en pié el día de su ve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llanar el camino con Juan Bau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camina hacia nosotr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4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yamos con María a visit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365800" y="50760"/>
            <a:ext cx="19946880" cy="678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04000"/>
            <a:ext cx="489600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l viene a encontra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333360"/>
            <a:ext cx="1800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Tumbas del s. 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66 -0.01202 L 0.62621 0.00879 E">
                                      <p:cBhvr>
                                        <p:cTn id="57" dur="14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53440" cy="5429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21, 25-28. 34-36 En aquel tiempo, dijo Jesús a sus discípulos: "Habrá signos en el sol y la luna y las estrellas, y en la tierra angustia de las gentes, enloquecidas por el estruendo del mar y el oleaje. Los hombres quedarán sin aliento por el miedo y la ansiedad ante lo que se le viene encima al mundo, pues los astros se tambalearán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5880"/>
            <a:ext cx="820872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l Cedrón. Abajo tumbas judí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000" y="333360"/>
            <a:ext cx="8820000" cy="640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89000"/>
            <a:ext cx="4826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vís sin aliento y con ans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57880"/>
            <a:ext cx="604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uando todo tambalea, todo recomie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5278320"/>
            <a:ext cx="2663640" cy="14644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pulcros antiguos de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a Eleo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907920"/>
            <a:ext cx="7848360" cy="5045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verán al Hijo del hombre venir en una nube, con gran poder y majestad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2680" y="260280"/>
            <a:ext cx="6781680" cy="611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00720" y="189000"/>
            <a:ext cx="26989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néis Mi p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5357880"/>
            <a:ext cx="7093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unque no lo percibáis,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spíritu está en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04920"/>
            <a:ext cx="861048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empiece a suceder esto, levantaos, alzad la cabeza: se acerca vuestra liberació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25T12:04:29Z</dcterms:modified>
  <cp:revision>300</cp:revision>
  <dc:subject>stbenet@benedictinescat.com</dc:subject>
  <dc:title>evangeli</dc:title>
</cp:coreProperties>
</file>