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678-A8A3-4978-81E0-F9FCFB08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237-4F38-4CC7-B312-BCA59907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21E-DC0C-4309-BA2C-FD7D2B3C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E9A-932A-4202-B954-B5EFA6BE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554-6D07-4E7D-8D80-5BB4BBE0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38E-B41D-42AF-86AA-05A41EFF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CDD-20A0-44BE-9D03-C965B50D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2AC-F453-454B-BE9F-C3D2545A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3CE-938D-45AA-AF8C-E5F362D3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CEA-AF0E-4B52-AB04-ED7C66D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4D8-71A1-44D2-9260-68A931E2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942-CD33-441F-A7DD-520F75B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CCFE-038B-48E5-BF98-A5386278F7E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777-001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777-090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777-097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1777-098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777-115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777-120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77-124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777-129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777-135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1778-001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778-010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1778-023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1777-004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1777-002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778-031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1778-044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778-058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1778-073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1778-076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1778-077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1778-080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1778-081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1778-088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1778-089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1778-096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1778-094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1778-103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1778-101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1777-034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1778-108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1778-105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1778-116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1778-112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1778-124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1778-122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1778-127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1778-139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1778-135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1778-145.jpg"/>
          <p:cNvPicPr/>
          <p:nvPr/>
        </p:nvPicPr>
        <p:blipFill>
          <a:blip r:embed="rId1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1778-142.jpg"/>
          <p:cNvPicPr/>
          <p:nvPr/>
        </p:nvPicPr>
        <p:blipFill>
          <a:blip r:embed="rId2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1778-143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1777-038.jpg"/>
          <p:cNvPicPr/>
          <p:nvPr/>
        </p:nvPicPr>
        <p:blipFill>
          <a:blip r:embed="rId1"/>
          <a:stretch/>
        </p:blipFill>
        <p:spPr>
          <a:xfrm>
            <a:off x="0" y="0"/>
            <a:ext cx="455436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1777-040.jpg"/>
          <p:cNvPicPr/>
          <p:nvPr/>
        </p:nvPicPr>
        <p:blipFill>
          <a:blip r:embed="rId2"/>
          <a:stretch/>
        </p:blipFill>
        <p:spPr>
          <a:xfrm>
            <a:off x="4589640" y="0"/>
            <a:ext cx="455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1777-051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1777-058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1777-062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777-066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777-075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20:36:39Z</dcterms:created>
  <dc:creator/>
  <dc:description/>
  <dc:language>en-US</dc:language>
  <cp:lastModifiedBy>MJT</cp:lastModifiedBy>
  <dcterms:modified xsi:type="dcterms:W3CDTF">2008-09-26T19:56:11Z</dcterms:modified>
  <cp:revision>317</cp:revision>
  <dc:subject/>
  <dc:title>From “Dr Lin Berto’s” studios:</dc:title>
</cp:coreProperties>
</file>