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A93-AA44-4BCB-A44B-F5BF66D9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563-9866-4968-84B8-E9E63CAF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7C5-F3BC-4AD4-9C9B-B21123E6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F0A-DA03-4F50-80D9-A6C0D990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5CE-9018-482A-9414-06F99DB3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D12-00BD-43A3-A118-C62786A0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FF7-74F0-49F0-9549-5A52B81A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3FD-36EF-419E-A407-68C4BAC6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925-16F6-4782-A8A1-0BB94A8D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1BA-56E5-4350-A604-01883183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E6D-6B07-4863-B699-5FAF634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C20-F2AB-47F5-AA81-711B41D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F168-97EA-48C9-A8B9-67845AF0E2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777-001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777-090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777-097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1777-098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777-115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777-120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77-124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777-129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777-135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1778-001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778-010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1778-023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1777-004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1777-002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778-031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1778-044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778-058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1778-073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1778-076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1778-077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1778-080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1778-081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1778-088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1778-089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1778-096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1778-094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1778-103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1778-101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1777-034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1778-108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1778-105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1778-116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1778-112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1778-124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1778-122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1778-127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1778-139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1778-135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1778-145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1778-142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1778-143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1777-038.jpg"/>
          <p:cNvPicPr/>
          <p:nvPr/>
        </p:nvPicPr>
        <p:blipFill>
          <a:blip r:embed="rId1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1777-040.jpg"/>
          <p:cNvPicPr/>
          <p:nvPr/>
        </p:nvPicPr>
        <p:blipFill>
          <a:blip r:embed="rId2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1777-051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1777-058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1777-062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777-066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777-075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20:36:39Z</dcterms:created>
  <dc:creator/>
  <dc:description/>
  <dc:language>en-US</dc:language>
  <cp:lastModifiedBy>MJT</cp:lastModifiedBy>
  <dcterms:modified xsi:type="dcterms:W3CDTF">2008-09-26T19:56:11Z</dcterms:modified>
  <cp:revision>317</cp:revision>
  <dc:subject/>
  <dc:title>From “Dr Lin Berto’s” studios:</dc:title>
</cp:coreProperties>
</file>