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9B0-DC96-4C14-B78C-BBBD3954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B1C-117A-4ED7-8C64-2436E21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D13-5DF2-4515-AF78-8DE34FB4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CF9-78B7-4047-9AD4-350D7FAC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2C7-94B6-4F4D-B3E6-D16460A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FAF-BC27-4ADB-A864-BBCF63A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ADA-CD60-4576-900C-5C60B61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F47-65F8-464C-B345-C6ABFFEC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1CC-6648-495F-9E14-2A3E545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637-5A59-4B6A-AFD8-B7DB8DB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9B0-1D9A-4C31-BF25-852A7F8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757-F69D-4ABC-B300-A3C7DF8B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464-F67B-4F74-AC00-7EFE4438D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588960"/>
            <a:ext cx="86104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080" y="270000"/>
            <a:ext cx="84582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409680"/>
            <a:ext cx="861048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546120"/>
            <a:ext cx="8686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471600"/>
            <a:ext cx="792504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401760"/>
            <a:ext cx="838224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7760" y="615960"/>
            <a:ext cx="84484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6868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3280" y="539640"/>
            <a:ext cx="86774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0920"/>
            <a:ext cx="853416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040" y="660240"/>
            <a:ext cx="830592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623880"/>
            <a:ext cx="85341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440" y="514440"/>
            <a:ext cx="8763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440" y="507960"/>
            <a:ext cx="8763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760" y="574560"/>
            <a:ext cx="86104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1912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414360"/>
            <a:ext cx="8001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382680"/>
            <a:ext cx="81532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12920"/>
            <a:ext cx="80769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9880"/>
            <a:ext cx="83822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3:59:46Z</dcterms:created>
  <dc:creator/>
  <dc:description/>
  <dc:language>en-US</dc:language>
  <cp:lastModifiedBy>Jaime Caballero Arriaga</cp:lastModifiedBy>
  <dcterms:modified xsi:type="dcterms:W3CDTF">2007-05-22T14:02:12Z</dcterms:modified>
  <cp:revision>1</cp:revision>
  <dc:subject/>
  <dc:title>Diapositiva 1</dc:title>
</cp:coreProperties>
</file>