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7DB9-8034-4B9D-84CE-A15E7BE88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9080-414A-4117-82AE-6B68239B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59BF-00C9-415B-831C-60E6D03DE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1C26-9803-4265-A2FD-D693CE4CF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84A8-DB3B-44E2-B1D6-33C42858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C81D-06D6-4DF0-8E42-7FBA8276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7C8A-5094-4A03-A085-62EE7F65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38C1-A5EB-4479-BE30-502EED21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2071-678B-407A-ACF5-958C9D69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7B6B-166E-489B-9413-5A4722B1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5518-53BE-46EB-A058-74DCA9CA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D874-FBC8-4026-B4F0-3B751A98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D686-5459-4D7E-B856-8A76DA93F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588960"/>
            <a:ext cx="861048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43080" y="270000"/>
            <a:ext cx="845820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353880"/>
            <a:ext cx="8686800" cy="61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6760" y="409680"/>
            <a:ext cx="861048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0880" y="290520"/>
            <a:ext cx="838224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546120"/>
            <a:ext cx="868680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480" y="471600"/>
            <a:ext cx="7925040" cy="59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401760"/>
            <a:ext cx="8382240" cy="60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7760" y="615960"/>
            <a:ext cx="844848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71680" y="333360"/>
            <a:ext cx="800100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" y="835200"/>
            <a:ext cx="8686800" cy="51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290520"/>
            <a:ext cx="838224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3280" y="539640"/>
            <a:ext cx="867744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250920"/>
            <a:ext cx="8534160" cy="63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19040" y="660240"/>
            <a:ext cx="8305920" cy="553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74840" y="0"/>
            <a:ext cx="459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623880"/>
            <a:ext cx="853416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0440" y="514440"/>
            <a:ext cx="876312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4920" y="239760"/>
            <a:ext cx="853416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2120" y="528480"/>
            <a:ext cx="7619760" cy="58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440" y="507960"/>
            <a:ext cx="876312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66760" y="574560"/>
            <a:ext cx="8610480" cy="57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519120"/>
            <a:ext cx="86868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1680" y="414360"/>
            <a:ext cx="800100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95360" y="382680"/>
            <a:ext cx="815328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412920"/>
            <a:ext cx="8076960" cy="60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299880"/>
            <a:ext cx="838224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13:59:46Z</dcterms:created>
  <dc:creator/>
  <dc:description/>
  <dc:language>en-US</dc:language>
  <cp:lastModifiedBy>Jaime Caballero Arriaga</cp:lastModifiedBy>
  <dcterms:modified xsi:type="dcterms:W3CDTF">2007-05-22T14:02:12Z</dcterms:modified>
  <cp:revision>1</cp:revision>
  <dc:subject/>
  <dc:title>Diapositiva 1</dc:title>
</cp:coreProperties>
</file>