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DELSSOHN%20Concierto%20Viol%C3%ADn%20CD1%20-No10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4F4-2979-4F44-88A9-9763D411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A33-7177-49B0-A6E9-97C78242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07F-0F15-4970-9880-B9AE3007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E10-4FF2-4BE2-8837-87B0C758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3EA-032A-4793-92BE-35D52DC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470-CAAD-4EAA-A340-D069CEF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1B8-649B-427B-AC63-F38D687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7DD-AA4A-4AFC-AB13-0B55293E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B66-CCD6-4CDF-BDA2-F88568D6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6CC-1A0A-42E5-98D4-1053688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47D-EA00-4597-A1D7-C6B3CAB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30D-2EDB-48D7-B706-EBAD662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DEF-5CB5-4602-A01E-6FDFC2B64D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ELSSOHN%20Concierto%20Viol&#237;n%20CD1%20-No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9436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omienzo del Tiempo Ordinario, segundo Domingo –C- //  17 enero 2010</a:t>
            </a:r>
            <a:br>
              <a:rPr sz="1600"/>
            </a:b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utora: M.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Música: Concierto para violín (Mendelssoh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16765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sta fiesta de un día es fiesta para si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cc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Reino, unas boda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cc66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cc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 buen vino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cc66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MENDELSSOHN%20Concierto%20Viol%C3%ADn%20CD1%20-No1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915400" cy="100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mic Sans MS"/>
              </a:rPr>
              <a:t>Juan 2, 1-12  </a:t>
            </a: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En aquel tiempo, había una boda en Caná de Galilea, y la madre de Jesús estaba allí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Jesús y sus discípulos estaban también invitados a la b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800600"/>
            <a:ext cx="8991720" cy="2014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Dios de Jesús no se nos revela en un templo ni rodeado de imponente majestad.  Se nos revela en un ambiente de alegría y de fiesta, en la fiesta humana por excelencia, acompañado de amig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go que nos conviene tener presente a l@s cristian@s, que a veces miramos de reojo lo que suponga diversión, placer y alegrí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ienza en la fiesta del amor, porque el amor es la única fuerza capaz de llena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milagros la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Faltó el vino, y la madre de Jesús le dijo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-«No les queda vino.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2000"/>
            <a:ext cx="914400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participa en la fiesta de quienes gozan, bailan, disfrutan del vino, ríen, cantan, sin dejar de observar todo lo que sucede en ell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 observación, activa y comprometida, le permite ver lo que nadie ve. Vive con atención afectuosa a lo que falta, pendiente de quien necesita ayuda, vive en actitud de interés y amistad hacia l@s demás, dispuesta a solucionar situaciones difíci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omentos de apu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dice: “ya no queda vino” de forma impersonal, sino: “no les queda vino”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ero las personas, después las cosas. Pide para l@s dem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Jesús le contestó: 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-«Mujer, déjame,  todavía no ha llegado  mi hora.»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Su madre dijo a los sirvientes: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-«Haced lo que él diga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752480"/>
            <a:ext cx="8991720" cy="2014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on las últimas palabras de María en el Evangelio. No nos podía haber dicho nada más profundo y mejor. Haced lo que Él os d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racticad el Evangelio, que es el camino para introducir el amor 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mor que ama primero, que ama sin exigir recompensa, amor de Evangel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stas palabras son el testamento de María. No volvió a decirnos nada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ampoco necesita venir a visitarnos para darnos nuevos mensajes,  a veces terroríficos. Su último y definitivo mensaje es: Haced lo que él os di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Había allí colocadas seis tinajas de piedra, para las purificaciones de los judíos, de unos cien litros cada una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Jesús les dijo: -«Llenad las tinajas de agua.»  Y las llenaron hast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724280"/>
            <a:ext cx="8991720" cy="20142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tinajas son símbolo de la antigua alianza que ya no da vida ni alegría, están vacías. Pesan, son de piedra, es difícil cambiarlas, moverla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cambia el agua –purificaciones que ordenaba la ley-, por vino excepcional y abundante, símbolo de fiesta, de los nuevos tiempos mesiánicos, del amor, de la presencia del Reino y del compart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la boda en la que “falta el vino”, se ofrece el “vino bueno”, la mejor revelación del rostro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8915400" cy="20142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Entonces les mandó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-«Sacad ahora y llevádselo al mayordomo.»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Ellos se lo llevaron. El mayordomo probó el agua convertida en vino sin saber de dónde venía (los sirvientes sí lo sabían, pues habían sacado el agua), y entonces llamó al novio y le dijo: -«Todo el mundo pone primero el vino bueno y cuando ya están bebidos, el peor; tú, en cambio, has guardado el vino bueno hasta ahora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 la disponibilidad de María, Jesús no hubiera nacido. Sin la respuesta de los sirvientes, el agua no se hubiera convertido en vino. Los milagros son también acción y responsabilidad humana. Jesús cuenta siempre con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sirvientes se pusieron a las órdenes de Jesús y el agua se convirtió en vino. Si nos ponemos a su disposición, le podremos descubrir en todos los instantes de nuestra vida y proclamar las maravillas que hace en nosotr@s y por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Veo la acción de Dios en mi vida? ¿Estoy a su disposición? ¿Soy sensible a las necesidades de l@s demás? ¿Tiene mi vida el vino de la fe, la alegría, la amistad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asión, la bondad, la amabilidad, la fiesta interior, la ternura, el am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262908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Georgia"/>
              </a:rPr>
              <a:t>Así, en Caná de Galilea Jesús comenzó sus signos,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Georgia"/>
              </a:rPr>
              <a:t>manifestó su gloria, y creció la fe de sus discípulos en é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038480"/>
            <a:ext cx="563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signos del cuarto Evangelio son como indicadores que apuntan hacia Jesús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y ayudan a fortalecer la fe en él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signos hechos por Jesús fueron escritos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“para que creáis”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estamos llamad@s a hacer signos y,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bre todo, a ser signo que provoque, despierte, estimule la fe de l@s demás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Qué signos hago? ¿Qué signos puedo hac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334120" y="9907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00200"/>
            <a:ext cx="8915400" cy="3111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puedo yo llevar al Señ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los servidores de Caná, sólo agua, nada más que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 embargo, Él la quiere toda y precisamente aquéll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cuando la seis tinajas de piedra de mi humanidad sean ofrecidas a É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lenas de pobreza, colmadas de mi humanidad, de la que bien poco teng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gloriarme, será Él quien convierta esta simple agua en el mejor de los vin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Él, el maestro experto en banquetes, que alegra a los pobres, un Dios que está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rte del vino, de la fiesta, un Dios feliz que da el placer de existir y de cre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o creo en Dios porque es el Dios de Caná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feliz que desea la felicidad de sus hijos. 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(Ermes Ronchi)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6:30:58Z</dcterms:created>
  <dc:creator> M.Asun Gutiérrez</dc:creator>
  <dc:description/>
  <dc:language>en-US</dc:language>
  <cp:lastModifiedBy>Usuario</cp:lastModifiedBy>
  <dcterms:modified xsi:type="dcterms:W3CDTF">2010-01-13T12:01:34Z</dcterms:modified>
  <cp:revision>20</cp:revision>
  <dc:subject>jeasam@gmail.com</dc:subject>
  <dc:title>Tiempo Ordianrio 02 domingo C 17-01-10</dc:title>
</cp:coreProperties>
</file>