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ENDELSSOHN%20Concierto%20Viol%C3%ADn%20CD1%20-No10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C7F-CD53-4E3C-A5E5-28339453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34F-C272-4C12-B31B-0D342E3A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EFA-23B8-4CBA-82C7-52F8B4E1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9AF-5D48-46DE-8340-DB508900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BFA-D5DA-4654-AF4F-F36C8535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BA7-8536-4A70-81E7-47C7F2E4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0DC-98E2-479C-A1CC-C0E0A22C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E10-EF37-400D-9B56-FED18E63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30A-3290-4F80-80CD-BBBB2D10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AA9-6C13-4429-88CA-8BEED184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C88-1452-4612-B104-1C18BB75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786-91A3-4419-9C68-F52591CA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6D3D-741E-4E32-9719-EC02E1AA09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ENDELSSOHN%20Concierto%20Viol&#237;n%20CD1%20-No1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94360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Comienzo del Tiempo Ordinario, segundo Domingo –C- //  17 enero 2010</a:t>
            </a:r>
            <a:br>
              <a:rPr sz="1600"/>
            </a:b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Autora: M.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omic Sans MS"/>
              </a:rPr>
              <a:t>Música: Concierto para violín (Mendelssoh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16765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Esta fiesta de un día es fiesta para siemp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86200" y="3049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cc66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Reino, unas boda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cc66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cc66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 buen vino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cc66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MENDELSSOHN%20Concierto%20Viol%C3%ADn%20CD1%20-No1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8915400" cy="10087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mic Sans MS"/>
              </a:rPr>
              <a:t>Juan 2, 1-12  </a:t>
            </a: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En aquel tiempo, había una boda en Caná de Galilea, y la madre de Jesús estaba allí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Jesús y sus discípulos estaban también invitados a la bo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800600"/>
            <a:ext cx="8991720" cy="20142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Dios de Jesús no se nos revela en un templo ni rodeado de imponente majestad.  Se nos revela en un ambiente de alegría y de fiesta, en la fiesta humana por excelencia, acompañado de amig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lgo que nos conviene tener presente a l@s cristian@s, que a veces miramos de reojo lo que suponga diversión, placer y alegría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ienza en la fiesta del amor, porque el amor es la única fuerza capaz de llenar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milagros la ti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2286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Faltó el vino, y la madre de Jesús le dijo: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-«No les queda vino.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572000"/>
            <a:ext cx="9144000" cy="25628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ía participa en la fiesta de quienes gozan, bailan, disfrutan del vino, ríen, cantan, sin dejar de observar todo lo que sucede en ell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 observación, activa y comprometida, le permite ver lo que nadie ve. Vive con atención afectuosa a lo que falta, pendiente de quien necesita ayuda, vive en actitud de interés y amistad hacia l@s demás, dispuesta a solucionar situaciones difícil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momentos de apu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dice: “ya no queda vino” de forma impersonal, sino: “no les queda vino”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ero las personas, después las cosas. Pide para l@s demá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0"/>
            <a:ext cx="739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Georgia"/>
              </a:rPr>
              <a:t>Jesús le contestó: </a:t>
            </a:r>
            <a:br>
              <a:rPr sz="2000"/>
            </a:br>
            <a:r>
              <a:rPr b="0" lang="es-ES_tradnl" sz="2000" spc="-1" strike="noStrike">
                <a:solidFill>
                  <a:srgbClr val="ccecff"/>
                </a:solidFill>
                <a:latin typeface="Georgia"/>
              </a:rPr>
              <a:t>-«Mujer, déjame,  todavía no ha llegado  mi hora.»</a:t>
            </a:r>
            <a:br>
              <a:rPr sz="2000"/>
            </a:br>
            <a:r>
              <a:rPr b="0" lang="es-ES_tradnl" sz="2000" spc="-1" strike="noStrike">
                <a:solidFill>
                  <a:srgbClr val="ccecff"/>
                </a:solidFill>
                <a:latin typeface="Georgia"/>
              </a:rPr>
              <a:t>Su madre dijo a los sirvientes:</a:t>
            </a:r>
            <a:br>
              <a:rPr sz="2000"/>
            </a:br>
            <a:r>
              <a:rPr b="0" lang="es-ES_tradnl" sz="2000" spc="-1" strike="noStrike">
                <a:solidFill>
                  <a:srgbClr val="ccecff"/>
                </a:solidFill>
                <a:latin typeface="Georgia"/>
              </a:rPr>
              <a:t>-«Haced lo que él diga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752480"/>
            <a:ext cx="8991720" cy="20142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on las últimas palabras de María en el Evangelio. No nos podía haber dicho nada más profundo y mejor. Haced lo que Él os d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racticad el Evangelio, que es el camino para introducir el amor en el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mor que ama primero, que ama sin exigir recompensa, amor de Evangel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stas palabras son el testamento de María. No volvió a decirnos nada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Tampoco necesita venir a visitarnos para darnos nuevos mensajes,  a veces terroríficos. Su último y definitivo mensaje es: Haced lo que él os di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Había allí colocadas seis tinajas de piedra, para las purificaciones de los judíos, de unos cien litros cada una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Georgia"/>
              </a:rPr>
              <a:t>Jesús les dijo: -«Llenad las tinajas de agua.»  Y las llenaron hasta arrib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724280"/>
            <a:ext cx="8991720" cy="201420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tinajas son símbolo de la antigua alianza que ya no da vida ni alegría, están vacías. Pesan, son de piedra, es difícil cambiarlas, moverla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sús cambia el agua –purificaciones que ordenaba la ley-, por vino excepcional y abundante, símbolo de fiesta, de los nuevos tiempos mesiánicos, del amor, de la presencia del Reino y del compart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la boda en la que “falta el vino”, se ofrece el “vino bueno”, la mejor revelación del rostro de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8915400" cy="20142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eorgia"/>
              </a:rPr>
              <a:t>Entonces les mandó: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Georgia"/>
              </a:rPr>
              <a:t>-«Sacad ahora y llevádselo al mayordomo.»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Georgia"/>
              </a:rPr>
              <a:t>Ellos se lo llevaron. El mayordomo probó el agua convertida en vino sin saber de dónde venía (los sirvientes sí lo sabían, pues habían sacado el agua), y entonces llamó al novio y le dijo: -«Todo el mundo pone primero el vino bueno y cuando ya están bebidos, el peor; tú, en cambio, has guardado el vino bueno hasta ahora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67080"/>
            <a:ext cx="9144000" cy="25628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n la disponibilidad de María, Jesús no hubiera nacido. Sin la respuesta de los sirvientes, el agua no se hubiera convertido en vino. Los milagros son también acción y responsabilidad humana. Jesús cuenta siempre con nosotr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sirvientes se pusieron a las órdenes de Jesús y el agua se convirtió en vino. Si nos ponemos a su disposición, le podremos descubrir en todos los instantes de nuestra vida y proclamar las maravillas que hace en nosotr@s y por nosotr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Veo la acción de Dios en mi vida? ¿Estoy a su disposición? ¿Soy sensible a las necesidades de l@s demás? ¿Tiene mi vida el vino de la fe, la alegría, la amistad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pasión, la bondad, la amabilidad, la fiesta interior, la ternura, el am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3600" y="4191120"/>
            <a:ext cx="2629080" cy="232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1219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1522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Georgia"/>
              </a:rPr>
              <a:t>Así, en Caná de Galilea Jesús comenzó sus signos,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Georgia"/>
              </a:rPr>
              <a:t>manifestó su gloria, y creció la fe de sus discípulos en é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038480"/>
            <a:ext cx="5638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signos del cuarto Evangelio son como indicadores que apuntan hacia Jesús 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y ayudan a fortalecer la fe en él.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s signos hechos por Jesús fueron escritos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“para que creáis”.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Tod@s estamos llamad@s a hacer signos y, 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sobre todo, a ser signo que provoque, despierte, estimule la fe de l@s demás.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¿Qué signos hago? ¿Qué signos puedo hac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334120" y="9907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1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600200"/>
            <a:ext cx="8915400" cy="311148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puedo yo llevar al Señ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mo los servidores de Caná, sólo agua, nada más que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n embargo, Él la quiere toda y precisamente aquéll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cuando la seis tinajas de piedra de mi humanidad sean ofrecidas a É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lenas de pobreza, colmadas de mi humanidad, de la que bien poco tengo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gloriarme, será Él quien convierta esta simple agua en el mejor de los vin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Él, el maestro experto en banquetes, que alegra a los pobres, un Dios que está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parte del vino, de la fiesta, un Dios feliz que da el placer de existir y de cre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o creo en Dios porque es el Dios de Caná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ios feliz que desea la felicidad de sus hijos. </a:t>
            </a: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(Ermes Ronchi)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6:30:58Z</dcterms:created>
  <dc:creator> M.Asun Gutiérrez</dc:creator>
  <dc:description/>
  <dc:language>en-US</dc:language>
  <cp:lastModifiedBy>Usuario</cp:lastModifiedBy>
  <dcterms:modified xsi:type="dcterms:W3CDTF">2010-01-13T12:01:34Z</dcterms:modified>
  <cp:revision>20</cp:revision>
  <dc:subject>jeasam@gmail.com</dc:subject>
  <dc:title>Tiempo Ordianrio 02 domingo C 17-01-10</dc:title>
</cp:coreProperties>
</file>