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01C-5F6E-4688-97EE-DD43B396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D43-718A-4376-A550-013310B5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D14-D05C-4AD4-BF8F-20A862EA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3A9-D2C5-435B-8C40-647037F8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F43-F9E2-44F8-9B7B-B22EF97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119-D3C2-46D3-BCF0-DBDAFAB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8CF-0223-4FC0-A512-5C9CFBC4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076-1448-4FB3-BCD6-E3FF97BE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801-A3DC-422F-BF9B-DF34E9E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581-FBBE-486A-B616-81144DB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D38-C92F-45A9-8B0C-89FDBDA2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439-7E48-4AC7-90E4-6BB39862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63AF-F386-45F9-92A6-85CE0083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1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42" name="ZoneTexte 2"/>
          <p:cNvSpPr/>
          <p:nvPr/>
        </p:nvSpPr>
        <p:spPr>
          <a:xfrm>
            <a:off x="304920" y="380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bureaux GOOGLE à Züri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9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0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5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6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7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8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9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2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4"/>
          <p:cNvSpPr/>
          <p:nvPr/>
        </p:nvSpPr>
        <p:spPr>
          <a:xfrm>
            <a:off x="1676520" y="57150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1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6"/>
          <p:cNvPicPr/>
          <p:nvPr/>
        </p:nvPicPr>
        <p:blipFill>
          <a:blip r:embed="rId1"/>
          <a:stretch/>
        </p:blipFill>
        <p:spPr>
          <a:xfrm>
            <a:off x="2671920" y="571680"/>
            <a:ext cx="3800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7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3:31:20Z</dcterms:created>
  <dc:creator>mzimpel</dc:creator>
  <dc:description/>
  <dc:language>en-US</dc:language>
  <cp:lastModifiedBy>Gilles</cp:lastModifiedBy>
  <dcterms:modified xsi:type="dcterms:W3CDTF">2008-11-25T19:59:59Z</dcterms:modified>
  <cp:revision>5</cp:revision>
  <dc:subject/>
  <dc:title>Google Office Zurich (CH)</dc:title>
</cp:coreProperties>
</file>