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Aranjuez_Paco%20de%20Lucia-Al%20Dimeola_(32-8)_3'00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095-C25A-489F-A303-83A2A2ED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41E-FD41-429D-A0CE-C5315E3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FC4-8E9A-4455-8ADF-09578A0A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626-E712-41C1-BA19-2F2619C8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920-DA27-455E-9D41-BE2E42F1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D3C-45D5-46E0-B098-3049EA75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2D1-2D3B-4F94-8A94-4BD7111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528-ECF2-4639-AB9A-77DC55A3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5AB-56BA-49A6-8856-DDCDFA2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3AC-1B35-4707-BE60-3DF9B9A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D21-F510-416D-9BE3-1FCCEB6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079-54FE-4A17-925E-6512906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101D-1B98-4BC0-A2F8-6AAC2D492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anjuez_Paco%20de%20Lucia-Al%20Dimeola_(32-8)_3&apos;00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uthorstream.com/Presentation/aSGuest15087-165012-doug-landis-art-without-hands-entertainment-ppt-powerpoint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4a7b"/>
                </a:solidFill>
                <a:latin typeface="Calibri"/>
              </a:rPr>
              <a:t>Dibujos con lápiz</a:t>
            </a:r>
            <a:br>
              <a:rPr sz="4800"/>
            </a:br>
            <a:br>
              <a:rPr sz="4800"/>
            </a:b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(IMPORTANTE: por favor verlo hasta el fi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709320" y="601992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Avanzar manu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836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l arte de Doug La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08.jpg"/>
          <p:cNvPicPr/>
          <p:nvPr/>
        </p:nvPicPr>
        <p:blipFill>
          <a:blip r:embed="rId1"/>
          <a:stretch/>
        </p:blipFill>
        <p:spPr>
          <a:xfrm>
            <a:off x="1666800" y="0"/>
            <a:ext cx="5810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09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0.gif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Olvidé decirles que este artista </a:t>
            </a:r>
            <a:br>
              <a:rPr sz="3200"/>
            </a:br>
            <a:r>
              <a:rPr b="1" lang="en-US" sz="3200" spc="-1" strike="noStrike" u="sng">
                <a:solidFill>
                  <a:srgbClr val="604a7b"/>
                </a:solidFill>
                <a:uFillTx/>
                <a:latin typeface="Calibri"/>
              </a:rPr>
              <a:t>no tiene manos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y que dibuja con su boc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01.jpg"/>
          <p:cNvPicPr/>
          <p:nvPr/>
        </p:nvPicPr>
        <p:blipFill>
          <a:blip r:embed="rId1"/>
          <a:stretch/>
        </p:blipFill>
        <p:spPr>
          <a:xfrm>
            <a:off x="741240" y="0"/>
            <a:ext cx="765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Buscamos excusas para no hacer cosas, culpando a las imposibilidades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per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 nos lo proponemos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iempre hay una mane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229360"/>
            <a:ext cx="806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4a7b"/>
                </a:solidFill>
                <a:latin typeface="Arial"/>
              </a:rPr>
              <a:t>Fuente:</a:t>
            </a:r>
            <a:br>
              <a:rPr sz="1400"/>
            </a:br>
            <a:br>
              <a:rPr sz="14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uthorstream.com/Presentation/aSGuest15087-165012-doug-landis-art-without-hands-entertainment-ppt-powerpoint/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12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2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3.jpg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4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5.gif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06.jpg"/>
          <p:cNvPicPr/>
          <p:nvPr/>
        </p:nvPicPr>
        <p:blipFill>
          <a:blip r:embed="rId1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07.jpg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6:51:04Z</dcterms:created>
  <dc:creator>789</dc:creator>
  <dc:description/>
  <dc:language>en-US</dc:language>
  <cp:lastModifiedBy>.</cp:lastModifiedBy>
  <dcterms:modified xsi:type="dcterms:W3CDTF">2009-07-31T06:27:07Z</dcterms:modified>
  <cp:revision>0</cp:revision>
  <dc:subject>Dibujos con lápiz</dc:subject>
  <dc:title>El arte de Doug Landis</dc:title>
</cp:coreProperties>
</file>