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Aranjuez_Paco%20de%20Lucia-Al%20Dimeola_(32-8)_3'00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8AA-C9FE-485F-8F38-26A7D79F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1DA-53E8-4DB1-B3BD-AFF74464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AA3-B1A5-421F-8C60-B14E2A78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3A7-1E08-49BA-A64F-9CBCD86E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ECE-FA55-4FEF-8CFE-B0BA90E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8FA-1586-45EB-B0F8-4B13EBCC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513-22B7-450E-9FB7-CD665E41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3B0-D0E3-4710-B2B7-7B890A83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219-07F8-4ED0-A02C-4B04474E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FD0-BD84-4991-864C-48276BAF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5AB-160C-4B0C-81DD-C30BC98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811-9F04-4144-962C-FB12DE2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2DF-C021-427A-84CE-AFAEC4E02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anjuez_Paco%20de%20Lucia-Al%20Dimeola_(32-8)_3&apos;00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uthorstream.com/Presentation/aSGuest15087-165012-doug-landis-art-without-hands-entertainment-ppt-powerpoint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4a7b"/>
                </a:solidFill>
                <a:latin typeface="Calibri"/>
              </a:rPr>
              <a:t>Dibujos con lápiz</a:t>
            </a:r>
            <a:br>
              <a:rPr sz="4800"/>
            </a:br>
            <a:br>
              <a:rPr sz="4800"/>
            </a:b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(IMPORTANTE: por favor verlo hasta el fi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709320" y="601992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Avanzar manu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836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l arte de Doug La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image008.jpg"/>
          <p:cNvPicPr/>
          <p:nvPr/>
        </p:nvPicPr>
        <p:blipFill>
          <a:blip r:embed="rId1"/>
          <a:stretch/>
        </p:blipFill>
        <p:spPr>
          <a:xfrm>
            <a:off x="1666800" y="0"/>
            <a:ext cx="5810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009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image010.gif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828800"/>
            <a:ext cx="850104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Olvidé decirles que este artista </a:t>
            </a:r>
            <a:br>
              <a:rPr sz="3200"/>
            </a:br>
            <a:r>
              <a:rPr b="1" lang="en-US" sz="3200" spc="-1" strike="noStrike" u="sng">
                <a:solidFill>
                  <a:srgbClr val="604a7b"/>
                </a:solidFill>
                <a:uFillTx/>
                <a:latin typeface="Calibri"/>
              </a:rPr>
              <a:t>no tiene manos</a:t>
            </a: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y que dibuja con su boca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image001.jpg"/>
          <p:cNvPicPr/>
          <p:nvPr/>
        </p:nvPicPr>
        <p:blipFill>
          <a:blip r:embed="rId1"/>
          <a:stretch/>
        </p:blipFill>
        <p:spPr>
          <a:xfrm>
            <a:off x="741240" y="0"/>
            <a:ext cx="765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1828800"/>
            <a:ext cx="850104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Buscamos excusas para no hacer cosas, culpando a las imposibilidades,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per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 nos lo proponemos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siempre hay una maner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229360"/>
            <a:ext cx="8064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4a7b"/>
                </a:solidFill>
                <a:latin typeface="Arial"/>
              </a:rPr>
              <a:t>Fuente:</a:t>
            </a:r>
            <a:br>
              <a:rPr sz="1400"/>
            </a:br>
            <a:br>
              <a:rPr sz="1400"/>
            </a:b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uthorstream.com/Presentation/aSGuest15087-165012-doug-landis-art-without-hands-entertainment-ppt-powerpoint/</a:t>
            </a:r>
            <a:br>
              <a:rPr sz="14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1 Rectángul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image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image012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image002.jpg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image003.jpg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4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image005.gif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image006.jpg"/>
          <p:cNvPicPr/>
          <p:nvPr/>
        </p:nvPicPr>
        <p:blipFill>
          <a:blip r:embed="rId1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image007.jpg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6:51:04Z</dcterms:created>
  <dc:creator>789</dc:creator>
  <dc:description/>
  <dc:language>en-US</dc:language>
  <cp:lastModifiedBy>.</cp:lastModifiedBy>
  <dcterms:modified xsi:type="dcterms:W3CDTF">2009-07-31T06:27:07Z</dcterms:modified>
  <cp:revision>0</cp:revision>
  <dc:subject>Dibujos con lápiz</dc:subject>
  <dc:title>El arte de Doug Landis</dc:title>
</cp:coreProperties>
</file>