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Flauta%20y%20orquesta.wav" ContentType="audio/x-wav"/>
  <Override PartName="/ppt/media/image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053D-89D6-4735-95E7-D6C8AEC1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42B-4FF9-4374-A577-57548A70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76C-BF5C-4EA2-9A54-6E90CE5C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69FB-65B2-4245-892C-944B7612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BBAD-4B7C-44FE-9042-9D74A195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0194-1E00-43CD-938D-DA186C78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31AB-2B7D-455D-AFBD-94622155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1D3A-6F97-4A1A-8644-95D32B13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2F1-0058-482A-9394-0D9D2A83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EA7A-67BA-42EB-8AE3-42280B0D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BE5E-BC2E-41CD-810C-841FB001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5CF6-2785-48FC-B4A5-8C09A9CA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C726-55DE-4F89-87CD-C83F7BFB7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lauta%20y%20orquest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de0024_image007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9880" y="609480"/>
            <a:ext cx="4648320" cy="119124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cómo los japoneses resuelven una situación conflictiva derivada por las exigencias de un secuestrador durante un secues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84520" y="2487600"/>
            <a:ext cx="481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 imágenes son rea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2" name="Flauta%20y%20orquest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16000" y="573372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“Exijo 3 condiciones o mato al niñ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703116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negociadores se aproxima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escena por una ventana contigu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54900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8850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negociador asoma su cabeza para comenzar a negocia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84036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inmediato se realiza la “Negocia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475920"/>
            <a:ext cx="8147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8421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ye la Negoci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85656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08720" y="2743200"/>
            <a:ext cx="363528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Conflicto resuelto, </a:t>
            </a:r>
            <a:br>
              <a:rPr sz="2800"/>
            </a:b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todo el mundo </a:t>
            </a:r>
            <a:br>
              <a:rPr sz="2800"/>
            </a:b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regresa a casa.  </a:t>
            </a:r>
            <a:br>
              <a:rPr sz="2800"/>
            </a:br>
            <a:br>
              <a:rPr sz="1000"/>
            </a:b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(Bueno, casi todos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32400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458784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218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= CONCLUSIÓN=</a:t>
            </a:r>
            <a:br>
              <a:rPr sz="2400"/>
            </a:b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En nuestro país asumiríamos que éste individuo actuó por necesidad y estaríamos días y aun semanas discutiendo por qué tomó esa actitud, su estado emocional, si estaba bajo los efectos de alguna droga, su entorno familiar, antecedentes, etc.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  Una vez detenido, seguramente dispondría de un abogado para su defensa, quien encontrará un montón de atenuantes y si el juicio era justo o no. Pasará quizá algunos años sin libertad pero con techo, comida y educación garantizada, por supuesto pagado por los familiares del secuestrado y por todos nosotros.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  Es probable que cuando salga de la cárcel cometa la misma estupidez o algo peor, ó también es probable que haya contratado en abogado especializado para defender estos casos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  Está visto que lo japoneses administran mucho mejor la justicia, su tiempo y el dinero público. ¡Qué gran lección! ¡Cuánto tenemos que aprender de la sabiduría nipona!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(Por eso están como está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5640" y="0"/>
            <a:ext cx="74278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84920" y="6113520"/>
            <a:ext cx="340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609300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63086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Arial"/>
              </a:rPr>
              <a:t>Adaptación: Francisco Arámbu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45">
                                  <p:stCondLst>
                                    <p:cond delay="15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6:24:41Z</dcterms:created>
  <dc:creator>Flopy Inc.</dc:creator>
  <dc:description/>
  <dc:language>en-US</dc:language>
  <cp:lastModifiedBy>Francisco Aramburo</cp:lastModifiedBy>
  <dcterms:modified xsi:type="dcterms:W3CDTF">2007-04-03T19:15:11Z</dcterms:modified>
  <cp:revision>11</cp:revision>
  <dc:subject/>
  <dc:title>Demandas de un secuestrador   y resolución japonesa  de la negociación</dc:title>
</cp:coreProperties>
</file>