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Flauta%20y%20orquesta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BFB-977F-403F-9B78-DF91F922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F70-60DB-420B-A04E-FCDF8A6D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978-5598-4A0B-BCAC-DC6BE43F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20C-9477-4C50-B35E-1C0DF39D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485-BC80-4307-BAAF-59B418F7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E28-40A7-40E2-918B-26C24843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A99-85A7-4D60-B292-AB1619F4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8E7-4EEB-479E-97A7-89E0163C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E2E-A500-4011-9C1A-4DADA88B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AC4-C1E3-4766-92BA-6B45CCA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43C-8DF8-4E22-92D5-785FAA37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A2B-D0B0-4659-9DC2-40252694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4801-22C3-4F15-BA10-CED56D2BF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lauta%20y%20orquest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0024_image007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609480"/>
            <a:ext cx="4648320" cy="11912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cómo los japoneses resuelven una situación conflictiva derivada por las exigencias de un secuestrador durante un secues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4520" y="2487600"/>
            <a:ext cx="48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imágenes son re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Flauta%20y%20orquest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6000" y="573372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“Exijo 3 condiciones o mato al niñ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0311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egociadores se aproxima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scena por una ventana contigu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885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negociador asoma su cabeza para comenzar a negocia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8403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inmediato se realiza la “Negoci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147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8421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ye la Nego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8565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720" y="2743200"/>
            <a:ext cx="36352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nflicto resuelto, </a:t>
            </a:r>
            <a:br>
              <a:rPr sz="2800"/>
            </a:b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todo el mundo </a:t>
            </a:r>
            <a:br>
              <a:rPr sz="2800"/>
            </a:b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regresa a casa.  </a:t>
            </a:r>
            <a:br>
              <a:rPr sz="2800"/>
            </a:br>
            <a:br>
              <a:rPr sz="1000"/>
            </a:b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Bueno, casi todos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3240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4587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= CONCLUSIÓN=</a:t>
            </a:r>
            <a:br>
              <a:rPr sz="2400"/>
            </a:b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n nuestro país asumiríamos que éste individuo actuó por necesidad y estaríamos días y aun semanas discutiendo por qué tomó esa actitud, su estado emocional, si estaba bajo los efectos de alguna droga, su entorno familiar, antecedentes, etc.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Una vez detenido, seguramente dispondría de un abogado para su defensa, quien encontrará un montón de atenuantes y si el juicio era justo o no. Pasará quizá algunos años sin libertad pero con techo, comida y educación garantizada, por supuesto pagado por los familiares del secuestrado y por todos nosotros.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Es probable que cuando salga de la cárcel cometa la misma estupidez o algo peor, ó también es probable que haya contratado en abogado especializado para defender estos caso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Está visto que lo japoneses administran mucho mejor la justicia, su tiempo y el dinero público. ¡Qué gran lección! ¡Cuánto tenemos que aprender de la sabiduría nipona!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Por eso están como está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5640" y="0"/>
            <a:ext cx="74278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84920" y="6113520"/>
            <a:ext cx="340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6093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Arial"/>
              </a:rPr>
              <a:t>Adaptación: Francisco Arámb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5">
                                  <p:stCondLst>
                                    <p:cond delay="1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6:24:41Z</dcterms:created>
  <dc:creator>Flopy Inc.</dc:creator>
  <dc:description/>
  <dc:language>en-US</dc:language>
  <cp:lastModifiedBy>Francisco Aramburo</cp:lastModifiedBy>
  <dcterms:modified xsi:type="dcterms:W3CDTF">2007-04-03T19:15:11Z</dcterms:modified>
  <cp:revision>11</cp:revision>
  <dc:subject/>
  <dc:title>Demandas de un secuestrador   y resolución japonesa  de la negociación</dc:title>
</cp:coreProperties>
</file>