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EAA5-6127-40FA-B131-3DAC0DB5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9F0-F9A2-47AB-A0EB-1F9C55D9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F47-8819-4165-9D42-1E6FD3D0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697-4FE1-4CBC-B67C-829E9635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DA9-D5CE-4937-9DB3-4487DFDA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51C-A058-465C-B6C6-5C49D46C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844-778C-4916-927A-DC09361F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1DD-33FE-46C6-81C4-7D03F1E1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865-0A11-4F60-B70A-70D9DA64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FC1-CA95-43C9-9841-A02EFFBA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1B2-0339-4F8A-88C4-C849F9DF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F3C-0B14-481F-AE8A-679F733D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E312-E539-44C7-895E-C599950CE3B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6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arial"/>
              </a:rPr>
              <a:t>Impresionante</a:t>
            </a:r>
            <a:br>
              <a:rPr sz="7200"/>
            </a:br>
            <a:r>
              <a:rPr b="1" lang="en-US" sz="3200" spc="-1" strike="noStrike">
                <a:solidFill>
                  <a:srgbClr val="006062"/>
                </a:solidFill>
                <a:latin typeface="arial"/>
              </a:rPr>
              <a:t>Una impresionante representación de la pasión de Cristo en tamaño natural.   </a:t>
            </a:r>
            <a:br>
              <a:rPr sz="3200"/>
            </a:br>
            <a:r>
              <a:rPr b="1" lang="en-US" sz="3200" spc="-1" strike="noStrike">
                <a:solidFill>
                  <a:srgbClr val="006062"/>
                </a:solidFill>
                <a:latin typeface="arial"/>
              </a:rPr>
              <a:t>¡¡¡Hay un mensaje al final de las imágenes!!!!</a:t>
            </a:r>
            <a:br>
              <a:rPr sz="3200"/>
            </a:br>
            <a:r>
              <a:rPr b="1" lang="en-US" sz="3200" spc="-1" strike="noStrike">
                <a:solidFill>
                  <a:srgbClr val="006062"/>
                </a:solidFill>
                <a:latin typeface="arial"/>
              </a:rPr>
              <a:t>Estas son las imágenes de la crucifixión de Cristo esculpidos por un hombre en meta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062"/>
                </a:solidFill>
                <a:latin typeface="arial"/>
              </a:rPr>
              <a:t>cerca de Amarillo, Texas. </a:t>
            </a:r>
            <a:br>
              <a:rPr sz="3200"/>
            </a:br>
            <a:r>
              <a:rPr b="1" lang="en-US" sz="3200" spc="-1" strike="noStrike">
                <a:solidFill>
                  <a:srgbClr val="006062"/>
                </a:solidFill>
                <a:latin typeface="arial"/>
              </a:rPr>
              <a:t>Las cruces están hechas de metal también. </a:t>
            </a:r>
            <a:br>
              <a:rPr sz="3200"/>
            </a:br>
            <a:r>
              <a:rPr b="1" lang="en-US" sz="3200" spc="-1" strike="noStrike">
                <a:solidFill>
                  <a:srgbClr val="006062"/>
                </a:solidFill>
                <a:latin typeface="arial"/>
              </a:rPr>
              <a:t>El hombre las hizo por la bondad que exi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062"/>
                </a:solidFill>
                <a:latin typeface="arial"/>
              </a:rPr>
              <a:t>en su corazón. </a:t>
            </a:r>
            <a:br>
              <a:rPr sz="3200"/>
            </a:br>
            <a:r>
              <a:rPr b="1" lang="en-US" sz="3200" spc="-1" strike="noStrike">
                <a:solidFill>
                  <a:srgbClr val="006062"/>
                </a:solidFill>
                <a:latin typeface="arial"/>
              </a:rPr>
              <a:t>Alguien donó el terreno en el que se debieron erigir.</a:t>
            </a:r>
            <a:r>
              <a:rPr b="1" lang="en-US" sz="2400" spc="-1" strike="noStrike">
                <a:solidFill>
                  <a:srgbClr val="006062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TT001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TT001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TT001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TT00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TT0015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TT0015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TT001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TT00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TT001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TT0016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TT001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TT001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TT00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¿Quién es Jesús?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Él es JESÚS.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¿Quién es Él?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En química: Él convirtió el agua en vino.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En biología: nació sin la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NORMAL CONCEPCIÓN.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En física: desmintió la ley de la Gravedad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cuando ascendió al cielo.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En economía: Él refutó la ley de la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disminución al alimentar 5000 personas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con sólo dos peces y un pan.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En medicina: Él curó a los enfermos y los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ciegos sin administrar una sola dosis de droga.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En historia: Él es el PRINCIPIO y el FINAL.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 En el gobierno: dijo que Él sería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llamado maravilloso consejero, el príncipe de la paz.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En la religión: dijo que nadie viene a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al padre sino a través de Él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Entonces, ¿quién es él?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¡Él es JESÚS!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Él es digno.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Los ojos que leen este mensaje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no temerán al mal; la mano que envíe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este mensaje a todo el mundo  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no trabajará en vano.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Y la boca que diga Amén a esta o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sonreirá por siempre.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Permanece en Dios y busca su rostro siempre.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¡AMEN!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¡En Dios todo lo encuentro! </a:t>
            </a:r>
            <a:br>
              <a:rPr sz="2400"/>
            </a:br>
            <a:r>
              <a:rPr b="1" lang="es-ES" sz="2400" spc="-1" strike="noStrike" u="sng">
                <a:solidFill>
                  <a:srgbClr val="06ae26"/>
                </a:solidFill>
                <a:uFillTx/>
                <a:latin typeface="arial"/>
                <a:ea typeface="arial"/>
              </a:rPr>
              <a:t>El hombre más grande en la historia</a:t>
            </a: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Jesús no tenía siervos y sin embargo le llamaban Señor.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No tenía ningún grado de estudio, sin embarg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le llamaban Maestro.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No tenía medicamentos, pero le llamaban sanador.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Él no tenía ejército, pero los reyes le temían.</a:t>
            </a:r>
            <a:r>
              <a:rPr b="1" lang="es-ES" sz="2400" spc="-1" strike="noStrike">
                <a:solidFill>
                  <a:srgbClr val="006062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83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Él no ganó batallas militares, y sin embar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Él conquistó el mundo.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Él no cometió delito alguno y, sin embarg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le crucificaron.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Fue enterrado en una tumba, y sin embar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Él vive hoy.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¡Me siento honrado de servir a este líder que nos ama!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Si tú crees en Dios y en Jesús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Cristo su hijo..... Re-envíalo a todos en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tu lista de amigos.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Si no simplemente ignóralo.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Si lo ignoras, simplemente recuerda que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Jesús dijo:</a:t>
            </a: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arial"/>
              </a:rPr>
              <a:t>Si me niegas ante los hombres, voy a negarte ante mi Padre.</a:t>
            </a:r>
            <a:r>
              <a:rPr b="1" lang="en-US" sz="2400" spc="-1" strike="noStrike" u="sng">
                <a:solidFill>
                  <a:srgbClr val="0547c0"/>
                </a:solidFill>
                <a:uFillTx/>
                <a:latin typeface="arial"/>
                <a:ea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TT001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TT001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TT00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TT001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TT001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001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TT001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21:41:22Z</dcterms:created>
  <dc:creator>GTI</dc:creator>
  <dc:description/>
  <dc:language>en-US</dc:language>
  <cp:lastModifiedBy>GTI</cp:lastModifiedBy>
  <dcterms:modified xsi:type="dcterms:W3CDTF">2008-06-30T21:44:05Z</dcterms:modified>
  <cp:revision>1</cp:revision>
  <dc:subject/>
  <dc:title>Presentación de PowerPoint</dc:title>
</cp:coreProperties>
</file>