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8C4-62B3-4D6D-A1D3-35C5E3BD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C1D-6E39-4364-B622-C11B5E64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A1C-0897-4994-9FDD-E6F35338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669-9BA0-405A-8658-FDD05552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152-7DA1-4B82-839B-B5BE0A7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F47-76AF-41CB-A053-0D2F4EBA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515-34A2-4E81-9327-C5C00934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371-489C-4A5C-9DA6-79E669B0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40F-E9A5-4DF4-B29B-D842C6D8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385-ADD5-406F-922F-18494D32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4D6-6764-4E9A-9CBB-28AD242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018-72BF-4589-9F8C-F33BDC8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78A0-597D-4B89-B0F5-7FCC827DD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Mari755.wav" descr=""/>
          <p:cNvPicPr/>
          <p:nvPr/>
        </p:nvPicPr>
        <p:blipFill>
          <a:blip r:embed="rId2"/>
          <a:stretch/>
        </p:blipFill>
        <p:spPr>
          <a:xfrm>
            <a:off x="684360" y="6138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Picture100"/>
          <p:cNvPicPr/>
          <p:nvPr/>
        </p:nvPicPr>
        <p:blipFill>
          <a:blip r:embed="rId3"/>
          <a:stretch/>
        </p:blipFill>
        <p:spPr>
          <a:xfrm>
            <a:off x="6875640" y="530064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560" y="691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JAPÓN: REVOLUCIONARIO SISTEMA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PEDAGÓGICO - EDUCATIVO !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076640"/>
            <a:ext cx="404352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rograma de 12 años, está basado en los conceptos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· Cero patriotismo.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· Cero materias de relleno.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· Cero tareas.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· Y Solo tiene 5 materias, que son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 Imagen" descr=""/>
          <p:cNvPicPr/>
          <p:nvPr/>
        </p:nvPicPr>
        <p:blipFill>
          <a:blip r:embed="rId1"/>
          <a:stretch/>
        </p:blipFill>
        <p:spPr>
          <a:xfrm>
            <a:off x="-774720" y="-25560"/>
            <a:ext cx="9955080" cy="6924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000" y="2349000"/>
            <a:ext cx="6418440" cy="37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  Aritmética de Negocios:  Las operaciones básicas y uso de calculadoras de negocio.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  Lectura: Empiezan leyendo una hoja diaria del libro que cada niño escoja, y terminan leyendo un libro por semana.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  Civismo: Pero entendiendo el civismo como el respeto total a las leyes, el valor civil, la ética, el respeto a las normas de convivencia, la tolerancia, el altruismo, y el respeto a la ecologí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793116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  Computación: Office, internet, redes sociales y negocios on-line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  4 Idiomas, Alfabetos, Culturas y Religiones: japonesa, americana, china y árabe, con visitas de intercambio a familias de cada país durante el verano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uál será la resultante de este programa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óvenes que a los 18 años hablan 4 idiomas, conocen 4 culturas, 4 alfabetos y 4 relig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2 Imagen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16000" y="115920"/>
            <a:ext cx="397044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·  Son expertos en el uso de sus computadoras.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·  Leen 52 libros cada año.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·  Respetan la ley, la ecología y la convivencia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·  Manejan la aritmética de negocios al dedillo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0800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ontra ellos van a competir nuestros hijos?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2 Marcador de contenido" descr=""/>
          <p:cNvPicPr/>
          <p:nvPr/>
        </p:nvPicPr>
        <p:blipFill>
          <a:blip r:embed="rId1"/>
          <a:stretch/>
        </p:blipFill>
        <p:spPr>
          <a:xfrm>
            <a:off x="536400" y="345960"/>
            <a:ext cx="8150400" cy="611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bottom"/>
          <p:cNvPicPr/>
          <p:nvPr/>
        </p:nvPicPr>
        <p:blipFill>
          <a:blip r:embed="rId3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sides"/>
          <p:cNvPicPr/>
          <p:nvPr/>
        </p:nvPicPr>
        <p:blipFill>
          <a:blip r:embed="rId4"/>
          <a:stretch/>
        </p:blipFill>
        <p:spPr>
          <a:xfrm>
            <a:off x="0" y="380880"/>
            <a:ext cx="533520" cy="6096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sides"/>
          <p:cNvPicPr/>
          <p:nvPr/>
        </p:nvPicPr>
        <p:blipFill>
          <a:blip r:embed="rId5"/>
          <a:stretch/>
        </p:blipFill>
        <p:spPr>
          <a:xfrm>
            <a:off x="8686800" y="380880"/>
            <a:ext cx="457200" cy="609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Left door - collapse to left"/>
          <p:cNvPicPr/>
          <p:nvPr/>
        </p:nvPicPr>
        <p:blipFill>
          <a:blip r:embed="rId6"/>
          <a:stretch/>
        </p:blipFill>
        <p:spPr>
          <a:xfrm>
            <a:off x="380880" y="228600"/>
            <a:ext cx="4191120" cy="617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Right dooe - collapse to right"/>
          <p:cNvPicPr/>
          <p:nvPr/>
        </p:nvPicPr>
        <p:blipFill>
          <a:blip r:embed="rId7"/>
          <a:stretch/>
        </p:blipFill>
        <p:spPr>
          <a:xfrm>
            <a:off x="4572000" y="228600"/>
            <a:ext cx="4327560" cy="61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 Imagen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está probando en Japón, un revolucionario plan piloto llamado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Cambio Valiente” (Futoji no henkō)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735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asado en los programas educativos Erasmus, Grundtvig, Monnet, Ashoka y Comeni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un cambio conceptual que rompe paradigmas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tan revolucionario que forma a los niños como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Ciudadanos del mundo” no como japoneses. 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 Imagen" descr=""/>
          <p:cNvPicPr/>
          <p:nvPr/>
        </p:nvPicPr>
        <p:blipFill>
          <a:blip r:embed="rId1"/>
          <a:stretch/>
        </p:blipFill>
        <p:spPr>
          <a:xfrm>
            <a:off x="9360" y="7920"/>
            <a:ext cx="9134640" cy="685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2447640" cy="20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esas escuelas no se rinde culto a la bandera, no se canta el himno, no se vanagloria a héroes inventados por la historia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 Imagen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47640" y="115560"/>
            <a:ext cx="570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alumnos ya no creen que su país es superior a otros por el solo hecho de haber nacido allí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whiteGulls"/>
          <p:cNvPicPr/>
          <p:nvPr/>
        </p:nvPicPr>
        <p:blipFill>
          <a:blip r:embed="rId2"/>
          <a:stretch/>
        </p:blipFill>
        <p:spPr>
          <a:xfrm>
            <a:off x="2666880" y="3505320"/>
            <a:ext cx="117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 Imagen" descr=""/>
          <p:cNvPicPr/>
          <p:nvPr/>
        </p:nvPicPr>
        <p:blipFill>
          <a:blip r:embed="rId1"/>
          <a:stretch/>
        </p:blipFill>
        <p:spPr>
          <a:xfrm>
            <a:off x="-2090880" y="0"/>
            <a:ext cx="11234880" cy="6869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a no irán a la guerra para defender los intereses económicos delos grupos de poder, disfrazados de “patriotismo”.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sus horizontes serán globales, no nacionales. 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 Imagen" descr=""/>
          <p:cNvPicPr/>
          <p:nvPr/>
        </p:nvPicPr>
        <p:blipFill>
          <a:blip r:embed="rId1"/>
          <a:stretch/>
        </p:blipFill>
        <p:spPr>
          <a:xfrm>
            <a:off x="-316080" y="0"/>
            <a:ext cx="10001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19640" y="2284560"/>
            <a:ext cx="3827520" cy="22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agínese que ese cambio se está dando en uno de los países más tradicionalistas y machistas del mund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0:37:44Z</dcterms:created>
  <dc:creator>Antonio</dc:creator>
  <dc:description/>
  <dc:language>en-US</dc:language>
  <cp:lastModifiedBy>Antonio</cp:lastModifiedBy>
  <dcterms:modified xsi:type="dcterms:W3CDTF">2012-05-02T16:35:39Z</dcterms:modified>
  <cp:revision>19</cp:revision>
  <dc:subject/>
  <dc:title>Presentación de PowerPoint</dc:title>
</cp:coreProperties>
</file>