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391-C4C9-4FA8-A896-846808ED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B66-E2C7-46A3-A4C1-EAC606B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8B5-EC00-4BA4-BDBA-6832E053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C0-72A8-4F0A-AF85-DE943B2E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54B-571F-4C5D-88D1-EA598864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9B5-59F6-48B7-BA97-07AC0261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F23-DD97-42AF-912E-11F4F7CD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12E-B6EC-4535-ABF8-BF13EAE4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8F3-6268-4850-A32D-1BF6BEE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322-82FF-44BC-BDFF-3C2DAE0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184-6B1A-41CA-BF8E-163C716F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6EF-FF57-4FFE-9FE3-145CE55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494E-0A93-4078-BE10-62B1BF60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Mari755.wav" descr=""/>
          <p:cNvPicPr/>
          <p:nvPr/>
        </p:nvPicPr>
        <p:blipFill>
          <a:blip r:embed="rId2"/>
          <a:stretch/>
        </p:blipFill>
        <p:spPr>
          <a:xfrm>
            <a:off x="684360" y="6138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Picture100"/>
          <p:cNvPicPr/>
          <p:nvPr/>
        </p:nvPicPr>
        <p:blipFill>
          <a:blip r:embed="rId3"/>
          <a:stretch/>
        </p:blipFill>
        <p:spPr>
          <a:xfrm>
            <a:off x="6875640" y="5300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560" y="69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JAPÓN: REVOLUCIONARIO SISTEMA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PEDAGÓGICO - EDUCATIVO 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076640"/>
            <a:ext cx="40435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rograma de 12 años, está basado en los conceptos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patriotismo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materias de relleno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tareas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Y Solo tiene 5 materias, que so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 Imagen" descr=""/>
          <p:cNvPicPr/>
          <p:nvPr/>
        </p:nvPicPr>
        <p:blipFill>
          <a:blip r:embed="rId1"/>
          <a:stretch/>
        </p:blipFill>
        <p:spPr>
          <a:xfrm>
            <a:off x="-774720" y="-25560"/>
            <a:ext cx="9955080" cy="6924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2349000"/>
            <a:ext cx="6418440" cy="37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  Aritmética de Negocios:  Las operaciones básicas y uso de calculadoras de negocio.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  Lectura: Empiezan leyendo una hoja diaria del libro que cada niño escoja, y terminan leyendo un libro por semana.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  Civismo: Pero entendiendo el civismo como el respeto total a las leyes, el valor civil, la ética, el respeto a las normas de convivencia, la tolerancia, el altruismo, y el respeto a la ecologí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931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  Computación: Office, internet, redes sociales y negocios on-line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  4 Idiomas, Alfabetos, Culturas y Religiones: japonesa, americana, china y árabe, con visitas de intercambio a familias de cada país durante el verano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l será la resultante de este programa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óvenes que a los 18 años hablan 4 idiomas, conocen 4 culturas, 4 alfabetos y 4 relig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 Imagen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16000" y="115920"/>
            <a:ext cx="397044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Son expertos en el uso de sus computadoras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Leen 52 libros cada año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Respetan la ley, la ecología y la convivencia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Manejan la aritmética de negocios al dedillo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0800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ontra ellos van a competir nuestros hijos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Marcador de contenido" descr=""/>
          <p:cNvPicPr/>
          <p:nvPr/>
        </p:nvPicPr>
        <p:blipFill>
          <a:blip r:embed="rId1"/>
          <a:stretch/>
        </p:blipFill>
        <p:spPr>
          <a:xfrm>
            <a:off x="536400" y="345960"/>
            <a:ext cx="8150400" cy="611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ottom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sides"/>
          <p:cNvPicPr/>
          <p:nvPr/>
        </p:nvPicPr>
        <p:blipFill>
          <a:blip r:embed="rId4"/>
          <a:stretch/>
        </p:blipFill>
        <p:spPr>
          <a:xfrm>
            <a:off x="0" y="380880"/>
            <a:ext cx="53352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sides"/>
          <p:cNvPicPr/>
          <p:nvPr/>
        </p:nvPicPr>
        <p:blipFill>
          <a:blip r:embed="rId5"/>
          <a:stretch/>
        </p:blipFill>
        <p:spPr>
          <a:xfrm>
            <a:off x="8686800" y="380880"/>
            <a:ext cx="457200" cy="609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Left door - collapse to left"/>
          <p:cNvPicPr/>
          <p:nvPr/>
        </p:nvPicPr>
        <p:blipFill>
          <a:blip r:embed="rId6"/>
          <a:stretch/>
        </p:blipFill>
        <p:spPr>
          <a:xfrm>
            <a:off x="380880" y="228600"/>
            <a:ext cx="4191120" cy="617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Right dooe - collapse to right"/>
          <p:cNvPicPr/>
          <p:nvPr/>
        </p:nvPicPr>
        <p:blipFill>
          <a:blip r:embed="rId7"/>
          <a:stretch/>
        </p:blipFill>
        <p:spPr>
          <a:xfrm>
            <a:off x="4572000" y="228600"/>
            <a:ext cx="432756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 Imagen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stá probando en Japón, un revolucionario plan piloto llamad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Cambio Valiente” (Futoji no henkō)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735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asado en los programas educativos Erasmus, Grundtvig, Monnet, Ashoka y Comeni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un cambio conceptual que rompe paradigmas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tan revolucionario que forma a los niños com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Ciudadanos del mundo” no como japoneses.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 Imagen" descr=""/>
          <p:cNvPicPr/>
          <p:nvPr/>
        </p:nvPicPr>
        <p:blipFill>
          <a:blip r:embed="rId1"/>
          <a:stretch/>
        </p:blipFill>
        <p:spPr>
          <a:xfrm>
            <a:off x="9360" y="7920"/>
            <a:ext cx="9134640" cy="685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244764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esas escuelas no se rinde culto a la bandera, no se canta el himno, no se vanagloria a héroes inventados por la historia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 Imagen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47640" y="11556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alumnos ya no creen que su país es superior a otros por el solo hecho de haber nacido allí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whiteGulls"/>
          <p:cNvPicPr/>
          <p:nvPr/>
        </p:nvPicPr>
        <p:blipFill>
          <a:blip r:embed="rId2"/>
          <a:stretch/>
        </p:blipFill>
        <p:spPr>
          <a:xfrm>
            <a:off x="2666880" y="3505320"/>
            <a:ext cx="117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 Imagen" descr=""/>
          <p:cNvPicPr/>
          <p:nvPr/>
        </p:nvPicPr>
        <p:blipFill>
          <a:blip r:embed="rId1"/>
          <a:stretch/>
        </p:blipFill>
        <p:spPr>
          <a:xfrm>
            <a:off x="-2090880" y="0"/>
            <a:ext cx="11234880" cy="6869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a no irán a la guerra para defender los intereses económicos delos grupos de poder, disfrazados de “patriotismo”.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sus horizontes serán globales, no nacionales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 Imagen" descr=""/>
          <p:cNvPicPr/>
          <p:nvPr/>
        </p:nvPicPr>
        <p:blipFill>
          <a:blip r:embed="rId1"/>
          <a:stretch/>
        </p:blipFill>
        <p:spPr>
          <a:xfrm>
            <a:off x="-316080" y="0"/>
            <a:ext cx="10001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2284560"/>
            <a:ext cx="382752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agínese que ese cambio se está dando en uno de los países más tradicionalistas y machistas del mun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0:37:44Z</dcterms:created>
  <dc:creator>Antonio</dc:creator>
  <dc:description/>
  <dc:language>en-US</dc:language>
  <cp:lastModifiedBy>Antonio</cp:lastModifiedBy>
  <dcterms:modified xsi:type="dcterms:W3CDTF">2012-05-02T16:35:39Z</dcterms:modified>
  <cp:revision>19</cp:revision>
  <dc:subject/>
  <dc:title>Presentación de PowerPoint</dc:title>
</cp:coreProperties>
</file>