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72D47-E762-4A82-8295-8C056A2A1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F00F2-B20A-4DDF-8E53-A366DC4D7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EA2AF-89C9-4A70-8B6A-85761843D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89B26-50AF-43CD-8529-5B9E220A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4D28B-440A-4048-8906-9C78D2CCE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6E39E-43A7-42EB-9B15-84DE9FD1E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FEDF-BCCE-4E36-B790-AD448DE5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EAEF-4601-4D30-82D2-656F0AED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D86B8-D875-41B7-9811-90178368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3AA7-D3C0-4D53-8AD4-FE5B590E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E1ED-3C34-4260-84AC-E1289462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A225-970F-4C33-8B72-7E1AE9FDB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98A3-9C3D-4B47-B86A-B6B4C548DDE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7.xml"/><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6699"/>
                </a:solidFill>
                <a:latin typeface="Edwardian Script ITC"/>
              </a:rPr>
              <a:t> </a:t>
            </a:r>
            <a:r>
              <a:rPr b="1" lang="en-US" sz="15000" spc="-1" strike="noStrike">
                <a:solidFill>
                  <a:srgbClr val="bc2400"/>
                </a:solidFill>
                <a:latin typeface="Edwardian Script ITC"/>
              </a:rPr>
              <a:t>Horóscopo....</a:t>
            </a:r>
            <a:r>
              <a:rPr b="0" lang="en-US" sz="9600" spc="-1" strike="noStrike">
                <a:solidFill>
                  <a:srgbClr val="000000"/>
                </a:solidFill>
                <a:latin typeface="Edwardian Script ITC"/>
              </a:rPr>
              <a:t> </a:t>
            </a:r>
            <a:endParaRPr b="0" lang="en-US" sz="9600" spc="-1" strike="noStrike">
              <a:solidFill>
                <a:srgbClr val="000000"/>
              </a:solidFill>
              <a:latin typeface="Arial"/>
            </a:endParaRPr>
          </a:p>
        </p:txBody>
      </p:sp>
    </p:spTree>
  </p:cSld>
  <p:transition spd="slow" advTm="6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AUR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bril 20 * May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a Trampa</a:t>
            </a:r>
            <a:endParaRPr b="0" lang="en-US" sz="17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resivo. Ama las relaciones largas. Les gusta dar buenas peleas por aquello que quieren. Extremadamente extrovertidos. Aman ayudar a las personas que lo necesitan. Buen besador. Buena personalidad. Testarudo. Preocupativo. Único en su clase. Alguien con quien no deberías meterte. Las personas más atractivas sobre la tierra! Un Tauro suele ser práctico, decidido y tener una gran fuerza de voluntad. Los Tauro son personas estables y conservadores, y seguirán de forma leal un líder en el que tienen confianza. Les encanta la paz y tranquilidad y son muy respetuosos con las leyes y las reglas. Respetan los valores materiales y evitan las deudas. Son un poco reacios al cambio. Son más prácticos que intelectuales, y como les gusta la continuidad y la rutina, suelen ser de ideas fijas. Los Tauro son prudentes, estables y tienen un gran sentido de la justicia. No suelen hundirse ante las dificultades sino que siguen adelante hasta salir. A veces los Tauro pueden ser demasiado rígidos, argumentativos, egocéntricos y tercos. A los Tauros les gustan las cosas bellas y suelen ser aficionados al arte y la música. Algunos Tauros tienen una fe religiosa poco convencional y muy fuerte. Les encantan los placeres de la vida, el lujo y la buena comida y bebida. De hecho los Tauro deben esforzarse para no dejarse llevar por la tentación de satisfacer en exceso estos gustos. Los Tauro son amigos fieles y generosos. Tienen una gran capacidad para ser cariñosos aunque rara vez hagan amigos con personas fuera de su entorno social. Evitan los conflictos y los disgustos y prefieren el buen humor y la estabilidad. No obstante, si pierden los nervios son capaces de tener un genio tan furioso que sorprende a todos. Los Tauro son sensuales pero prácticos, y en este sentido son parejas fieles y considerados. Son buenos padres y no existen demasiado de su pareja ni tampoco de sus hijos. Tienen bastante amor propio y tienden a ser posesivos pero si su pareja intenta hacer las paces y comprenderles, hacen un esfuerzo para olvidar su enfado.</a:t>
            </a:r>
            <a:endParaRPr b="0" lang="en-US" sz="1500" spc="-1" strike="noStrike">
              <a:solidFill>
                <a:srgbClr val="000000"/>
              </a:solidFill>
              <a:latin typeface="Arial"/>
            </a:endParaRPr>
          </a:p>
          <a:p>
            <a:pPr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 años de mala suerte si no lo reenvías.</a:t>
            </a:r>
            <a:endParaRPr b="0" lang="en-US" sz="1700" spc="-1" strike="noStrike">
              <a:solidFill>
                <a:srgbClr val="000000"/>
              </a:solidFill>
              <a:latin typeface="Arial"/>
            </a:endParaRPr>
          </a:p>
        </p:txBody>
      </p:sp>
      <p:sp>
        <p:nvSpPr>
          <p:cNvPr id="71"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MINI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yo 21 * Juni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rresistible</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Agradable. Su amor es único en su clase. Gran escuchador. Muy bueno en ESO... Son amantes, no luchadores, pero de todos modos te puede llegar a dejar inconsciente. Confiable. Siempre feliz. Ruidoso. Hablador. Salidor MUYCOMPASIVO. Siempre busca llegar a un arreglo o entendimiento. Tiene una hermosa sonrisa. Generoso. Fuerte. EL MAS IRRESISTIBLE. Géminis es el signo de los gemelos y como tal su carácter es doble y bastante complejo y contradictorio. Por un lado es versátil, pero por el otro puede ser insincero. Suelen tener elegancia y caer en los errores de los jóvenes. Tienen la felicidad, el egocentrismo, la imaginación y la inquietud e los niños. Los Géminis empiezan nuevas actividades y retos con entusiasmo, pero muchas veces les falta la constancia para realizarlos. Consideran que la vida es como un juego y buscan la diversión y nuevas situaciones.  Un Géminis suele ser cortés, cariñoso, amable y generoso. A veces utilizan sus atributos para conseguir sus propios objetivos y son capaces de recurrir a la mentira sin perder su encanto con tal de obtener lo que quieren. Se desaniman con facilidad (como los niños) cuando no consiguen lo que quieren, y les gusta recibir atención, regalos y halagos. Los géminis tienen que esforzarse para no desanimarse cuando las cosas se ponen difíciles. La inteligencia y capacidad mental de los géminis hacen que les encantan retos cerebrales y nuevos conocimientos, aunque el proceso de aprendizaje tiende a aburrirles. Tienen gran capacidad analítica. En el amor los géminis vuelven a demostrar su doble naturaleza. Tienen un lado que se entrega emocionalmente pero otro que rechaza el romanticismo. Tienden a tener relaciones de pareja cortas porque les puede llegar a aburrir la estabilidad de una pareja una vez conquistada. Suelen tener muchos amiguetes y pocos buenos amigos. Los Géminis pueden ser grandes tertulianos.</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9 años de mala suerte si no lo reenvías </a:t>
            </a:r>
            <a:endParaRPr b="0" lang="en-US" sz="1500" spc="-1" strike="noStrike">
              <a:solidFill>
                <a:srgbClr val="000000"/>
              </a:solidFill>
              <a:latin typeface="Arial"/>
            </a:endParaRPr>
          </a:p>
        </p:txBody>
      </p:sp>
      <p:sp>
        <p:nvSpPr>
          <p:cNvPr id="74"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NCER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unio 21 * Julio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tierno</a:t>
            </a:r>
            <a:endParaRPr b="0" lang="en-US" sz="17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l mas sorprendente de los besadores. Gran atractivo en su personalidad. Su amor es único. Muy romántico. La persona más cariñosa que conocerás! Totalmente creativo, imaginativo y soñador. Meditabundo. Con la mente siempre en el aire y un paso más allá. Extremadamente aleatorio y cambiante (y orgulloso de ser así). Freak. Espontáneo. Contador de grandes historias. Extremadamente tímido y cerrado. No es un para nada un luchador, pero de seguro te dejará inconsciente si tiene que hacerlo. Alguien de quien te aferrarías. El carácter de un cáncer es el menos claro de todos los signos del zodiaco. Un cáncer puede ser desde tímido y aburrido hasta brillante y famoso. La casa de un Cáncer tiende a ser su refugio personal más que un escaparate para deslumbrar a los demás. Un Cáncer entiende que hay momentos para ser sociable y otros momentos para ser solitario. Esto es una de las contradicciones en su carácter. Desde fuera parecen decididos, resistentes, tercos, tenaces, energéticos, sabios y intuitivos. No obstante los que les conocen desde la intimidad pueden ver un tipo de persona totalmente distinto - alguien sensible sobre todo hacia las personas a las que quiere. Los cáncer saben identificarse con la situación de los demás por su gran capacidad imaginativa. A veces son demasiados fantasiosos y pretenden construir su vida según un ideal romántico. Les gusta el arte, la música y la literatura y, sobre todo, los artes dramáticos y la acción. Un Cáncer tiene una memoria excelente, sobre todo por acontecimientos personales y recuerdos de su infancia que son capaces de recordar al máximo detalle. Los cáncer viven condicionados por sus recuerdos del pasado y por su imaginación del futuro. El signo cáncer tiene muchos defectos potenciales. Pueden tener tendencia hacia un desorden, un complejo de inferioridad. Se sienten aludidos con frecuencia, y muchas veces por causas imaginadas sin fundamento real, y les gustan demasiado los halagos de los demás. Son ambiciosos. Pueden cambiar sin dificultad profesión, lealtades e incluso su opinión sobre las personas.</a:t>
            </a:r>
            <a:endParaRPr b="0" lang="en-US" sz="1500" spc="-1" strike="noStrike">
              <a:solidFill>
                <a:srgbClr val="000000"/>
              </a:solidFill>
              <a:latin typeface="Arial"/>
            </a:endParaRPr>
          </a:p>
          <a:p>
            <a:pPr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 años de mala suerte si no lo reenvías.</a:t>
            </a:r>
            <a:endParaRPr b="0" lang="en-US" sz="1700" spc="-1" strike="noStrike">
              <a:solidFill>
                <a:srgbClr val="000000"/>
              </a:solidFill>
              <a:latin typeface="Arial"/>
            </a:endParaRPr>
          </a:p>
        </p:txBody>
      </p:sp>
      <p:sp>
        <p:nvSpPr>
          <p:cNvPr id="77"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ulio 23 * Agosto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León</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Arial"/>
              </a:rPr>
              <a:t>Gran hablador. Atractivo y apasionado. Despreocupado. Sabe como </a:t>
            </a:r>
            <a:br>
              <a:rPr sz="1500"/>
            </a:br>
            <a:r>
              <a:rPr b="0" lang="en-US" sz="1500" spc="-1" strike="noStrike">
                <a:solidFill>
                  <a:srgbClr val="000000"/>
                </a:solidFill>
                <a:latin typeface="Arial"/>
              </a:rPr>
              <a:t>divertirse. Es muy bueno en todo lo que hace. Gran besador. Impredecible. Extrovertido. Con los pies en la tierra. Adictivo.. Atractivo. Ruidoso. Ama las largas relaciones apasionadas . Hablador.. Alguien con quien no deberías meterte. Difícil de encontrar. Bueno cuando lo encuentras. Leo es el signo más dominante del zodiaco. También es creativo y extrovertido. Son los reyes entre los humanos, de la misma forma que los leones son los reyes en el reino animal. Tienen ambición, fuerza, valentía, independencia y total seguridad en sus capacidades. No suelen tener dudas sobre qué hacer. Son líderes sin complicaciones – saben dónde quieren llegar y ponen todo su empeño, energía y creatividad en conseguir su objetivo. No temen los obstáculos - más bien crecen ante ellos. En general son buenos, idealistas e inteligentes. Pueden llegar a ser tercas en sus creencias, pero siempre desde una fe y sinceridad absoluta. A un leo le suelen gustar el lujo y el poder. Sus defectos pueden ser tan amplios como sus virtudes y un celo excesivamente negativo puede ser una persona arrogante, orgullosa y con muy mal genio. Son capaces de utilizar trucos y mentiras para desacreditar a sus enemigos. También pueden adoptar ciertos aires de superioridad y prepotencia. En sus relaciones personales el leo es abierto, confiado y sincero. Dice lo que piensa, pero siempre es amable. A los leo les cuesta acertar con las personas y muchas veces tienden a confiar demasiado en personas que no se merecen tanta confianza. Les encantan las relaciones sexuales y suelen tener muchas parejas durante su vida. Son sinceros con su pareja mientras dura el amor, y les gusta su hogar, pero no son el signo más fiel del zodiaco.</a:t>
            </a:r>
            <a:endParaRPr b="0" lang="en-US" sz="1500" spc="-1" strike="noStrike">
              <a:solidFill>
                <a:srgbClr val="000000"/>
              </a:solidFill>
              <a:latin typeface="Arial"/>
            </a:endParaRPr>
          </a:p>
          <a:p>
            <a:pPr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 años de mala suerte si no lo reenvías. </a:t>
            </a:r>
            <a:endParaRPr b="0" lang="en-US" sz="1500" spc="-1" strike="noStrike">
              <a:solidFill>
                <a:srgbClr val="000000"/>
              </a:solidFill>
              <a:latin typeface="Arial"/>
            </a:endParaRPr>
          </a:p>
        </p:txBody>
      </p:sp>
      <p:sp>
        <p:nvSpPr>
          <p:cNvPr id="80"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700" spc="-1" strike="noStrike">
                <a:solidFill>
                  <a:srgbClr val="000000"/>
                </a:solidFill>
                <a:latin typeface="Arial"/>
              </a:rPr>
              <a:t>VIRG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gosto 23 * Septiembre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que espera</a:t>
            </a: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minante en las relaciones. Siempre tienen alguien que los ame. Siempre quieren tener la última palabra. Cariñoso. Astuto. Ruidoso. Fiel. Dado para hablar. Todo lo que siempre buscaste. Fácil de complacer. El primero y único. Virgo, el único signo representado por una mujer, es un signo caracterizado por su precisión, su convencionalidad, su actitud reservado y su afán, a veces hasta obsesión, con la limpieza. Los virgo suelen ser observadores, y pacientes. Pueden parecer a veces fríos, y de hecho les cuesta hacer grandes amigos. El hecho que muchas de sus relaciones con otros resultan ser superficiales es porque en realidad los virgo temen dar riendas a sus sentimientos y les falta tener seguridad en sus emociones y opiniones. Prefieren actuar con reservas y con una disposición agradable. Suelen ser discretos, amables y divertidos con otras personas, y pueden ayudar a resolver los problemas de terceros con una habilidad y sensatez que muchas veces les falta en sus propias relaciones personales. Los Virgos tienen encanto y dignidad hasta tal punto que a veces los varones pueden aparecer algo afeminado, aunque no lo sean. Son metódicos, estudiosos y les gusta la lógica. También les gusta aprender, y son capaces de analizar las situaciones más complicadas. No obstante, a veces son tan meticulosos que retrasan la conclusión de proyectos complicados. Son muy intuitivos y son capaces de ver todos los lados de un argumento, lo que hace que les cuesta llegar a conclusiones firmes. Los Virgo son cariñosos y son buenos esposos y padres. No son muy apasionados en el amor, porque su necesidad de tener orden y disciplina les impide entregarse totalmente a la pasión. A un virgo le cuesta confiar en las personas, no porque sea desconfiado por naturaleza, sino porque tiene poca seguridad en si mismo y extrapola esto en los demás.</a:t>
            </a:r>
            <a:endParaRPr b="0" lang="en-US" sz="1500" spc="-1" strike="noStrike">
              <a:solidFill>
                <a:srgbClr val="000000"/>
              </a:solidFill>
              <a:latin typeface="Arial"/>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 años de mala suerte si no lo reenvías.</a:t>
            </a:r>
            <a:endParaRPr b="0" lang="en-US" sz="1700" spc="-1" strike="noStrike">
              <a:solidFill>
                <a:srgbClr val="000000"/>
              </a:solidFill>
              <a:latin typeface="Arial"/>
            </a:endParaRPr>
          </a:p>
        </p:txBody>
      </p:sp>
      <p:sp>
        <p:nvSpPr>
          <p:cNvPr id="83"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BRA</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ptiembre 23 * Octubre 22)</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Rengo</a:t>
            </a:r>
            <a:endParaRPr b="0" lang="en-US" sz="17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gradables con todas las personas. Su amor es único. Tonto, divertido y dulce. Tiene un atractivo único. La persona más cariñosa que conocerás! Sin embargo, alguien de Libra no es la clase de persona con la que te meterías, porque te dejaría llorando. Los Libra se encuentran entre los signos más civilizados del zodiaco. Tienen encanto, elegancia y buen gusto, y son amables y pacíficos. Les gusta la belleza y la armonía y son capaces de ser imparcial ante conflictos. No obstante, una vez que han llegado a una opinión sobre algo, no les gusta que se les contradiga. Les gusta contar con el apoyo de los demás. Un Libra tiende a ser sensible a las necesidades de los demás y suele ser muy sociable. No soportan el conflicto y la crueldad y son muy diplomáticos ante los conflictos. Suelen buscar el consenso ante una situación conflictiva. Saben valorar los esfuerzos de los demás y les gusta vivir y trabajar en equipo. El lado negativo de un libra es frívola y es fácil que cambia de opinión o de lealtades. No les gusta la rutina y muchas veces les falta la capacidad de enfrentarse a los demás. Les encanta a los libra el placer, y esto les puede llevar a cometer ciertos excesos en su vida. Son muy curiosos, lo que puede ser un virtud si lo invierten en descubrir nuevas cosas, pero también un defecto si les lleva a meterse demasiado en la vida o los asuntos de los demás. Un libra es un buen amigo, porque prefieren comprender la postura de otro antes que perder una amistad. En sus relaciones íntimas son románticas y hasta sentimentales. Son buenos compañeros sentimentales porque comprenden la postura de su pareja en un conflicto y son tolerantes con los defectos de los demás. También son buenos padres, esforzándose para comprender y ayudar a sus hijos mientras crecen. </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 años de mala suerte si no lo reenvías.</a:t>
            </a:r>
            <a:endParaRPr b="0" lang="en-US" sz="1500" spc="-1" strike="noStrike">
              <a:solidFill>
                <a:srgbClr val="000000"/>
              </a:solidFill>
              <a:latin typeface="Arial"/>
            </a:endParaRPr>
          </a:p>
        </p:txBody>
      </p:sp>
      <p:sp>
        <p:nvSpPr>
          <p:cNvPr id="86"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CORP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ctubre 23 * Noviembre 21)</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Adicto </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emadamente adorable. Inteligente. Ama bromear. Muy buen sentido del humor. Enérgico. Predice el futuro. GRAN besador. Siempre consiguen lo que quieren. Atractivo. De andar tranquilo.. Aman las relaciones largas. Hablador. Romántico. Cariñoso. El Escorpio es un signo intenso con una energía emocional única en todo el zodiaco. Aunque puedan aparecer tranquilos, los Escorpio tienen una agresión y magnetismo interno escondidos dentro. Son afables, buenos tertulianos, reservados y cortés, pero aunque parezcan estar algo retirados del centro de actividad, en realidad están observando todo con su ojo crítico. El Escorpio es tremendamente poderoso y su carácter puede causar enormes beneficios o grandes riesgos para los demás. Su tenacidad y fuerza de voluntad son únicas pero sin embargo son muy sensibles y fácilmente afectados por las circunstancias que les rodean. Son emocionales y fácilmente heridos o aludidos. De hecho pueden perder totalmente el genio al percibir, incluso erróneamente, que alguien les ha insultado. No saben morderse la lengua y pueden ser muy críticos. Si un Escorpio logra utilizar su enorme energía de forma constructiva, es un gran activo para la sociedad y se puede convertir en un gran líder. No obstante, los Escorpio deben aprender a controlarse, porque pueden llegar a ser demasiado críticos y resentidos con los demás. Son excelentes amigos de los que consideran merecen su respeto. Los Escorpio son muy imaginativos e intuitivos y tienen una gran capacidad para analizar situaciones y personas. De todos los signos del zodiaco son los que más probabilidad tienen para convertirse en genios siempre y cuando controlan su lado negativo porque si toman el camino equivocado pueden ser muy destructivos hacia ellos mismos y hacia otras personas. Deben intentar evitar sensaciones como la arrogancia, la agresión y los celos, porque se rinden ante tales sentimientos negativos, tal es su fuerza para sentir intensamente que pueden perder el control. El Escorpio es el símbolo del sexo, y los Escorpio son personas muy apasionados y sensuales. Para los Escorpio, el acto del amor es un acto espiritual y son capaces de sentir cosas que otros signos nunca logran.</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 años de mala suerte si no lo reenvías.</a:t>
            </a:r>
            <a:endParaRPr b="0" lang="en-US" sz="1500" spc="-1" strike="noStrike">
              <a:solidFill>
                <a:srgbClr val="000000"/>
              </a:solidFill>
              <a:latin typeface="Arial"/>
            </a:endParaRPr>
          </a:p>
        </p:txBody>
      </p:sp>
      <p:sp>
        <p:nvSpPr>
          <p:cNvPr id="89"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AGITAR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viembre 22 * Diciembre 21)</a:t>
            </a:r>
            <a:endParaRPr b="0" lang="en-US" sz="17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Promiscuo</a:t>
            </a:r>
            <a:r>
              <a:rPr b="1" lang="en-US" sz="1500" spc="-1" strike="noStrike">
                <a:solidFill>
                  <a:srgbClr val="000000"/>
                </a:solidFill>
                <a:latin typeface="Arial"/>
              </a:rPr>
              <a:t> </a:t>
            </a:r>
            <a:br>
              <a:rPr sz="1500"/>
            </a:br>
            <a:endParaRPr b="0" lang="en-US" sz="1500" spc="-1" strike="noStrike">
              <a:solidFill>
                <a:srgbClr val="000000"/>
              </a:solidFill>
              <a:latin typeface="Arial"/>
            </a:endParaRPr>
          </a:p>
          <a:p>
            <a:pPr algn="just">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pontáneo. Gran atractivo. Difícil de encontrar, pero grandioso una vez que lo encuentras. Ama las relaciones largas. Tienen mucho amor para dar. Alguien con quien no deberías meterte. Muy bonito. Muy romántico. Agradable con todas las personas. Su amor es único. Tonto, divertido y dulce. Tiene un atractivo único. La persona más cariñosa que conocerás! Impresionantes en ESO!!! No es la clase de persona con la que te meterías y terminarías llorando. El sagitario es uno de los signos más positivos del zodiaco.Son versátiles y les encanta la aventura y lo desconocido. Tienen lamente abierta a nuevas ideas y experiencias y mantienen un actitud optimista incluso cuando las cosas se les ponen difíciles. Son fiables, honestas, buenos y sinceros y dispuestas a luchar por buenas causas cueste lo que cueste. Los sagitario suelen creer en la ética y les gusta seguir los ritos de la religión, de un partido político o de una organización. Esto les puede llevarles a tener ciertas tendencias supersticiosas a veces. Lesencanta abarcar nuevos proyectos y aprender sobre cosas nuevas. Son intuitivos y buenos organizadores y, aunque son generosos, también son muy cuidadosos, lo que les convierte en buenos gestores de situaciones y proyectos. Algunos sagitario tienen un gran genio que puede aparecer ante situaciones que para los demás carecen de importancia. También pecan de impaciencia cuando los demás no van al mismo paso que ellos. Son capaces de sacrificarse para realizar un objetivo. Esto hace que a veces son demasiado exigentes con los demás. Los sagitario son básicamente sinceros y controlados en sus relaciones de pareja, aunque si se les traiciona pueden perder los papeles. Si su relación es estable, son excelentes esposos y padres, aunque rara vez logren suprimir de todo su espíritu aventurero. Necesitan sentirse libres y a veces ponen sus intereses profesionales por delante de los intereses de su pareja. Son muy amigos de sus amigos, fiables y leales. No tienen pelos en la lengua si tienen que recriminar un amigo de algol pero saben perdonar cuando hace falta. </a:t>
            </a:r>
            <a:endParaRPr b="0" lang="en-US" sz="1500" spc="-1" strike="noStrike">
              <a:solidFill>
                <a:srgbClr val="000000"/>
              </a:solidFill>
              <a:latin typeface="Arial"/>
            </a:endParaRPr>
          </a:p>
          <a:p>
            <a:pPr algn="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 años de mala suerte si no lo reenvías.</a:t>
            </a:r>
            <a:endParaRPr b="0" lang="en-US" sz="1500" spc="-1" strike="noStrike">
              <a:solidFill>
                <a:srgbClr val="000000"/>
              </a:solidFill>
              <a:latin typeface="Arial"/>
            </a:endParaRPr>
          </a:p>
        </p:txBody>
      </p:sp>
      <p:sp>
        <p:nvSpPr>
          <p:cNvPr id="92"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dwardian Script ITC"/>
              </a:rPr>
              <a:t>OK  Algo más: No puedes enviarle esto a la persona que te lo mandó, así que mucha suerte! Lo peor de todo de esto es que el último es el perdedor. Prepárense.... Listos! Ya!</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1-3 personas = 1 minuto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4-7 personas = 1 hora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8-12 personas = 1 día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18-22 personas = 1 m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23-27 personas = 3 mes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28-32 personas = 7 meses de suert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33-37 personas = 1 año de suer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wardian Script ITC"/>
              </a:rPr>
              <a:t>38 o más = una vida afortun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0">
                                  <p:stCondLst>
                                    <p:cond delay="0"/>
                                  </p:stCondLst>
                                  <p:iterate type="lt">
                                    <p:tmAbs val="100"/>
                                  </p:iterate>
                                  <p:childTnLst>
                                    <p:set>
                                      <p:cBhvr>
                                        <p:cTn id="38" dur="1" fill="hold">
                                          <p:stCondLst>
                                            <p:cond delay="0"/>
                                          </p:stCondLst>
                                        </p:cTn>
                                        <p:tgtEl>
                                          <p:spTgt spid="94">
                                            <p:txEl>
                                              <p:pRg st="0" end="0"/>
                                            </p:txEl>
                                          </p:spTgt>
                                        </p:tgtEl>
                                        <p:attrNameLst>
                                          <p:attrName>style.visibility</p:attrName>
                                        </p:attrNameLst>
                                      </p:cBhvr>
                                      <p:to>
                                        <p:strVal val="visible"/>
                                      </p:to>
                                    </p:set>
                                    <p:animEffect filter="fade" transition="in">
                                      <p:cBhvr additive="repl">
                                        <p:cTn id="39" dur="500"/>
                                        <p:tgtEl>
                                          <p:spTgt spid="94">
                                            <p:txEl>
                                              <p:pRg st="0" end="0"/>
                                            </p:txEl>
                                          </p:spTgt>
                                        </p:tgtEl>
                                      </p:cBhvr>
                                    </p:animEffect>
                                  </p:childTnLst>
                                </p:cTn>
                              </p:par>
                            </p:childTnLst>
                          </p:cTn>
                        </p:par>
                        <p:par>
                          <p:cTn id="40" fill="hold">
                            <p:stCondLst>
                              <p:cond delay="14300"/>
                            </p:stCondLst>
                            <p:childTnLst>
                              <p:par>
                                <p:cTn id="41" nodeType="afterEffect" fill="hold" presetClass="entr" presetID="10">
                                  <p:stCondLst>
                                    <p:cond delay="0"/>
                                  </p:stCondLst>
                                  <p:iterate type="lt">
                                    <p:tmAbs val="100"/>
                                  </p:iterate>
                                  <p:childTnLst>
                                    <p:set>
                                      <p:cBhvr>
                                        <p:cTn id="42" dur="1" fill="hold">
                                          <p:stCondLst>
                                            <p:cond delay="0"/>
                                          </p:stCondLst>
                                        </p:cTn>
                                        <p:tgtEl>
                                          <p:spTgt spid="94">
                                            <p:txEl>
                                              <p:pRg st="2" end="2"/>
                                            </p:txEl>
                                          </p:spTgt>
                                        </p:tgtEl>
                                        <p:attrNameLst>
                                          <p:attrName>style.visibility</p:attrName>
                                        </p:attrNameLst>
                                      </p:cBhvr>
                                      <p:to>
                                        <p:strVal val="visible"/>
                                      </p:to>
                                    </p:set>
                                    <p:animEffect filter="fade" transition="in">
                                      <p:cBhvr additive="repl">
                                        <p:cTn id="43" dur="500"/>
                                        <p:tgtEl>
                                          <p:spTgt spid="94">
                                            <p:txEl>
                                              <p:pRg st="2" end="2"/>
                                            </p:txEl>
                                          </p:spTgt>
                                        </p:tgtEl>
                                      </p:cBhvr>
                                    </p:animEffect>
                                  </p:childTnLst>
                                </p:cTn>
                              </p:par>
                            </p:childTnLst>
                          </p:cTn>
                        </p:par>
                        <p:par>
                          <p:cTn id="44" fill="hold">
                            <p:stCondLst>
                              <p:cond delay="17400"/>
                            </p:stCondLst>
                            <p:childTnLst>
                              <p:par>
                                <p:cTn id="45" nodeType="afterEffect" fill="hold" presetClass="entr" presetID="10">
                                  <p:stCondLst>
                                    <p:cond delay="0"/>
                                  </p:stCondLst>
                                  <p:iterate type="lt">
                                    <p:tmAbs val="100"/>
                                  </p:iterate>
                                  <p:childTnLst>
                                    <p:set>
                                      <p:cBhvr>
                                        <p:cTn id="46" dur="1" fill="hold">
                                          <p:stCondLst>
                                            <p:cond delay="0"/>
                                          </p:stCondLst>
                                        </p:cTn>
                                        <p:tgtEl>
                                          <p:spTgt spid="94">
                                            <p:txEl>
                                              <p:pRg st="3" end="3"/>
                                            </p:txEl>
                                          </p:spTgt>
                                        </p:tgtEl>
                                        <p:attrNameLst>
                                          <p:attrName>style.visibility</p:attrName>
                                        </p:attrNameLst>
                                      </p:cBhvr>
                                      <p:to>
                                        <p:strVal val="visible"/>
                                      </p:to>
                                    </p:set>
                                    <p:animEffect filter="fade" transition="in">
                                      <p:cBhvr additive="repl">
                                        <p:cTn id="47" dur="500"/>
                                        <p:tgtEl>
                                          <p:spTgt spid="94">
                                            <p:txEl>
                                              <p:pRg st="3" end="3"/>
                                            </p:txEl>
                                          </p:spTgt>
                                        </p:tgtEl>
                                      </p:cBhvr>
                                    </p:animEffect>
                                  </p:childTnLst>
                                </p:cTn>
                              </p:par>
                            </p:childTnLst>
                          </p:cTn>
                        </p:par>
                        <p:par>
                          <p:cTn id="48" fill="hold">
                            <p:stCondLst>
                              <p:cond delay="20300"/>
                            </p:stCondLst>
                            <p:childTnLst>
                              <p:par>
                                <p:cTn id="49" nodeType="afterEffect" fill="hold" presetClass="entr" presetID="10">
                                  <p:stCondLst>
                                    <p:cond delay="0"/>
                                  </p:stCondLst>
                                  <p:iterate type="lt">
                                    <p:tmAbs val="100"/>
                                  </p:iterate>
                                  <p:childTnLst>
                                    <p:set>
                                      <p:cBhvr>
                                        <p:cTn id="50" dur="1" fill="hold">
                                          <p:stCondLst>
                                            <p:cond delay="0"/>
                                          </p:stCondLst>
                                        </p:cTn>
                                        <p:tgtEl>
                                          <p:spTgt spid="94">
                                            <p:txEl>
                                              <p:pRg st="4" end="4"/>
                                            </p:txEl>
                                          </p:spTgt>
                                        </p:tgtEl>
                                        <p:attrNameLst>
                                          <p:attrName>style.visibility</p:attrName>
                                        </p:attrNameLst>
                                      </p:cBhvr>
                                      <p:to>
                                        <p:strVal val="visible"/>
                                      </p:to>
                                    </p:set>
                                    <p:animEffect filter="fade" transition="in">
                                      <p:cBhvr additive="repl">
                                        <p:cTn id="51" dur="500"/>
                                        <p:tgtEl>
                                          <p:spTgt spid="94">
                                            <p:txEl>
                                              <p:pRg st="4" end="4"/>
                                            </p:txEl>
                                          </p:spTgt>
                                        </p:tgtEl>
                                      </p:cBhvr>
                                    </p:animEffect>
                                  </p:childTnLst>
                                </p:cTn>
                              </p:par>
                            </p:childTnLst>
                          </p:cTn>
                        </p:par>
                        <p:par>
                          <p:cTn id="52" fill="hold">
                            <p:stCondLst>
                              <p:cond delay="23200"/>
                            </p:stCondLst>
                            <p:childTnLst>
                              <p:par>
                                <p:cTn id="53" nodeType="afterEffect" fill="hold" presetClass="entr" presetID="10">
                                  <p:stCondLst>
                                    <p:cond delay="0"/>
                                  </p:stCondLst>
                                  <p:iterate type="lt">
                                    <p:tmAbs val="100"/>
                                  </p:iterate>
                                  <p:childTnLst>
                                    <p:set>
                                      <p:cBhvr>
                                        <p:cTn id="54" dur="1" fill="hold">
                                          <p:stCondLst>
                                            <p:cond delay="0"/>
                                          </p:stCondLst>
                                        </p:cTn>
                                        <p:tgtEl>
                                          <p:spTgt spid="94">
                                            <p:txEl>
                                              <p:pRg st="5" end="5"/>
                                            </p:txEl>
                                          </p:spTgt>
                                        </p:tgtEl>
                                        <p:attrNameLst>
                                          <p:attrName>style.visibility</p:attrName>
                                        </p:attrNameLst>
                                      </p:cBhvr>
                                      <p:to>
                                        <p:strVal val="visible"/>
                                      </p:to>
                                    </p:set>
                                    <p:animEffect filter="fade" transition="in">
                                      <p:cBhvr additive="repl">
                                        <p:cTn id="55" dur="500"/>
                                        <p:tgtEl>
                                          <p:spTgt spid="94">
                                            <p:txEl>
                                              <p:pRg st="5" end="5"/>
                                            </p:txEl>
                                          </p:spTgt>
                                        </p:tgtEl>
                                      </p:cBhvr>
                                    </p:animEffect>
                                  </p:childTnLst>
                                </p:cTn>
                              </p:par>
                            </p:childTnLst>
                          </p:cTn>
                        </p:par>
                        <p:par>
                          <p:cTn id="56" fill="hold">
                            <p:stCondLst>
                              <p:cond delay="26200"/>
                            </p:stCondLst>
                            <p:childTnLst>
                              <p:par>
                                <p:cTn id="57" nodeType="afterEffect" fill="hold" presetClass="entr" presetID="10">
                                  <p:stCondLst>
                                    <p:cond delay="0"/>
                                  </p:stCondLst>
                                  <p:iterate type="lt">
                                    <p:tmAbs val="100"/>
                                  </p:iterate>
                                  <p:childTnLst>
                                    <p:set>
                                      <p:cBhvr>
                                        <p:cTn id="58" dur="1" fill="hold">
                                          <p:stCondLst>
                                            <p:cond delay="0"/>
                                          </p:stCondLst>
                                        </p:cTn>
                                        <p:tgtEl>
                                          <p:spTgt spid="94">
                                            <p:txEl>
                                              <p:pRg st="6" end="6"/>
                                            </p:txEl>
                                          </p:spTgt>
                                        </p:tgtEl>
                                        <p:attrNameLst>
                                          <p:attrName>style.visibility</p:attrName>
                                        </p:attrNameLst>
                                      </p:cBhvr>
                                      <p:to>
                                        <p:strVal val="visible"/>
                                      </p:to>
                                    </p:set>
                                    <p:animEffect filter="fade" transition="in">
                                      <p:cBhvr additive="repl">
                                        <p:cTn id="59" dur="500"/>
                                        <p:tgtEl>
                                          <p:spTgt spid="94">
                                            <p:txEl>
                                              <p:pRg st="6" end="6"/>
                                            </p:txEl>
                                          </p:spTgt>
                                        </p:tgtEl>
                                      </p:cBhvr>
                                    </p:animEffect>
                                  </p:childTnLst>
                                </p:cTn>
                              </p:par>
                            </p:childTnLst>
                          </p:cTn>
                        </p:par>
                        <p:par>
                          <p:cTn id="60" fill="hold">
                            <p:stCondLst>
                              <p:cond delay="29400"/>
                            </p:stCondLst>
                            <p:childTnLst>
                              <p:par>
                                <p:cTn id="61" nodeType="afterEffect" fill="hold" presetClass="entr" presetID="10">
                                  <p:stCondLst>
                                    <p:cond delay="0"/>
                                  </p:stCondLst>
                                  <p:iterate type="lt">
                                    <p:tmAbs val="100"/>
                                  </p:iterate>
                                  <p:childTnLst>
                                    <p:set>
                                      <p:cBhvr>
                                        <p:cTn id="62" dur="1" fill="hold">
                                          <p:stCondLst>
                                            <p:cond delay="0"/>
                                          </p:stCondLst>
                                        </p:cTn>
                                        <p:tgtEl>
                                          <p:spTgt spid="94">
                                            <p:txEl>
                                              <p:pRg st="7" end="7"/>
                                            </p:txEl>
                                          </p:spTgt>
                                        </p:tgtEl>
                                        <p:attrNameLst>
                                          <p:attrName>style.visibility</p:attrName>
                                        </p:attrNameLst>
                                      </p:cBhvr>
                                      <p:to>
                                        <p:strVal val="visible"/>
                                      </p:to>
                                    </p:set>
                                    <p:animEffect filter="fade" transition="in">
                                      <p:cBhvr additive="repl">
                                        <p:cTn id="63" dur="500"/>
                                        <p:tgtEl>
                                          <p:spTgt spid="94">
                                            <p:txEl>
                                              <p:pRg st="7" end="7"/>
                                            </p:txEl>
                                          </p:spTgt>
                                        </p:tgtEl>
                                      </p:cBhvr>
                                    </p:animEffect>
                                  </p:childTnLst>
                                </p:cTn>
                              </p:par>
                            </p:childTnLst>
                          </p:cTn>
                        </p:par>
                        <p:par>
                          <p:cTn id="64" fill="hold">
                            <p:stCondLst>
                              <p:cond delay="32600"/>
                            </p:stCondLst>
                            <p:childTnLst>
                              <p:par>
                                <p:cTn id="65" nodeType="afterEffect" fill="hold" presetClass="entr" presetID="10">
                                  <p:stCondLst>
                                    <p:cond delay="0"/>
                                  </p:stCondLst>
                                  <p:iterate type="lt">
                                    <p:tmAbs val="100"/>
                                  </p:iterate>
                                  <p:childTnLst>
                                    <p:set>
                                      <p:cBhvr>
                                        <p:cTn id="66" dur="1" fill="hold">
                                          <p:stCondLst>
                                            <p:cond delay="0"/>
                                          </p:stCondLst>
                                        </p:cTn>
                                        <p:tgtEl>
                                          <p:spTgt spid="94">
                                            <p:txEl>
                                              <p:pRg st="8" end="8"/>
                                            </p:txEl>
                                          </p:spTgt>
                                        </p:tgtEl>
                                        <p:attrNameLst>
                                          <p:attrName>style.visibility</p:attrName>
                                        </p:attrNameLst>
                                      </p:cBhvr>
                                      <p:to>
                                        <p:strVal val="visible"/>
                                      </p:to>
                                    </p:set>
                                    <p:animEffect filter="fade" transition="in">
                                      <p:cBhvr additive="repl">
                                        <p:cTn id="67" dur="500"/>
                                        <p:tgtEl>
                                          <p:spTgt spid="94">
                                            <p:txEl>
                                              <p:pRg st="8" end="8"/>
                                            </p:txEl>
                                          </p:spTgt>
                                        </p:tgtEl>
                                      </p:cBhvr>
                                    </p:animEffect>
                                  </p:childTnLst>
                                </p:cTn>
                              </p:par>
                            </p:childTnLst>
                          </p:cTn>
                        </p:par>
                        <p:par>
                          <p:cTn id="68" fill="hold">
                            <p:stCondLst>
                              <p:cond delay="35600"/>
                            </p:stCondLst>
                            <p:childTnLst>
                              <p:par>
                                <p:cTn id="69" nodeType="afterEffect" fill="hold" presetClass="entr" presetID="10">
                                  <p:stCondLst>
                                    <p:cond delay="0"/>
                                  </p:stCondLst>
                                  <p:iterate type="lt">
                                    <p:tmAbs val="100"/>
                                  </p:iterate>
                                  <p:childTnLst>
                                    <p:set>
                                      <p:cBhvr>
                                        <p:cTn id="70" dur="1" fill="hold">
                                          <p:stCondLst>
                                            <p:cond delay="0"/>
                                          </p:stCondLst>
                                        </p:cTn>
                                        <p:tgtEl>
                                          <p:spTgt spid="94">
                                            <p:txEl>
                                              <p:pRg st="9" end="9"/>
                                            </p:txEl>
                                          </p:spTgt>
                                        </p:tgtEl>
                                        <p:attrNameLst>
                                          <p:attrName>style.visibility</p:attrName>
                                        </p:attrNameLst>
                                      </p:cBhvr>
                                      <p:to>
                                        <p:strVal val="visible"/>
                                      </p:to>
                                    </p:set>
                                    <p:animEffect filter="fade" transition="in">
                                      <p:cBhvr additive="repl">
                                        <p:cTn id="71" dur="5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2060640"/>
            <a:ext cx="8748720" cy="3168720"/>
          </a:xfrm>
          <a:prstGeom prst="rect">
            <a:avLst/>
          </a:prstGeom>
          <a:noFill/>
          <a:ln w="0">
            <a:noFill/>
          </a:ln>
        </p:spPr>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Edwardian Script ITC"/>
              </a:rPr>
              <a:t>Nosotros por las dudas te lo hacemos llegar, no sea que se cumpla y sumando tendríamos como dos mil años de mala suerte,</a:t>
            </a:r>
            <a:r>
              <a:rPr b="0" lang="es-ES_tradnl" sz="3200" spc="-1" strike="noStrike">
                <a:solidFill>
                  <a:srgbClr val="ffffff"/>
                </a:solidFill>
                <a:latin typeface="Arial"/>
              </a:rPr>
              <a:t> </a:t>
            </a:r>
            <a:r>
              <a:rPr b="0" lang="es-ES" sz="2800" spc="-1" strike="noStrike">
                <a:solidFill>
                  <a:srgbClr val="ffffff"/>
                </a:solidFill>
                <a:latin typeface="Comic Sans MS"/>
              </a:rPr>
              <a:t>HG Producciones </a:t>
            </a:r>
            <a:r>
              <a:rPr b="0" lang="es-ES" sz="2800" spc="-1" strike="noStrike" baseline="30000">
                <a:solidFill>
                  <a:srgbClr val="ffffff"/>
                </a:solidFill>
                <a:latin typeface="Comic Sans MS"/>
              </a:rPr>
              <a:t>®</a:t>
            </a:r>
            <a:endParaRPr b="0" lang="en-US" sz="2800" spc="-1" strike="noStrike">
              <a:solidFill>
                <a:srgbClr val="000000"/>
              </a:solidFill>
              <a:latin typeface="Arial"/>
            </a:endParaRPr>
          </a:p>
        </p:txBody>
      </p:sp>
      <p:sp>
        <p:nvSpPr>
          <p:cNvPr id="96" name=""/>
          <p:cNvSpPr/>
          <p:nvPr/>
        </p:nvSpPr>
        <p:spPr>
          <a:xfrm>
            <a:off x="0" y="5942520"/>
            <a:ext cx="9144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HG Producciones </a:t>
            </a:r>
            <a:r>
              <a:rPr b="0" lang="en-US" sz="5400" spc="-1" strike="noStrike" baseline="30000">
                <a:solidFill>
                  <a:srgbClr val="ffffff"/>
                </a:solidFill>
                <a:latin typeface="Comic Sans MS"/>
              </a:rPr>
              <a:t>®</a:t>
            </a:r>
            <a:endParaRPr b="0" lang="en-US" sz="5400" spc="-1" strike="noStrike">
              <a:solidFill>
                <a:srgbClr val="000000"/>
              </a:solidFill>
              <a:latin typeface="Arial"/>
            </a:endParaRPr>
          </a:p>
        </p:txBody>
      </p:sp>
      <p:sp>
        <p:nvSpPr>
          <p:cNvPr id="97" name=""/>
          <p:cNvSpPr/>
          <p:nvPr/>
        </p:nvSpPr>
        <p:spPr>
          <a:xfrm rot="5400000">
            <a:off x="5487480" y="3260160"/>
            <a:ext cx="6858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racias: Daniel el Iniciador (Ojala Tengas mil años de mala suerte) </a:t>
            </a:r>
            <a:endParaRPr b="0" lang="en-US" sz="1600" spc="-1" strike="noStrike">
              <a:solidFill>
                <a:srgbClr val="000000"/>
              </a:solidFill>
              <a:latin typeface="Arial"/>
            </a:endParaRPr>
          </a:p>
        </p:txBody>
      </p:sp>
      <p:sp>
        <p:nvSpPr>
          <p:cNvPr id="98" name="PlaceHolder 2"/>
          <p:cNvSpPr>
            <a:spLocks noGrp="1"/>
          </p:cNvSpPr>
          <p:nvPr>
            <p:ph type="title"/>
          </p:nvPr>
        </p:nvSpPr>
        <p:spPr>
          <a:xfrm>
            <a:off x="0" y="-360"/>
            <a:ext cx="9144000" cy="1989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600" spc="-1" strike="noStrike">
                <a:solidFill>
                  <a:srgbClr val="ffffff"/>
                </a:solidFill>
                <a:latin typeface="Edwardian Script ITC"/>
              </a:rPr>
              <a:t>Horóscopo....</a:t>
            </a:r>
            <a:endParaRPr b="0" lang="en-US" sz="96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iterate type="lt">
                                    <p:tmAbs val="600"/>
                                  </p:iterate>
                                  <p:childTnLst>
                                    <p:set>
                                      <p:cBhvr>
                                        <p:cTn id="77" dur="1" fill="hold">
                                          <p:stCondLst>
                                            <p:cond delay="0"/>
                                          </p:stCondLst>
                                        </p:cTn>
                                        <p:tgtEl>
                                          <p:spTgt spid="98"/>
                                        </p:tgtEl>
                                        <p:attrNameLst>
                                          <p:attrName>style.visibility</p:attrName>
                                        </p:attrNameLst>
                                      </p:cBhvr>
                                      <p:to>
                                        <p:strVal val="visible"/>
                                      </p:to>
                                    </p:set>
                                    <p:animEffect filter="fade" transition="in">
                                      <p:cBhvr additive="repl">
                                        <p:cTn id="78" dur="3000"/>
                                        <p:tgtEl>
                                          <p:spTgt spid="98"/>
                                        </p:tgtEl>
                                      </p:cBhvr>
                                    </p:animEffect>
                                  </p:childTnLst>
                                </p:cTn>
                              </p:par>
                            </p:childTnLst>
                          </p:cTn>
                        </p:par>
                        <p:par>
                          <p:cTn id="79" fill="hold">
                            <p:stCondLst>
                              <p:cond delay="10200"/>
                            </p:stCondLst>
                            <p:childTnLst>
                              <p:par>
                                <p:cTn id="80" nodeType="afterEffect" fill="hold" presetClass="entr" presetID="10">
                                  <p:stCondLst>
                                    <p:cond delay="2000"/>
                                  </p:stCondLst>
                                  <p:iterate type="lt">
                                    <p:tmAbs val="100"/>
                                  </p:iterate>
                                  <p:childTnLst>
                                    <p:set>
                                      <p:cBhvr>
                                        <p:cTn id="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82" dur="500"/>
                                        <p:tgtEl>
                                          <p:spTgt spid="95">
                                            <p:txEl>
                                              <p:pRg st="0" end="0"/>
                                            </p:txEl>
                                          </p:spTgt>
                                        </p:tgtEl>
                                      </p:cBhvr>
                                    </p:animEffect>
                                  </p:childTnLst>
                                </p:cTn>
                              </p:par>
                            </p:childTnLst>
                          </p:cTn>
                        </p:par>
                        <p:par>
                          <p:cTn id="83" fill="hold">
                            <p:stCondLst>
                              <p:cond delay="23900"/>
                            </p:stCondLst>
                            <p:childTnLst>
                              <p:par>
                                <p:cTn id="84" nodeType="afterEffect" fill="hold" presetClass="entr" presetID="38">
                                  <p:stCondLst>
                                    <p:cond delay="1500"/>
                                  </p:stCondLst>
                                  <p:iterate type="lt">
                                    <p:tmAbs val="1500"/>
                                  </p:iterate>
                                  <p:childTnLst>
                                    <p:set>
                                      <p:cBhvr>
                                        <p:cTn id="85" dur="1" fill="hold">
                                          <p:stCondLst>
                                            <p:cond delay="0"/>
                                          </p:stCondLst>
                                        </p:cTn>
                                        <p:tgtEl>
                                          <p:spTgt spid="96"/>
                                        </p:tgtEl>
                                        <p:attrNameLst>
                                          <p:attrName>style.visibility</p:attrName>
                                        </p:attrNameLst>
                                      </p:cBhvr>
                                      <p:to>
                                        <p:strVal val="visible"/>
                                      </p:to>
                                    </p:set>
                                    <p:set>
                                      <p:cBhvr>
                                        <p:cTn id="86" dur="1365" fill="hold">
                                          <p:stCondLst>
                                            <p:cond delay="0"/>
                                          </p:stCondLst>
                                        </p:cTn>
                                        <p:tgtEl>
                                          <p:spTgt spid="96"/>
                                        </p:tgtEl>
                                        <p:attrNameLst>
                                          <p:attrName>r</p:attrName>
                                        </p:attrNameLst>
                                      </p:cBhvr>
                                      <p:to>
                                        <p:strVal val="-45"/>
                                      </p:to>
                                    </p:set>
                                    <p:anim calcmode="lin" valueType="num">
                                      <p:cBhvr additive="repl">
                                        <p:cTn id="87" dur="1365" fill="hold">
                                          <p:stCondLst>
                                            <p:cond delay="136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88" dur="136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89" dur="468" autoRev="1" fill="hold">
                                          <p:stCondLst>
                                            <p:cond delay="136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408" fill="hold">
                                          <p:stCondLst>
                                            <p:cond delay="2592"/>
                                          </p:stCondLst>
                                        </p:cTn>
                                        <p:tgtEl>
                                          <p:spTgt spid="96"/>
                                        </p:tgtEl>
                                        <p:attrNameLst>
                                          <p:attrName>ppt_y</p:attrName>
                                        </p:attrNameLst>
                                      </p:cBhvr>
                                      <p:tavLst>
                                        <p:tav tm="0">
                                          <p:val>
                                            <p:strVal val="#ppt_y-(0.354*#ppt_w-0.172*#ppt_h)"/>
                                          </p:val>
                                        </p:tav>
                                        <p:tav tm="100000">
                                          <p:val>
                                            <p:strVal val="#ppt_y"/>
                                          </p:val>
                                        </p:tav>
                                      </p:tavLst>
                                    </p:anim>
                                  </p:childTnLst>
                                </p:cTn>
                              </p:par>
                            </p:childTnLst>
                          </p:cTn>
                        </p:par>
                        <p:par>
                          <p:cTn id="91" fill="hold">
                            <p:stCondLst>
                              <p:cond delay="49400"/>
                            </p:stCondLst>
                            <p:childTnLst>
                              <p:par>
                                <p:cTn id="92" nodeType="afterEffect" fill="hold" presetClass="entr" presetID="53">
                                  <p:stCondLst>
                                    <p:cond delay="0"/>
                                  </p:stCondLst>
                                  <p:childTnLst>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tm="0">
                                          <p:val>
                                            <p:fltVal val="0"/>
                                          </p:val>
                                        </p:tav>
                                        <p:tav tm="100000">
                                          <p:val>
                                            <p:strVal val="#ppt_w"/>
                                          </p:val>
                                        </p:tav>
                                      </p:tavLst>
                                    </p:anim>
                                    <p:anim calcmode="lin" valueType="num">
                                      <p:cBhvr additive="repl">
                                        <p:cTn id="95" dur="5000" fill="hold"/>
                                        <p:tgtEl>
                                          <p:spTgt spid="97"/>
                                        </p:tgtEl>
                                        <p:attrNameLst>
                                          <p:attrName>ppt_h</p:attrName>
                                        </p:attrNameLst>
                                      </p:cBhvr>
                                      <p:tavLst>
                                        <p:tav tm="0">
                                          <p:val>
                                            <p:fltVal val="0"/>
                                          </p:val>
                                        </p:tav>
                                        <p:tav tm="100000">
                                          <p:val>
                                            <p:strVal val="#ppt_h"/>
                                          </p:val>
                                        </p:tav>
                                      </p:tavLst>
                                    </p:anim>
                                    <p:animEffect filter="fade" transition="in">
                                      <p:cBhvr additive="repl">
                                        <p:cTn id="96" dur="5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Edwardian Script ITC"/>
              </a:rPr>
              <a:t> </a:t>
            </a:r>
            <a:r>
              <a:rPr b="0" lang="es-ES" sz="8800" spc="-1" strike="noStrike">
                <a:solidFill>
                  <a:srgbClr val="bc2400"/>
                </a:solidFill>
                <a:latin typeface="Edwardian Script ITC"/>
              </a:rPr>
              <a:t>Te describe perfectamente</a:t>
            </a:r>
            <a:endParaRPr b="0" lang="en-US" sz="8800" spc="-1" strike="noStrike">
              <a:solidFill>
                <a:srgbClr val="000000"/>
              </a:solidFill>
              <a:latin typeface="Arial"/>
            </a:endParaRPr>
          </a:p>
        </p:txBody>
      </p:sp>
    </p:spTree>
  </p:cSld>
  <p:transition spd="slow" advTm="10000">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iterate type="lt">
                                    <p:tmAbs val="30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a:effectLst>
            <a:outerShdw dist="17819" dir="2700000" blurRad="0" rotWithShape="0">
              <a:srgbClr val="ffffff"/>
            </a:outerShdw>
          </a:effectLst>
        </p:spPr>
        <p:txBody>
          <a:bodyPr lIns="90000" rIns="90000" tIns="46800" bIns="46800" anchor="ctr">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bc2400"/>
                </a:solidFill>
                <a:latin typeface="Edwardian Script ITC"/>
              </a:rPr>
              <a:t>Y da miedo…</a:t>
            </a:r>
            <a:endParaRPr b="0" lang="en-US" sz="8800" spc="-1" strike="noStrike">
              <a:solidFill>
                <a:srgbClr val="000000"/>
              </a:solidFill>
              <a:latin typeface="Arial"/>
            </a:endParaRPr>
          </a:p>
        </p:txBody>
      </p:sp>
    </p:spTree>
  </p:cSld>
  <p:transition spd="slow" advTm="8000">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iterate type="lt">
                                    <p:tmAbs val="300"/>
                                  </p:iterate>
                                  <p:childTnLst>
                                    <p:set>
                                      <p:cBhvr>
                                        <p:cTn id="20" dur="1" fill="hold">
                                          <p:stCondLst>
                                            <p:cond delay="0"/>
                                          </p:stCondLst>
                                        </p:cTn>
                                        <p:tgtEl>
                                          <p:spTgt spid="43">
                                            <p:txEl>
                                              <p:pRg st="0" end="0"/>
                                            </p:txEl>
                                          </p:spTgt>
                                        </p:tgtEl>
                                        <p:attrNameLst>
                                          <p:attrName>style.visibility</p:attrName>
                                        </p:attrNameLst>
                                      </p:cBhvr>
                                      <p:to>
                                        <p:strVal val="visible"/>
                                      </p:to>
                                    </p:set>
                                    <p:animEffect filter="fade" transition="in">
                                      <p:cBhvr additive="repl">
                                        <p:cTn id="21"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dwardian Script ITC"/>
              </a:rPr>
              <a:t>   </a:t>
            </a:r>
            <a:r>
              <a:rPr b="0" lang="en-US" sz="4400" spc="-1" strike="noStrike">
                <a:solidFill>
                  <a:srgbClr val="ffffff"/>
                </a:solidFill>
                <a:latin typeface="Edwardian Script ITC"/>
              </a:rPr>
              <a:t>Una vez que hayas abierto este mail, no hay vuelta atrás. Aquí debajo hay descripciones verdaderas de los signos del Zodiaco, con rasgos de un libro escrito 35 años atrás por las predicciones de diversos astrologistas. Lee tu signo, luego reenvíalo, con tu signo del zodiaco y ponlo de asunto. Esto es real, trata de ignorarlo, y lo primero que notarás es el terrible día que tendrás mañana.</a:t>
            </a:r>
            <a:endParaRPr b="0" lang="en-US" sz="4400" spc="-1" strike="noStrike">
              <a:solidFill>
                <a:srgbClr val="000000"/>
              </a:solidFill>
              <a:latin typeface="Arial"/>
            </a:endParaRPr>
          </a:p>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dwardian Script ITC"/>
              </a:rPr>
              <a:t>(Y eso es sólo el principio de lo peor)</a:t>
            </a:r>
            <a:r>
              <a:rPr b="0" lang="en-US" sz="3200" spc="-1" strike="noStrike">
                <a:solidFill>
                  <a:srgbClr val="ffffff"/>
                </a:solidFill>
                <a:latin typeface="KathleenieFont"/>
              </a:rPr>
              <a:t> </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iterate type="lt">
                                    <p:tmAbs val="100"/>
                                  </p:iterate>
                                  <p:childTnLst>
                                    <p:set>
                                      <p:cBhvr>
                                        <p:cTn id="27" dur="1" fill="hold">
                                          <p:stCondLst>
                                            <p:cond delay="0"/>
                                          </p:stCondLst>
                                        </p:cTn>
                                        <p:tgtEl>
                                          <p:spTgt spid="44">
                                            <p:txEl>
                                              <p:pRg st="0" end="0"/>
                                            </p:txEl>
                                          </p:spTgt>
                                        </p:tgtEl>
                                        <p:attrNameLst>
                                          <p:attrName>style.visibility</p:attrName>
                                        </p:attrNameLst>
                                      </p:cBhvr>
                                      <p:to>
                                        <p:strVal val="visible"/>
                                      </p:to>
                                    </p:set>
                                    <p:animEffect filter="fade" transition="in">
                                      <p:cBhvr additive="repl">
                                        <p:cTn id="28" dur="500"/>
                                        <p:tgtEl>
                                          <p:spTgt spid="44">
                                            <p:txEl>
                                              <p:pRg st="0" end="0"/>
                                            </p:txEl>
                                          </p:spTgt>
                                        </p:tgtEl>
                                      </p:cBhvr>
                                    </p:animEffect>
                                  </p:childTnLst>
                                </p:cTn>
                              </p:par>
                            </p:childTnLst>
                          </p:cTn>
                        </p:par>
                        <p:par>
                          <p:cTn id="29" fill="hold">
                            <p:stCondLst>
                              <p:cond delay="32800"/>
                            </p:stCondLst>
                            <p:childTnLst>
                              <p:par>
                                <p:cTn id="30" nodeType="afterEffect" fill="hold" presetClass="entr" presetID="10">
                                  <p:stCondLst>
                                    <p:cond delay="0"/>
                                  </p:stCondLst>
                                  <p:iterate type="lt">
                                    <p:tmAbs val="100"/>
                                  </p:iterate>
                                  <p:childTnLst>
                                    <p:set>
                                      <p:cBhvr>
                                        <p:cTn id="31" dur="1" fill="hold">
                                          <p:stCondLst>
                                            <p:cond delay="0"/>
                                          </p:stCondLst>
                                        </p:cTn>
                                        <p:tgtEl>
                                          <p:spTgt spid="44">
                                            <p:txEl>
                                              <p:pRg st="1" end="1"/>
                                            </p:txEl>
                                          </p:spTgt>
                                        </p:tgtEl>
                                        <p:attrNameLst>
                                          <p:attrName>style.visibility</p:attrName>
                                        </p:attrNameLst>
                                      </p:cBhvr>
                                      <p:to>
                                        <p:strVal val="visible"/>
                                      </p:to>
                                    </p:set>
                                    <p:animEffect filter="fade" transition="in">
                                      <p:cBhvr additive="repl">
                                        <p:cTn id="32"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 name=""/>
          <p:cNvGraphicFramePr/>
          <p:nvPr/>
        </p:nvGraphicFramePr>
        <p:xfrm>
          <a:off x="457200" y="620640"/>
          <a:ext cx="8229600" cy="5616720"/>
        </p:xfrm>
        <a:graphic>
          <a:graphicData uri="http://schemas.openxmlformats.org/drawingml/2006/table">
            <a:tbl>
              <a:tblPr/>
              <a:tblGrid>
                <a:gridCol w="4114800"/>
                <a:gridCol w="4114800"/>
              </a:tblGrid>
              <a:tr h="935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4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5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 name="">
            <a:hlinkClick r:id="rId2" action="ppaction://hlinksldjump"/>
          </p:cNvPr>
          <p:cNvSpPr/>
          <p:nvPr/>
        </p:nvSpPr>
        <p:spPr>
          <a:xfrm>
            <a:off x="468360" y="6224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Capricornio</a:t>
            </a:r>
            <a:endParaRPr b="0" lang="en-US" sz="4400" spc="-1" strike="noStrike">
              <a:solidFill>
                <a:srgbClr val="000000"/>
              </a:solidFill>
              <a:latin typeface="Arial"/>
            </a:endParaRPr>
          </a:p>
        </p:txBody>
      </p:sp>
      <p:sp>
        <p:nvSpPr>
          <p:cNvPr id="47" name="">
            <a:hlinkClick r:id="rId3" action="ppaction://hlinksldjump"/>
          </p:cNvPr>
          <p:cNvSpPr/>
          <p:nvPr/>
        </p:nvSpPr>
        <p:spPr>
          <a:xfrm>
            <a:off x="468360" y="249228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Piscis</a:t>
            </a:r>
            <a:endParaRPr b="0" lang="en-US" sz="4400" spc="-1" strike="noStrike">
              <a:solidFill>
                <a:srgbClr val="000000"/>
              </a:solidFill>
              <a:latin typeface="Arial"/>
            </a:endParaRPr>
          </a:p>
        </p:txBody>
      </p:sp>
      <p:sp>
        <p:nvSpPr>
          <p:cNvPr id="48" name="">
            <a:hlinkClick r:id="rId4" action="ppaction://hlinksldjump"/>
          </p:cNvPr>
          <p:cNvSpPr/>
          <p:nvPr/>
        </p:nvSpPr>
        <p:spPr>
          <a:xfrm>
            <a:off x="468360" y="342900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Aries</a:t>
            </a:r>
            <a:endParaRPr b="0" lang="en-US" sz="4400" spc="-1" strike="noStrike">
              <a:solidFill>
                <a:srgbClr val="000000"/>
              </a:solidFill>
              <a:latin typeface="Arial"/>
            </a:endParaRPr>
          </a:p>
        </p:txBody>
      </p:sp>
      <p:sp>
        <p:nvSpPr>
          <p:cNvPr id="49" name="">
            <a:hlinkClick r:id="rId5" action="ppaction://hlinksldjump"/>
          </p:cNvPr>
          <p:cNvSpPr/>
          <p:nvPr/>
        </p:nvSpPr>
        <p:spPr>
          <a:xfrm>
            <a:off x="468360" y="436572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Tauro</a:t>
            </a:r>
            <a:endParaRPr b="0" lang="en-US" sz="4400" spc="-1" strike="noStrike">
              <a:solidFill>
                <a:srgbClr val="000000"/>
              </a:solidFill>
              <a:latin typeface="Arial"/>
            </a:endParaRPr>
          </a:p>
        </p:txBody>
      </p:sp>
      <p:sp>
        <p:nvSpPr>
          <p:cNvPr id="50" name="">
            <a:hlinkClick r:id="rId6" action="ppaction://hlinksldjump"/>
          </p:cNvPr>
          <p:cNvSpPr/>
          <p:nvPr/>
        </p:nvSpPr>
        <p:spPr>
          <a:xfrm>
            <a:off x="468360" y="53006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Géminis</a:t>
            </a:r>
            <a:endParaRPr b="0" lang="en-US" sz="4400" spc="-1" strike="noStrike">
              <a:solidFill>
                <a:srgbClr val="000000"/>
              </a:solidFill>
              <a:latin typeface="Arial"/>
            </a:endParaRPr>
          </a:p>
        </p:txBody>
      </p:sp>
      <p:sp>
        <p:nvSpPr>
          <p:cNvPr id="51" name="">
            <a:hlinkClick r:id="rId7" action="ppaction://hlinksldjump"/>
          </p:cNvPr>
          <p:cNvSpPr/>
          <p:nvPr/>
        </p:nvSpPr>
        <p:spPr>
          <a:xfrm>
            <a:off x="4572000" y="62064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Cáncer</a:t>
            </a:r>
            <a:endParaRPr b="0" lang="en-US" sz="4400" spc="-1" strike="noStrike">
              <a:solidFill>
                <a:srgbClr val="000000"/>
              </a:solidFill>
              <a:latin typeface="Arial"/>
            </a:endParaRPr>
          </a:p>
        </p:txBody>
      </p:sp>
      <p:sp>
        <p:nvSpPr>
          <p:cNvPr id="52" name="">
            <a:hlinkClick r:id="rId8" action="ppaction://hlinksldjump"/>
          </p:cNvPr>
          <p:cNvSpPr/>
          <p:nvPr/>
        </p:nvSpPr>
        <p:spPr>
          <a:xfrm>
            <a:off x="4572000" y="155736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Leo</a:t>
            </a:r>
            <a:endParaRPr b="0" lang="en-US" sz="4400" spc="-1" strike="noStrike">
              <a:solidFill>
                <a:srgbClr val="000000"/>
              </a:solidFill>
              <a:latin typeface="Arial"/>
            </a:endParaRPr>
          </a:p>
        </p:txBody>
      </p:sp>
      <p:sp>
        <p:nvSpPr>
          <p:cNvPr id="53" name="">
            <a:hlinkClick r:id="rId9" action="ppaction://hlinksldjump"/>
          </p:cNvPr>
          <p:cNvSpPr/>
          <p:nvPr/>
        </p:nvSpPr>
        <p:spPr>
          <a:xfrm>
            <a:off x="4572000" y="2492280"/>
            <a:ext cx="4103640" cy="935280"/>
          </a:xfrm>
          <a:custGeom>
            <a:avLst/>
            <a:gdLst>
              <a:gd name="textAreaLeft" fmla="*/ 60480 w 4103640"/>
              <a:gd name="textAreaRight" fmla="*/ 4043160 w 4103640"/>
              <a:gd name="textAreaTop" fmla="*/ 60480 h 935280"/>
              <a:gd name="textAreaBottom" fmla="*/ 874800 h 935280"/>
            </a:gdLst>
            <a:ahLst/>
            <a:rect l="textAreaLeft" t="textAreaTop" r="textAreaRight" b="textAreaBottom"/>
            <a:pathLst>
              <a:path w="94744" h="21600">
                <a:moveTo>
                  <a:pt x="0" y="0"/>
                </a:moveTo>
                <a:lnTo>
                  <a:pt x="94744" y="0"/>
                </a:lnTo>
                <a:lnTo>
                  <a:pt x="94744" y="21600"/>
                </a:lnTo>
                <a:lnTo>
                  <a:pt x="0" y="21600"/>
                </a:lnTo>
                <a:close/>
              </a:path>
              <a:path fill="lightenLess" w="94744" h="21600">
                <a:moveTo>
                  <a:pt x="0" y="0"/>
                </a:moveTo>
                <a:lnTo>
                  <a:pt x="94744" y="0"/>
                </a:lnTo>
                <a:lnTo>
                  <a:pt x="93344" y="1400"/>
                </a:lnTo>
                <a:lnTo>
                  <a:pt x="1400" y="1400"/>
                </a:lnTo>
                <a:close/>
              </a:path>
              <a:path fill="darken" w="94744" h="21600">
                <a:moveTo>
                  <a:pt x="94744" y="0"/>
                </a:moveTo>
                <a:lnTo>
                  <a:pt x="94744" y="21600"/>
                </a:lnTo>
                <a:lnTo>
                  <a:pt x="93344" y="20200"/>
                </a:lnTo>
                <a:lnTo>
                  <a:pt x="93344" y="1400"/>
                </a:lnTo>
                <a:close/>
              </a:path>
              <a:path fill="darkenLess" w="94744" h="21600">
                <a:moveTo>
                  <a:pt x="94744" y="21600"/>
                </a:moveTo>
                <a:lnTo>
                  <a:pt x="0" y="21600"/>
                </a:lnTo>
                <a:lnTo>
                  <a:pt x="1400" y="20200"/>
                </a:lnTo>
                <a:lnTo>
                  <a:pt x="93344" y="20200"/>
                </a:lnTo>
                <a:close/>
              </a:path>
              <a:path fill="lighten" w="94744"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Virgo</a:t>
            </a:r>
            <a:endParaRPr b="0" lang="en-US" sz="4400" spc="-1" strike="noStrike">
              <a:solidFill>
                <a:srgbClr val="000000"/>
              </a:solidFill>
              <a:latin typeface="Arial"/>
            </a:endParaRPr>
          </a:p>
        </p:txBody>
      </p:sp>
      <p:sp>
        <p:nvSpPr>
          <p:cNvPr id="54" name="">
            <a:hlinkClick r:id="rId10" action="ppaction://hlinksldjump"/>
          </p:cNvPr>
          <p:cNvSpPr/>
          <p:nvPr/>
        </p:nvSpPr>
        <p:spPr>
          <a:xfrm>
            <a:off x="4572000" y="436572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Escorpio</a:t>
            </a:r>
            <a:endParaRPr b="0" lang="en-US" sz="4400" spc="-1" strike="noStrike">
              <a:solidFill>
                <a:srgbClr val="000000"/>
              </a:solidFill>
              <a:latin typeface="Arial"/>
            </a:endParaRPr>
          </a:p>
        </p:txBody>
      </p:sp>
      <p:sp>
        <p:nvSpPr>
          <p:cNvPr id="55" name="">
            <a:hlinkClick r:id="rId11" action="ppaction://hlinksldjump"/>
          </p:cNvPr>
          <p:cNvSpPr/>
          <p:nvPr/>
        </p:nvSpPr>
        <p:spPr>
          <a:xfrm>
            <a:off x="4572000" y="342900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Libra</a:t>
            </a:r>
            <a:endParaRPr b="0" lang="en-US" sz="4400" spc="-1" strike="noStrike">
              <a:solidFill>
                <a:srgbClr val="000000"/>
              </a:solidFill>
              <a:latin typeface="Arial"/>
            </a:endParaRPr>
          </a:p>
        </p:txBody>
      </p:sp>
      <p:sp>
        <p:nvSpPr>
          <p:cNvPr id="56" name="">
            <a:hlinkClick r:id="rId12" action="ppaction://hlinksldjump"/>
          </p:cNvPr>
          <p:cNvSpPr/>
          <p:nvPr/>
        </p:nvSpPr>
        <p:spPr>
          <a:xfrm>
            <a:off x="4572000" y="530064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Sagitario</a:t>
            </a:r>
            <a:endParaRPr b="0" lang="en-US" sz="4400" spc="-1" strike="noStrike">
              <a:solidFill>
                <a:srgbClr val="000000"/>
              </a:solidFill>
              <a:latin typeface="Arial"/>
            </a:endParaRPr>
          </a:p>
        </p:txBody>
      </p:sp>
      <p:sp>
        <p:nvSpPr>
          <p:cNvPr id="57" name="">
            <a:hlinkClick r:id="rId13" action="ppaction://hlinksldjump"/>
          </p:cNvPr>
          <p:cNvSpPr/>
          <p:nvPr/>
        </p:nvSpPr>
        <p:spPr>
          <a:xfrm>
            <a:off x="468360" y="1557360"/>
            <a:ext cx="4103640" cy="934920"/>
          </a:xfrm>
          <a:custGeom>
            <a:avLst/>
            <a:gdLst>
              <a:gd name="textAreaLeft" fmla="*/ 60480 w 4103640"/>
              <a:gd name="textAreaRight" fmla="*/ 4043160 w 4103640"/>
              <a:gd name="textAreaTop" fmla="*/ 60480 h 934920"/>
              <a:gd name="textAreaBottom" fmla="*/ 874440 h 934920"/>
            </a:gdLst>
            <a:ahLst/>
            <a:rect l="textAreaLeft" t="textAreaTop" r="textAreaRight" b="textAreaBottom"/>
            <a:pathLst>
              <a:path w="94781" h="21600">
                <a:moveTo>
                  <a:pt x="0" y="0"/>
                </a:moveTo>
                <a:lnTo>
                  <a:pt x="94781" y="0"/>
                </a:lnTo>
                <a:lnTo>
                  <a:pt x="94781" y="21600"/>
                </a:lnTo>
                <a:lnTo>
                  <a:pt x="0" y="21600"/>
                </a:lnTo>
                <a:close/>
              </a:path>
              <a:path fill="lightenLess" w="94781" h="21600">
                <a:moveTo>
                  <a:pt x="0" y="0"/>
                </a:moveTo>
                <a:lnTo>
                  <a:pt x="94781" y="0"/>
                </a:lnTo>
                <a:lnTo>
                  <a:pt x="93381" y="1400"/>
                </a:lnTo>
                <a:lnTo>
                  <a:pt x="1400" y="1400"/>
                </a:lnTo>
                <a:close/>
              </a:path>
              <a:path fill="darken" w="94781" h="21600">
                <a:moveTo>
                  <a:pt x="94781" y="0"/>
                </a:moveTo>
                <a:lnTo>
                  <a:pt x="94781" y="21600"/>
                </a:lnTo>
                <a:lnTo>
                  <a:pt x="93381" y="20200"/>
                </a:lnTo>
                <a:lnTo>
                  <a:pt x="93381" y="1400"/>
                </a:lnTo>
                <a:close/>
              </a:path>
              <a:path fill="darkenLess" w="94781" h="21600">
                <a:moveTo>
                  <a:pt x="94781" y="21600"/>
                </a:moveTo>
                <a:lnTo>
                  <a:pt x="0" y="21600"/>
                </a:lnTo>
                <a:lnTo>
                  <a:pt x="1400" y="20200"/>
                </a:lnTo>
                <a:lnTo>
                  <a:pt x="93381" y="20200"/>
                </a:lnTo>
                <a:close/>
              </a:path>
              <a:path fill="lighten" w="94781" h="21600">
                <a:moveTo>
                  <a:pt x="0" y="21600"/>
                </a:moveTo>
                <a:lnTo>
                  <a:pt x="0" y="0"/>
                </a:lnTo>
                <a:lnTo>
                  <a:pt x="1400" y="1400"/>
                </a:lnTo>
                <a:lnTo>
                  <a:pt x="1400" y="20200"/>
                </a:lnTo>
                <a:close/>
              </a:path>
            </a:pathLst>
          </a:custGeom>
          <a:noFill/>
          <a:ln w="9360">
            <a:solidFill>
              <a:srgbClr val="808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Edwardian Script ITC"/>
              </a:rPr>
              <a:t>Acuario</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PRICORNIO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ciembre 22 * Enero 19) </a:t>
            </a:r>
            <a:endParaRPr b="0" lang="en-US" sz="17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amante</a:t>
            </a:r>
            <a:r>
              <a:rPr b="1" lang="en-US" sz="1500" spc="-1" strike="noStrike">
                <a:solidFill>
                  <a:srgbClr val="000000"/>
                </a:solidFill>
                <a:latin typeface="Arial"/>
              </a:rPr>
              <a:t> </a:t>
            </a:r>
            <a:endParaRPr b="0" lang="en-US" sz="1500" spc="-1" strike="noStrike">
              <a:solidFill>
                <a:srgbClr val="000000"/>
              </a:solidFill>
              <a:latin typeface="Arial"/>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ma romper. Agradable. Fresco. Inteligente. Sexy. Predice el futuro. Irresistible. Ama estar en relaciones largas. Gran hablador. Siempre consiguen lo que quieren. Buena onda. Les gusta ganar a Géminis por deporte. Extremadamente divertido. Ama bromear. Astuto. Un Capricornio es un de los signos del zodiaco más estables, seguros y tranquilos. Son trabajadores, responsables y prácticos y dispuestos a persistir hasta sea necesario para conseguir su objetivo. Son fiables y muchas veces tienen el papel de terminar un proyecto iniciado por uno de los signos más pioneros. Les encanta la música. Un Capricornio exige mucho de sus empleados, familiares y amigos, pero solo porque se lo exige también a si mismo. Suelen ser personas justas. No se encuentran entre los signos del zodiaco más felices. Más bien tienden a veces hacia la melancolía y pesimismo. Cuando un Capricornio sufre depresión debe buscar ayuda. De hecho un Capricornio debe siempre intentar mantener una estabilidad emocional a través de la meditación, respiración o actividades que le ayudan a relajarse y no perder control de sus emociones. A veces le cuesta a un Capricornio sentirse feliz en sus relaciones personales. Pueden tender a ser reservados con desconocidos. Es más probable que un Capricornio tenga pocos buenos amigos (hacia los que siente una lealtad absoluta) que muchos amiguetes. A veces les cuestan las relaciones con el sexo opuesto, aunque una vez se enamoran suelen ser fieles y algo celosos. </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4 años de mala suerte si no lo reenvías </a:t>
            </a:r>
            <a:endParaRPr b="0" lang="en-US" sz="1500" spc="-1" strike="noStrike">
              <a:solidFill>
                <a:srgbClr val="000000"/>
              </a:solidFill>
              <a:latin typeface="Arial"/>
            </a:endParaRPr>
          </a:p>
        </p:txBody>
      </p:sp>
      <p:sp>
        <p:nvSpPr>
          <p:cNvPr id="59"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rId2" action="ppaction://hlinksldjump"/>
          </p:cNvPr>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UARIO</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ero 20 * Febrero 18)</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 hace en el agua </a:t>
            </a:r>
            <a:br>
              <a:rPr sz="1700"/>
            </a:br>
            <a:endParaRPr b="0" lang="en-US" sz="1700" spc="-1" strike="noStrike">
              <a:solidFill>
                <a:srgbClr val="000000"/>
              </a:solidFill>
              <a:latin typeface="Arial"/>
            </a:endParaRPr>
          </a:p>
          <a:p>
            <a:pPr algn="just">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fiable. Atractivo. Gran besador. Único en su clase. Ama las relaciones a largo plazo. Extremadamente enérgico. Impredecible. Excederá tus expectativas. No es un luchador, pero te dejará inconsciente. Los Acuarios tienen una personalidad fuerte y atractiva. Hay dos tipos de Acuarios: uno es tímido, sensible, y paciente. El otro tipo de Acuario es exuberante, vivo y puede llegar a esconder las profundidades de su personalidad debajo de un aire frívolo. Ambos tipos de acuario tienen una fuerza de convicción y de la verdad muy fuerte y son tan honestos que saben cambiar sus opiniones si aparecen pruebas que muestran lo contrario de lo que pensaban antes. Los acuarios son capaces de ver los dos lados de un argumento por lo que son uno de los signos más tolerantes y sin prejuicios de todo el zodiaco. Están abiertos a la verdad y dispuestos a aprender de todos. Un Acuario es humano, sincero, refinado e idealista. Saben ser perseverantes y expresarse con razón, moderación y, a veces, humor. Casi todos los acuarios son inteligentes, claros y lógicos. Muchos son imaginativos y psíquicos. A veces sienten la necesidad de retirarse del mundo para meditar o pensar. Se niegan a seguir la multitud.  A pesar de la personalidad abierta de los acuarios y de su deseo de ayudar a la humanidad, no suelen hacer amigos con facilidad. No se entregan su alma con facilidad. Pero una vez que deciden que merece la pena amar a alguien, se convertirán en amigo o amante dispuesto a sacrificar todo por su pareja y ser fiel durante toda su vida. Sin embargo, a veces les toca vivir la desilusión emocional porque sus ideales personales les llevan a exigir más de su pareja de lo que es razonable. Si se le engaña a un acuario, su furia es terrible. El problema de los acuarios en cuanto a sus relaciones personales se presenta cuando tienden a replegar velas y huir ante un problema. Sienten una gran preocupación por el bien de la humanidad y no comprenden las posturas contrarias a las causas que tanto persiguen. A pesar de tener ciertos secretos.</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 años de mala suerte si no lo reenvías</a:t>
            </a:r>
            <a:endParaRPr b="0" lang="en-US" sz="1500" spc="-1" strike="noStrike">
              <a:solidFill>
                <a:srgbClr val="000000"/>
              </a:solidFill>
              <a:latin typeface="Arial"/>
            </a:endParaRPr>
          </a:p>
        </p:txBody>
      </p:sp>
      <p:sp>
        <p:nvSpPr>
          <p:cNvPr id="62"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a:hlinkClick r:id="rId2" action="ppaction://hlinksldjump"/>
          </p:cNvPr>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SCI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brero19 * Marzo 20)</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l compañero de la vida </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ocupado y amable, pero egoísta al mismo tiempo. Astuto. Siempre el centro de la atención. Atractivo alto. Siempre tiene que tener la última palabra y la tiene. Fácil de encontrar, difícil de mantener. Alguien con quien pasar un momento divertido. Extremadamente raro pero en el buen sentido.. Muy buen sentido del humor (pero puede cambiar al opuesto repentinamente) !!! Meditabundo. Siempre consigue lo que quiere. Ama hacer bromas. Muy popular. Tonto, divertido y dulce. Un piscis tiene una personalidad tranquila, paciente y amable. Son sensibles a los sentimientos de los demás y responden con simpatía y tacto al sufrimiento de los demás. Son muy queridos por los demás porque tienen un carácter afable, cariñoso y amable, y no suponen una amenaza para los que quieren tener puestos de autoridad o mayor popularidad. Suelen asumir su entorno y sus circunstancias, y no suelen tomar la iniciativa para resolver problemas. Les preocupan más los problemas de otros que sus propios problemas. Los Piscis tienden a existir de forma emocional más que de forma racional, de forma instintiva más que de forma intelectual. No les gusta sentirse confinados y no respetan las convenciones así por las buenas. Pero tampoco tienen la energía o la motivación para luchar contra el poder establecido. Los Piscis muchas veces se retiran hacia un mundo de sueños en el que sus capacidades pueden aportarles beneficios. Tienen una gran capacidad creativa artística. Los Piscis no son egoístas en sus relaciones personales y suelen dar más de lo que reciben en sus relaciones personales. Son personas leales y buscan una unión con la mente y el espíritu de su pareja más que una unión sexual. Les gusta el hogar y la familia.</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 años de mala suerte si no lo reenvías. </a:t>
            </a:r>
            <a:endParaRPr b="0" lang="en-US" sz="1500" spc="-1" strike="noStrike">
              <a:solidFill>
                <a:srgbClr val="000000"/>
              </a:solidFill>
              <a:latin typeface="Arial"/>
            </a:endParaRPr>
          </a:p>
        </p:txBody>
      </p:sp>
      <p:sp>
        <p:nvSpPr>
          <p:cNvPr id="65" name="">
            <a:hlinkClick r:id="rId1" action="ppaction://hlinksldjump"/>
          </p:cNvPr>
          <p:cNvSpPr/>
          <p:nvPr/>
        </p:nvSpPr>
        <p:spPr>
          <a:xfrm>
            <a:off x="169236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443640" y="26028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0" y="0"/>
            <a:ext cx="9144000" cy="6858000"/>
          </a:xfrm>
          <a:prstGeom prst="rect">
            <a:avLst/>
          </a:prstGeom>
          <a:noFill/>
          <a:ln w="0">
            <a:noFill/>
          </a:ln>
        </p:spPr>
        <p:txBody>
          <a:bodyPr lIns="90000" rIns="90000" tIns="46800" bIns="46800" anchor="ctr">
            <a:noAutofit/>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IES</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rzo 21 * Abril 19)</a:t>
            </a:r>
            <a:endParaRPr b="0" lang="en-US" sz="17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l mentiroso</a:t>
            </a:r>
            <a:endParaRPr b="0" lang="en-US" sz="17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idor. Adorable. Espontáneo. Alguien con quien no te meterías. Divertido..Excelente besador EXTREMADAMENTE adorable. Ama las relaciones. Adictivo. Ruidoso. Un Aries es una persona llena de energía y entusiasmo. Pionero y aventurero, le encantan los retos, la libertad y las nuevas ideas. A los Aries les gusta liderar y prefieren dar instrucciones a recibirlas. Son independientes y preocupados por su propia ambición y objetivos. Tienen una energía envidiable que a veces les lleva a ser agresivos, inquietos, argumentativos, tercos. Es fácil ofender a los Aries y cuando se sienten ofendidos, es difícil hacer las paces con ellos. Aries es el primer signo del zodiaco, y en este sentido su papel es empezar algo y liderar. Si un Aries empieza a creer en una buena causa, luchará sin descanso para promocionarla. Un Aries suele ser honesto y directo en sus relaciones personales y es muy buen amigo de sus amigos, aunque a veces pueden ser irritables y herir las sensibilidades de los demás. Los Aries suelen tener un libido sexual alto y aman con gran pasión. Tanto que, a veces, se equivocan en sus primeras relaciones y les cuesta ser fiel o encontrar el amor de su vida. Los Aries son padres entregados y dedicados, dispuestos a hacer todo por el bienestar de sus hijos. No existe padre o madre más protectores de sus hijos en todo el zodiaco.</a:t>
            </a:r>
            <a:endParaRPr b="0" lang="en-US" sz="1500" spc="-1" strike="noStrike">
              <a:solidFill>
                <a:srgbClr val="000000"/>
              </a:solidFill>
              <a:latin typeface="Arial"/>
            </a:endParaRPr>
          </a:p>
          <a:p>
            <a:pPr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6 años de mala suerte si no lo reenvías.</a:t>
            </a:r>
            <a:endParaRPr b="0" lang="en-US" sz="1700" spc="-1" strike="noStrike">
              <a:solidFill>
                <a:srgbClr val="000000"/>
              </a:solidFill>
              <a:latin typeface="Arial"/>
            </a:endParaRPr>
          </a:p>
        </p:txBody>
      </p:sp>
      <p:sp>
        <p:nvSpPr>
          <p:cNvPr id="68" name="">
            <a:hlinkClick r:id="rId1" action="ppaction://hlinksldjump"/>
          </p:cNvPr>
          <p:cNvSpPr/>
          <p:nvPr/>
        </p:nvSpPr>
        <p:spPr>
          <a:xfrm>
            <a:off x="1692360" y="54936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10800"/>
                </a:moveTo>
                <a:lnTo>
                  <a:pt x="22594" y="3794"/>
                </a:lnTo>
                <a:lnTo>
                  <a:pt x="22594" y="17806"/>
                </a:lnTo>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443640" y="549360"/>
            <a:ext cx="934920" cy="647640"/>
          </a:xfrm>
          <a:custGeom>
            <a:avLst/>
            <a:gdLst>
              <a:gd name="textAreaLeft" fmla="*/ 41760 w 934920"/>
              <a:gd name="textAreaRight" fmla="*/ 893160 w 934920"/>
              <a:gd name="textAreaTop" fmla="*/ 41760 h 647640"/>
              <a:gd name="textAreaBottom" fmla="*/ 605880 h 647640"/>
            </a:gdLst>
            <a:ahLst/>
            <a:rect l="textAreaLeft" t="textAreaTop" r="textAreaRight" b="textAreaBottom"/>
            <a:pathLst>
              <a:path w="31176" h="21600">
                <a:moveTo>
                  <a:pt x="0" y="0"/>
                </a:moveTo>
                <a:lnTo>
                  <a:pt x="31176" y="0"/>
                </a:lnTo>
                <a:lnTo>
                  <a:pt x="31176" y="21600"/>
                </a:lnTo>
                <a:lnTo>
                  <a:pt x="0" y="21600"/>
                </a:lnTo>
                <a:close/>
              </a:path>
              <a:path fill="lightenLess" w="31176" h="21600">
                <a:moveTo>
                  <a:pt x="0" y="0"/>
                </a:moveTo>
                <a:lnTo>
                  <a:pt x="31176" y="0"/>
                </a:lnTo>
                <a:lnTo>
                  <a:pt x="29776" y="1400"/>
                </a:lnTo>
                <a:lnTo>
                  <a:pt x="1400" y="1400"/>
                </a:lnTo>
                <a:close/>
              </a:path>
              <a:path fill="darken" w="31176" h="21600">
                <a:moveTo>
                  <a:pt x="31176" y="0"/>
                </a:moveTo>
                <a:lnTo>
                  <a:pt x="31176" y="21600"/>
                </a:lnTo>
                <a:lnTo>
                  <a:pt x="29776" y="20200"/>
                </a:lnTo>
                <a:lnTo>
                  <a:pt x="29776" y="1400"/>
                </a:lnTo>
                <a:close/>
              </a:path>
              <a:path fill="darkenLess" w="31176" h="21600">
                <a:moveTo>
                  <a:pt x="31176" y="21600"/>
                </a:moveTo>
                <a:lnTo>
                  <a:pt x="0" y="21600"/>
                </a:lnTo>
                <a:lnTo>
                  <a:pt x="1400" y="20200"/>
                </a:lnTo>
                <a:lnTo>
                  <a:pt x="29776" y="20200"/>
                </a:lnTo>
                <a:close/>
              </a:path>
              <a:path fill="lighten" w="31176" h="21600">
                <a:moveTo>
                  <a:pt x="0" y="21600"/>
                </a:moveTo>
                <a:lnTo>
                  <a:pt x="0" y="0"/>
                </a:lnTo>
                <a:lnTo>
                  <a:pt x="1400" y="1400"/>
                </a:lnTo>
                <a:lnTo>
                  <a:pt x="1400" y="20200"/>
                </a:lnTo>
                <a:close/>
              </a:path>
              <a:path fill="darken" w="31176" h="21600">
                <a:moveTo>
                  <a:pt x="8582" y="3794"/>
                </a:moveTo>
                <a:lnTo>
                  <a:pt x="22594" y="10800"/>
                </a:lnTo>
                <a:lnTo>
                  <a:pt x="858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8:55:04Z</dcterms:created>
  <dc:creator>HG Producciones</dc:creator>
  <dc:description>HORÓSCOPO, da miedo ser tan previsible</dc:description>
  <cp:keywords>HG Producciones</cp:keywords>
  <dc:language>en-US</dc:language>
  <cp:lastModifiedBy>Administrador</cp:lastModifiedBy>
  <dcterms:modified xsi:type="dcterms:W3CDTF">2008-10-27T13:13:19Z</dcterms:modified>
  <cp:revision>14</cp:revision>
  <dc:subject>HG Producciones</dc:subject>
  <dc:title>HORÓSCOPO</dc:title>
</cp:coreProperties>
</file>