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r%C3%ADa%20Callas.%20Sans%C3%B3n%20y%20Dalila......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02-5533-43BC-8FB5-7035C193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FB7-232E-4B84-9226-E37E6DE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C28-7345-4A17-A45E-8B1AEC4C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9F8-134D-4175-909B-7C9B8877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00E-7E7B-4A66-8D87-D0B9503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3B8-A898-44D8-9243-EC57F39B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FA3-1663-46E2-8B13-10048CD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521-1582-4244-A575-E0F9E33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C5E-0E43-43F8-B2E3-D7B21694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C54-5F73-491F-B4F3-DAE766C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63E-53DE-433E-A7BD-82B0F0F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662-8307-4437-AEB3-08A1081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1F6-30FD-4911-B06A-B0BA08096D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r&#237;a%20Callas.%20Sans&#243;n%20y%20Dalila......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12760" y="-90360"/>
            <a:ext cx="9753480" cy="703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080" y="4797360"/>
            <a:ext cx="410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espués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6021360"/>
            <a:ext cx="381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Canta María Callas: Sansón y Dal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Texto: J.L.Bor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Mar%C3%ADa%20Callas.%20Sans%C3%B3n%20y%20Dalila......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03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0360" y="5445000"/>
            <a:ext cx="738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comprendes que los verdaderos amigos son cont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que quien no lucha por e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arde o temprano se verá rodeado sólo de amistades fal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61920"/>
            <a:ext cx="9753840" cy="6981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0360" y="544500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disculpar cualquiera lo h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ero perdonar es sólo de al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029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5518080"/>
            <a:ext cx="860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com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si has herido a un amigo de forma 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uy probablemente la amistad jamás volverá a ser ig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387360"/>
            <a:ext cx="9753840" cy="695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0360" y="566100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aunque seas feliz con tus amig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gún día llorarás por aquellos que dejaste 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01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2200" y="5661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 que cada experiencia vivida con cada persona, es  única e irrepet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85840" y="-171360"/>
            <a:ext cx="9753840" cy="696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0360" y="5589720"/>
            <a:ext cx="752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 que el que humilla o desprecia a un ser human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arde o temprano sufrirá las mismas humillaciones o des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674640"/>
            <a:ext cx="9753840" cy="7010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0360" y="5734080"/>
            <a:ext cx="77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 a construir todos tus caminos en el ho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rque el terreno del mañana es demasiado incierto para hacer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85840" y="-100080"/>
            <a:ext cx="9753840" cy="6962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0360" y="5589720"/>
            <a:ext cx="8388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comprender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apresurar las cosas o forzarlas a que p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casionará que al final no sean como esperab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100080"/>
            <a:ext cx="9753840" cy="7039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0360" y="5516640"/>
            <a:ext cx="845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 que en realidad lo mejor no era el futu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ino el momento que estabas viviendo justo en ese i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61920"/>
            <a:ext cx="9753840" cy="6981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0360" y="5589720"/>
            <a:ext cx="73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verás 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unque seas  feliz con los que están a tu l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ñorarás terriblemente a los que ayer estaban cont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ahora  se han marchad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73120" y="-96840"/>
            <a:ext cx="9753480" cy="69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2200" y="5516640"/>
            <a:ext cx="828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spués de un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o aprende la sutil di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ntre sostener una mano y encadenar el al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04920" y="-647640"/>
            <a:ext cx="975384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2200" y="5300640"/>
            <a:ext cx="9074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rás que intentar perdonar o pedir perd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cir que amas …  decir que extrañ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cir que necesitas …  decir que quieres ser am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nte una tumba … ya no tiene sent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-387360"/>
            <a:ext cx="9753840" cy="702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52560"/>
            <a:ext cx="9753840" cy="696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8920" y="5445000"/>
            <a:ext cx="709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Y uno aprende y aprend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Y con cada dia uno apre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Pero desafortunadamente … sólo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61440" y="6021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789360"/>
            <a:ext cx="104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1255400">
            <a:off x="8605440" y="6439320"/>
            <a:ext cx="71640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6896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6896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1280" y="-27000"/>
            <a:ext cx="9396360" cy="64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5300640"/>
            <a:ext cx="87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aprende que el amor no significa acost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a compañía no significa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empieza a apren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02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920" y="5373720"/>
            <a:ext cx="831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los besos no son cont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los regalos no son promes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empieza a aceptar sus derrotas con la cabeza alta y los ojos abi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69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0360" y="5373720"/>
            <a:ext cx="802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aprende que realmente puede aguant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uno realmente es fuer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uno realmente va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85840" y="-819000"/>
            <a:ext cx="9753840" cy="701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5445000"/>
            <a:ext cx="759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después de un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o planta su propio jardín y decora su propia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n lugar de esperar a que alguien le traiga fl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52560"/>
            <a:ext cx="9753840" cy="6963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0360" y="5445000"/>
            <a:ext cx="75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estar con alguien porque te ofrece un buen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ignifica que tarde o temprano querrás volver a tu pa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85840" y="-603360"/>
            <a:ext cx="9753840" cy="701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8920" y="5589720"/>
            <a:ext cx="81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sólo quien es capaz de amarte con tus defectos, sin pretender cambi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uede brindarte toda la felicidad que des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12760" y="-243000"/>
            <a:ext cx="9753480" cy="6962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0360" y="5516640"/>
            <a:ext cx="77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si estas al lado de esa persona sólo por acompañar tu sole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rremediablemente acabarás no deseando volver a ve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13:00Z</dcterms:created>
  <dc:creator>m</dc:creator>
  <dc:description>Sobre las cosas de la vida.</dc:description>
  <dc:language>en-US</dc:language>
  <cp:lastModifiedBy>xx</cp:lastModifiedBy>
  <dcterms:modified xsi:type="dcterms:W3CDTF">2007-12-14T17:54:45Z</dcterms:modified>
  <cp:revision>8</cp:revision>
  <dc:subject/>
  <dc:title>Después ...</dc:title>
</cp:coreProperties>
</file>