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ar%C3%ADa%20Callas.%20Sans%C3%B3n%20y%20Dalila......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72B-E6C0-4909-A730-19542A87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CB2-1684-4DB6-8FE9-89CF07A1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568-5EF2-4BCD-B2A7-E2F9C977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02B-A26A-412E-8501-CF880FCB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017-3E51-4BD2-93CA-F18A00F1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4BB-4BC7-49A0-8736-DC969A43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429-78BE-48D3-9DD0-4E2C5AE4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F96-8F93-4612-A46B-112165B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106-7B39-4853-9FC1-73C9C763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B74-17AA-4C4C-A560-4EE0A1F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574-4244-4A2A-8614-D3F8902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AA3-7E77-49A1-B36E-C4C9018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4F0E-3A86-49B8-9349-A2090D3A27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r&#237;a%20Callas.%20Sans&#243;n%20y%20Dalila......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12760" y="-90360"/>
            <a:ext cx="9753480" cy="703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1080" y="4797360"/>
            <a:ext cx="410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espués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6720" y="6021360"/>
            <a:ext cx="3816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Canta María Callas: Sansón y Dal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Texto: J.L.Bor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Mar%C3%ADa%20Callas.%20Sans%C3%B3n%20y%20Dalila......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039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60360" y="5445000"/>
            <a:ext cx="738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comprendes que los verdaderos amigos son conta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que quien no lucha por el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arde o temprano se verá rodeado sólo de amistades fal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61920"/>
            <a:ext cx="9753840" cy="6981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0360" y="5445000"/>
            <a:ext cx="85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disculpar cualquiera lo h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ero perdonar es sólo de almas g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-316080"/>
            <a:ext cx="9753840" cy="7029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0360" y="5518080"/>
            <a:ext cx="860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com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si has herido a un amigo de forma 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uy probablemente la amistad jamás volverá a ser ig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04920" y="-387360"/>
            <a:ext cx="9753840" cy="695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0360" y="5661000"/>
            <a:ext cx="75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te das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aunque seas feliz con tus amig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lgún día llorarás por aquellos que dejaste 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701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2200" y="5661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te das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 que cada experiencia vivida con cada persona, es  única e irrepet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85840" y="-171360"/>
            <a:ext cx="9753840" cy="6962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0360" y="5589720"/>
            <a:ext cx="7524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te das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 que el que humilla o desprecia a un ser human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arde o temprano sufrirá las mismas humillaciones o des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674640"/>
            <a:ext cx="9753840" cy="7010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0360" y="5734080"/>
            <a:ext cx="774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 a construir todos tus caminos en el ho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rque el terreno del mañana es demasiado incierto para hacer pl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285840" y="-100080"/>
            <a:ext cx="9753840" cy="6962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0360" y="5589720"/>
            <a:ext cx="8388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comprender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apresurar las cosas o forzarlas a que pa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casionará que al final no sean como esperab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100080"/>
            <a:ext cx="9753840" cy="7039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0360" y="5516640"/>
            <a:ext cx="845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te das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 que en realidad lo mejor no era el futu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ino el momento que estabas viviendo justo en ese i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-61920"/>
            <a:ext cx="9753840" cy="6981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0360" y="5589720"/>
            <a:ext cx="738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verás 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unque seas  feliz con los que están a tu l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ñorarás terriblemente a los que ayer estaban cont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ahora  se han marchad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573120" y="-96840"/>
            <a:ext cx="9753480" cy="69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2200" y="5516640"/>
            <a:ext cx="828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spués de un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no aprende la sutil di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ntre sostener una mano y encadenar el al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04920" y="-647640"/>
            <a:ext cx="975384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2200" y="5300640"/>
            <a:ext cx="90741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rás que intentar perdonar o pedir perd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cir que amas …  decir que extrañ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cir que necesitas …  decir que quieres ser am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nte una tumba … ya no tiene sent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04920" y="-387360"/>
            <a:ext cx="9753840" cy="702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52560"/>
            <a:ext cx="9753840" cy="696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58920" y="5445000"/>
            <a:ext cx="709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Y uno aprende y aprend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Y con cada dia uno apre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Pero desafortunadamente … sólo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61440" y="60213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789360"/>
            <a:ext cx="1042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1255400">
            <a:off x="8605440" y="6439320"/>
            <a:ext cx="716400" cy="38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6896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6896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1280" y="-27000"/>
            <a:ext cx="9396360" cy="648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5300640"/>
            <a:ext cx="87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o aprende que el amor no significa acost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a compañía no significa 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o empieza a aprend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702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8920" y="5373720"/>
            <a:ext cx="831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los besos no son cont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los regalos no son promes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o empieza a aceptar sus derrotas con la cabeza alta y los ojos abie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6953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0360" y="5373720"/>
            <a:ext cx="802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uno aprende que realmente puede aguant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uno realmente es fuer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uno realmente va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85840" y="-819000"/>
            <a:ext cx="9753840" cy="701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5445000"/>
            <a:ext cx="759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después de un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no planta su propio jardín y decora su propia a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n lugar de esperar a que alguien le traiga fl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04920" y="-52560"/>
            <a:ext cx="9753840" cy="6963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0360" y="5445000"/>
            <a:ext cx="752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estar con alguien porque te ofrece un buen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ignifica que tarde o temprano querrás volver a tu pa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85840" y="-603360"/>
            <a:ext cx="9753840" cy="7010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8920" y="5589720"/>
            <a:ext cx="81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sólo quien es capaz de amarte con tus defectos, sin pretender cambi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uede brindarte toda la felicidad que des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12760" y="-243000"/>
            <a:ext cx="9753480" cy="6962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0360" y="5516640"/>
            <a:ext cx="774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on el tiempo apre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Que si estas al lado de esa persona sólo por acompañar tu sole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rremediablemente acabarás no deseando volver a ve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13:00Z</dcterms:created>
  <dc:creator>m</dc:creator>
  <dc:description>Sobre las cosas de la vida.</dc:description>
  <dc:language>en-US</dc:language>
  <cp:lastModifiedBy>xx</cp:lastModifiedBy>
  <dcterms:modified xsi:type="dcterms:W3CDTF">2007-12-14T17:54:45Z</dcterms:modified>
  <cp:revision>8</cp:revision>
  <dc:subject/>
  <dc:title>Después ...</dc:title>
</cp:coreProperties>
</file>