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PLUGIN.WAV" ContentType="audio/x-wav"/>
  <Override PartName="/ppt/media/image13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Mireu%20dolorw.wav" ContentType="audio/x-wav"/>
  <Override PartName="/ppt/media/image11.png" ContentType="image/png"/>
  <Override PartName="/ppt/media/image12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442-3762-41EA-87D4-2F6BA6A7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57B-A8B0-4127-A6B5-05B62A08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4EC-A218-4CA4-A777-86EEDD7F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C4A-8094-4C7B-BD97-667F9851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B1D-7969-492C-B7AF-DF55BA52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FBE-610A-426D-9265-C3C1E06A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CFA-D0D6-4CCA-AB03-A3DBFB89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578-3D9C-412E-BD5F-339E8682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015-12CC-4CB3-88EB-C39A77E9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B08-399A-444D-B5B7-00309819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20E-C943-4050-8009-039CD620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FF2-24F6-4EF7-86DA-ACA118FC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1E93-0312-4F8B-B611-F08ABFD6B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Mireu%20dolorw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7 Rectángulo"/>
          <p:cNvGrpSpPr/>
          <p:nvPr/>
        </p:nvGrpSpPr>
        <p:grpSpPr>
          <a:xfrm>
            <a:off x="-6480" y="-6480"/>
            <a:ext cx="9369720" cy="7083720"/>
            <a:chOff x="-6480" y="-6480"/>
            <a:chExt cx="9369720" cy="7083720"/>
          </a:xfrm>
        </p:grpSpPr>
        <p:pic>
          <p:nvPicPr>
            <p:cNvPr id="42" name="7 Rectángulo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369720" cy="708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0" y="0"/>
              <a:ext cx="9358200" cy="70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Text Box 5"/>
          <p:cNvSpPr/>
          <p:nvPr/>
        </p:nvSpPr>
        <p:spPr>
          <a:xfrm>
            <a:off x="3071880" y="428760"/>
            <a:ext cx="5286240" cy="1373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rquémonos al cáliz de Jesús escuchando “Mirad mi dolor” de T. L. de Vic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429000" y="2428920"/>
            <a:ext cx="5286240" cy="30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ef642d"/>
                    </a:gs>
                  </a:gsLst>
                  <a:lin ang="5400000"/>
                </a:gradFill>
                <a:latin typeface="Arial Black"/>
              </a:rPr>
              <a:t>FIesta de _x000b_San Ja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ef642d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ef642d"/>
                    </a:gs>
                  </a:gsLst>
                  <a:lin ang="5400000"/>
                </a:gradFill>
                <a:latin typeface="Arial Black"/>
              </a:rPr>
              <a:t>201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ef642d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6" name="8 Imagen" descr="jaume2cw.jpg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571680" y="0"/>
            <a:ext cx="2176200" cy="70722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7"/>
          <p:cNvGrpSpPr/>
          <p:nvPr/>
        </p:nvGrpSpPr>
        <p:grpSpPr>
          <a:xfrm>
            <a:off x="2610000" y="6357960"/>
            <a:ext cx="6534000" cy="502560"/>
            <a:chOff x="2610000" y="6357960"/>
            <a:chExt cx="6534000" cy="502560"/>
          </a:xfrm>
        </p:grpSpPr>
        <p:sp>
          <p:nvSpPr>
            <p:cNvPr id="48" name="Rectangle 8"/>
            <p:cNvSpPr/>
            <p:nvPr/>
          </p:nvSpPr>
          <p:spPr>
            <a:xfrm>
              <a:off x="3478320" y="6400800"/>
              <a:ext cx="5665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onjas de Sant 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9" descr="SBw"/>
            <p:cNvPicPr/>
            <p:nvPr/>
          </p:nvPicPr>
          <p:blipFill>
            <a:blip r:embed="rId4"/>
            <a:stretch/>
          </p:blipFill>
          <p:spPr>
            <a:xfrm>
              <a:off x="2610000" y="6357960"/>
              <a:ext cx="846000" cy="500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  <p:sndAc>
      <p:stSnd>
        <p:snd r:embed="rId5" name="Mireu%20dolor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4 Imagen" descr="creacio6wc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28760" y="0"/>
            <a:ext cx="4643280" cy="6548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5286240" y="2517840"/>
            <a:ext cx="360684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preferencias son ilusiones cadu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000080" y="5357880"/>
            <a:ext cx="7929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No sabéis que ante Dios sois vasos de barro?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2a lectura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62120" y="152280"/>
            <a:ext cx="7858080" cy="66776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s otros diez, que lo habían oído, se indignaron contra los dos hermanos.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5 Imagen" descr="CADIZ2366.jpg_Thumbnail1.jpg"/>
          <p:cNvPicPr/>
          <p:nvPr/>
        </p:nvPicPr>
        <p:blipFill>
          <a:blip r:embed="rId2"/>
          <a:stretch/>
        </p:blipFill>
        <p:spPr>
          <a:xfrm>
            <a:off x="1015920" y="1309680"/>
            <a:ext cx="8128080" cy="5548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214200" y="214200"/>
            <a:ext cx="807264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o vosotros, los apóstoles desean acaparar pode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42920" y="1643040"/>
            <a:ext cx="42148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¿Os escandaliza que antes y ahor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iglesia sea pecad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228600"/>
            <a:ext cx="8534520" cy="5580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Jesús, reuniéndolos, les dijo: "Sabéis que los jefes de los pueblos los tiranizan y que los grandes los oprimen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14200" y="214200"/>
            <a:ext cx="871560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s que gobiernan se apropian de derechos que no les correspon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4800600"/>
            <a:ext cx="5572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Por qué mantener  nuevas esclavitud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4 Imagen" descr="03GericoErodianaBigwp.jpg"/>
          <p:cNvPicPr/>
          <p:nvPr/>
        </p:nvPicPr>
        <p:blipFill>
          <a:blip r:embed="rId2"/>
          <a:stretch/>
        </p:blipFill>
        <p:spPr>
          <a:xfrm>
            <a:off x="0" y="1860480"/>
            <a:ext cx="9144000" cy="2925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8"/>
          <p:cNvSpPr/>
          <p:nvPr/>
        </p:nvSpPr>
        <p:spPr>
          <a:xfrm>
            <a:off x="5786280" y="4770360"/>
            <a:ext cx="32436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ffffff"/>
                </a:solidFill>
                <a:latin typeface="Arial"/>
              </a:rPr>
              <a:t>Restos de uno de los palacios de verano que el tirano rey Herodes tenía en Jericó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8600" y="60480"/>
            <a:ext cx="8686800" cy="67986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 será así entre vosotros: el que quiera ser grande entre vosotros, que sea vuestro servidor, y el que quiera ser primero entre vosotros, que sea vuestro esclavo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4 Imagen" descr="pobressa famíli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071800" y="407880"/>
            <a:ext cx="7072200" cy="5092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71280" y="160200"/>
            <a:ext cx="335772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que va delante debe llevar la peor ca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85840" y="5238720"/>
            <a:ext cx="457200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ntonces Dios lo bendecirá 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(Salmo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04920" y="365040"/>
            <a:ext cx="8610480" cy="5580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gual que el Hijo del hombre no ha venido para que le sirvan, sino para servir y dar su vida en rescate por mucho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85840" y="428760"/>
            <a:ext cx="856764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rvir es llevar la cruz CON el o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643800" y="1428840"/>
            <a:ext cx="19857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ólo así dais la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5 Imagen" descr="portant-creuw.jpg"/>
          <p:cNvPicPr/>
          <p:nvPr/>
        </p:nvPicPr>
        <p:blipFill>
          <a:blip r:embed="rId2"/>
          <a:stretch/>
        </p:blipFill>
        <p:spPr>
          <a:xfrm>
            <a:off x="285840" y="1285920"/>
            <a:ext cx="604368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2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285920" y="928800"/>
            <a:ext cx="6715080" cy="49698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mo los SANTOS, Señor, queremos seguirte SIRVIENDO y dando la vida, como Tu nos has enseñado en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el evangel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Rectángulo"/>
          <p:cNvSpPr/>
          <p:nvPr/>
        </p:nvSpPr>
        <p:spPr>
          <a:xfrm>
            <a:off x="-214200" y="-142920"/>
            <a:ext cx="9572400" cy="721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-142920" y="6072120"/>
            <a:ext cx="8982000" cy="6732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Van a Jerusalén donde Jesús morir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762120" y="-71280"/>
            <a:ext cx="8167680" cy="5508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Jesús y los apóstoles atraviesan Jeric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5 Imagen" descr="03GericoPanoramaBig.jpg"/>
          <p:cNvPicPr/>
          <p:nvPr/>
        </p:nvPicPr>
        <p:blipFill>
          <a:blip r:embed="rId2"/>
          <a:stretch/>
        </p:blipFill>
        <p:spPr>
          <a:xfrm>
            <a:off x="-4929120" y="571680"/>
            <a:ext cx="19734120" cy="5500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851 -0.00532 L -0.68559 0.00532 E">
                                      <p:cBhvr>
                                        <p:cTn id="28" dur="20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6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785880" y="714240"/>
            <a:ext cx="7572240" cy="49410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20,20-28 En aquel tiempo, se acercó a Jesús la madre de los Zebedeos con sus hijos y se postró para hacerle una petición.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715080" y="6072120"/>
            <a:ext cx="1428840" cy="5508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 Unicode MS"/>
              </a:rPr>
              <a:t>Jeric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6 Imagen" descr="rebecatwg.jpg"/>
          <p:cNvPicPr/>
          <p:nvPr/>
        </p:nvPicPr>
        <p:blipFill>
          <a:blip r:embed="rId2"/>
          <a:stretch/>
        </p:blipFill>
        <p:spPr>
          <a:xfrm>
            <a:off x="3359160" y="0"/>
            <a:ext cx="5784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214200" y="1143000"/>
            <a:ext cx="3643560" cy="37508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a madre protectora pide para su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jos un protagonismo visto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214200" y="5143680"/>
            <a:ext cx="35719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Ambicionáis la fa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533520" y="457200"/>
            <a:ext cx="8072280" cy="58546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 preguntó: "¿Qué deseas?" Ella contestó: "Ordena que estos dos hijos míos se sienten en tu reino, uno a tu derecha y el otro a tu izquierda."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 Imagen" descr="pescamiraclect.jpg"/>
          <p:cNvPicPr/>
          <p:nvPr/>
        </p:nvPicPr>
        <p:blipFill>
          <a:blip r:embed="rId2"/>
          <a:stretch/>
        </p:blipFill>
        <p:spPr>
          <a:xfrm>
            <a:off x="1357200" y="1504800"/>
            <a:ext cx="6332760" cy="3878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42920" y="71280"/>
            <a:ext cx="53578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sús quiere la muerte para dar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85880" y="5319720"/>
            <a:ext cx="82868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ravés de la madre, ellos quieren los honores perecede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33520" y="380880"/>
            <a:ext cx="8286480" cy="60361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Jesús replicó: "No sabéis lo que pedís. ¿Sois capaces de beber el cáliz que yo he de beber?"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 Imagen" descr="calze-patena-sXIIITarracoT.jpg"/>
          <p:cNvPicPr/>
          <p:nvPr/>
        </p:nvPicPr>
        <p:blipFill>
          <a:blip r:embed="rId2"/>
          <a:stretch/>
        </p:blipFill>
        <p:spPr>
          <a:xfrm>
            <a:off x="4429080" y="71280"/>
            <a:ext cx="4516560" cy="5072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428760" y="928800"/>
            <a:ext cx="3643200" cy="37508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sús habla de cálices amargos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 quieren trofeos de glor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14200" y="5000760"/>
            <a:ext cx="80726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Cuando Jaime sabe que lo primero es obedecer a Dios, Herodes lo hace matar </a:t>
            </a:r>
            <a:r>
              <a:rPr b="1" lang="ca-ES" sz="3600" spc="-1" strike="noStrike">
                <a:solidFill>
                  <a:srgbClr val="ff0000"/>
                </a:solidFill>
                <a:latin typeface="Arial"/>
              </a:rPr>
              <a:t>(1a lectur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228600" y="228600"/>
            <a:ext cx="8915400" cy="6188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testaron: "Lo somos." Él les dijo: "Mi cáliz lo beberéis; pero el puesto a mi derecha o a mi izquierda no me toca a mí concederlo, es para aquellos para quienes lo tiene reservado mi Padre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7-21T18:31:13Z</dcterms:modified>
  <cp:revision>714</cp:revision>
  <dc:subject/>
  <dc:title>evangeli</dc:title>
</cp:coreProperties>
</file>