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sound001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6EA1-9562-4E5B-9E14-0E3BC2978016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CB42-EE24-41D1-979A-4C2A2AE80AE7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6316-E0ED-4A82-977A-3F0A0253BB41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2C24-0FA2-453A-B8D2-A5098537AFC2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5133-79D7-481E-AA37-427DDCA4ACDC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E18C-69D2-47E0-A62B-63F9C637FF83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D12C-1CA5-4F7A-AA15-31CC729AB285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08DC-7994-4EAD-8510-38C2E9F8539C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B041-28A1-4658-BC3A-01B4DEAFBC80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5180-F0A0-4009-A0BE-1DB7AE819352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A7CB-886C-4CCE-A183-B663139E02ED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DAD8-7A52-45F4-A746-E8137F269230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577-B14D-4DD3-A30D-9ECE16CB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32A-FCF4-47E2-B7A7-5F28FE8C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623-50C3-40C2-AF13-89C50206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16C-28CA-467F-8A4C-DD522A25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46B-6573-4F1B-8E2E-28D12806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C40-75C1-47CA-AA88-658AF43A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AF9-123F-445A-8C90-2C95D11C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275-8C24-4E42-B516-AE5342C0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C13-9836-4CC3-912F-7A3D824B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BBA-B5E2-4E12-BBAD-37210A0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6FE-74E3-4995-BC5B-C2D27B8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6C7-E8BE-4F57-87E7-CCB44EC4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7C11-4952-45C0-B1F0-6B2E430790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31640" y="2421000"/>
            <a:ext cx="810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000" spc="-1" strike="noStrike">
                <a:solidFill>
                  <a:srgbClr val="000099"/>
                </a:solidFill>
                <a:latin typeface="Times New Roman"/>
              </a:rPr>
              <a:t>Los eternos 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000" spc="-1" strike="noStrike">
                <a:solidFill>
                  <a:srgbClr val="000099"/>
                </a:solidFill>
                <a:latin typeface="Times New Roman"/>
              </a:rPr>
              <a:t>normalmente infundados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6733080" y="58770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ecte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3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38088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0" spc="-1" strike="noStrike">
                <a:solidFill>
                  <a:srgbClr val="000099"/>
                </a:solidFill>
                <a:latin typeface="Times New Roman"/>
              </a:rPr>
              <a:t>¿Tienes aún algún reclamo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3962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99"/>
                </a:solidFill>
                <a:latin typeface="Times New Roman"/>
              </a:rPr>
              <a:t>¡Creo y espero que n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7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715000" y="-2700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imes New Roman"/>
              </a:rPr>
              <a:t>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imes New Roman"/>
              </a:rPr>
              <a:t>este mensaje para aprender a dar más valor a las personas, cosas y situaciones que son impuestas, no por ellas mismas, sino por</a:t>
            </a:r>
            <a:r>
              <a:rPr b="1" lang="pt-BR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pt-BR" sz="3200" spc="-1" strike="noStrike" u="sng">
                <a:solidFill>
                  <a:srgbClr val="990000"/>
                </a:solidFill>
                <a:uFillTx/>
                <a:latin typeface="Times New Roman"/>
              </a:rPr>
              <a:t>DIOS</a:t>
            </a:r>
            <a:r>
              <a:rPr b="1" lang="pt-BR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295280" y="2514600"/>
            <a:ext cx="6705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99"/>
                </a:solidFill>
                <a:latin typeface="Times New Roman"/>
              </a:rPr>
              <a:t>Recl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380880" y="152280"/>
            <a:ext cx="849816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Times New Roman"/>
              </a:rPr>
              <a:t>ANTIGUAMENTE TODO ERA ME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</a:t>
            </a: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El mundo hoy, va m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El gobierno sólo hace polític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Las autoridades son inoperante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La propia Iglesia se estancó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El carro no arranc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 promoción no sa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La señal aún está cerrad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 equipo perdi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Qué calor insoportab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 mujer, sólo reclam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s amigos desaparecieron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52578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0" spc="-1" strike="noStrike">
                <a:solidFill>
                  <a:srgbClr val="800080"/>
                </a:solidFill>
                <a:latin typeface="Times New Roman"/>
              </a:rPr>
              <a:t>¡Que vida, eh 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476280"/>
            <a:ext cx="856908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0099"/>
                </a:solidFill>
                <a:latin typeface="Times New Roman"/>
              </a:rPr>
              <a:t>ESOS NIÑOS QUE NO PARAN DE LLO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La ciudad es un asc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Mi jefe no me comprende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El taxi no aparece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Y esta fila que no avanza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Nadie reconoce mi trabaj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Los precios no paran de subir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Mi teléfono vive descompuest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1444680"/>
            <a:ext cx="9144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Times New Roman"/>
              </a:rPr>
              <a:t>Pero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Times New Roman"/>
              </a:rPr>
              <a:t>¿algú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Times New Roman"/>
              </a:rPr>
              <a:t>Reclamo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-7632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99"/>
                </a:solidFill>
                <a:latin typeface="Times New Roman"/>
              </a:rPr>
              <a:t>¿Y si yo hubiese nacido en cuna de or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7200" y="59364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mis papás fueran más inte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yo ganase una enorme cant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no existiese tanta gente confundiendo mi vi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yo consiguiese un diploma sin tener que estudi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Por qué la gente tiene tanta lucha y  tribulación, tanto dolor y sufrimento, transformando la vida en u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Valle de Lágrima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0" y="1676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000099"/>
                </a:solidFill>
                <a:latin typeface="Times New Roman"/>
              </a:rPr>
              <a:t>¿Difícil, está esto ahor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342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000099"/>
                </a:solidFill>
                <a:latin typeface="Times New Roman"/>
              </a:rPr>
              <a:t>Pero ahora preste mucha atención a esta situación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0" y="212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nació en un establ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0" y="80640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montó en un burric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0" y="137160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multiplicó los panes y peces en un cest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0" y="196524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utilizó un local para evangelizar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0" y="257508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promovió un milagro en un barc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0" y="31845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fué sepultado en un sepulcr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3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37180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000" spc="-1" strike="noStrike">
                <a:solidFill>
                  <a:srgbClr val="000099"/>
                </a:solidFill>
                <a:latin typeface="Times New Roman"/>
              </a:rPr>
              <a:t>Y Él nunca maldijo su condición de nada tener, nunca murmuró y jamás blasfemó 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28600" y="609480"/>
            <a:ext cx="868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0" spc="-1" strike="noStrike">
                <a:solidFill>
                  <a:srgbClr val="990000"/>
                </a:solidFill>
                <a:latin typeface="Times New Roman"/>
              </a:rPr>
              <a:t>Sólo la cruz era de Él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9:44:45Z</dcterms:created>
  <dc:creator>Marquez</dc:creator>
  <dc:description/>
  <dc:language>en-US</dc:language>
  <cp:lastModifiedBy>Andrea Carrillo</cp:lastModifiedBy>
  <dcterms:modified xsi:type="dcterms:W3CDTF">2008-11-24T14:41:57Z</dcterms:modified>
  <cp:revision>2</cp:revision>
  <dc:subject/>
  <dc:title>Diapositiva 1</dc:title>
</cp:coreProperties>
</file>