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sound001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4B8D-B1BD-4C44-9786-98E2BFD3DD69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0044-E97D-4975-9A67-057E13C95B76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85A9-CFAF-41B1-ACD1-006F86EF411D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112E-C53F-4C08-A54A-B6FDFABC23DB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1939-ED5E-491D-8C87-1CB9DC088DBA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1A77-B395-4F0B-9C11-4EAFE9C265AD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E6D4-B79B-4797-8279-21429DF74F8C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B365-DF45-4CCE-A34D-427C4CD6D84E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BBCF-9677-4029-AA6F-0E7C271D56CE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93C5-2F59-4C08-A7B7-D1E59065AA9A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06DD-6E9F-4330-919E-AAB98F045653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C7E-446E-4EAD-BE32-7242EA5AE6C4}" type="slidenum">
              <a:rPr b="0" lang="es-P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380-7C96-4B0B-9FB2-48BCD6BD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E98-7D7E-46CD-9D3C-820EBE8B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53A-FDE3-4705-9E82-29630476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429-3112-40D3-9D8A-02BE0D93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F29-7B19-49B2-81DE-D00DAF5C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509-290F-4D39-9987-289346FF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C29-F4CD-4A62-A3CD-0B3B17D9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ED0-5875-4757-B805-9F12D269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21B-1842-47D9-980D-C82B1E61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F87-2A3E-459A-ABBF-93D7778B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F52-940D-4602-B033-8B437421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E21-93A6-40F4-A705-88B9B01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AB53-0453-4F8D-9475-C958A6C0FF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audio" Target="../media/sound00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nuevodeplenitu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31640" y="2421000"/>
            <a:ext cx="8101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000" spc="-1" strike="noStrike">
                <a:solidFill>
                  <a:srgbClr val="000099"/>
                </a:solidFill>
                <a:latin typeface="Times New Roman"/>
              </a:rPr>
              <a:t>Los eternos 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000" spc="-1" strike="noStrike">
                <a:solidFill>
                  <a:srgbClr val="000099"/>
                </a:solidFill>
                <a:latin typeface="Times New Roman"/>
              </a:rPr>
              <a:t>normalmente infundados..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6733080" y="58770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ecte el 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3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38088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0" spc="-1" strike="noStrike">
                <a:solidFill>
                  <a:srgbClr val="000099"/>
                </a:solidFill>
                <a:latin typeface="Times New Roman"/>
              </a:rPr>
              <a:t>¿Tienes aún algún reclamo?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3962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000099"/>
                </a:solidFill>
                <a:latin typeface="Times New Roman"/>
              </a:rPr>
              <a:t>¡Creo y espero que n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7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715000" y="-27000"/>
            <a:ext cx="342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imes New Roman"/>
              </a:rPr>
              <a:t>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imes New Roman"/>
              </a:rPr>
              <a:t>este mensaje para aprender a dar más valor a las personas, cosas y situaciones que son impuestas, no por ellas mismas, sino por</a:t>
            </a:r>
            <a:r>
              <a:rPr b="1" lang="pt-BR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pt-BR" sz="3200" spc="-1" strike="noStrike" u="sng">
                <a:solidFill>
                  <a:srgbClr val="990000"/>
                </a:solidFill>
                <a:uFillTx/>
                <a:latin typeface="Times New Roman"/>
              </a:rPr>
              <a:t>DIOS</a:t>
            </a:r>
            <a:r>
              <a:rPr b="1" lang="pt-BR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1295280" y="2514600"/>
            <a:ext cx="6705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000099"/>
                </a:solidFill>
                <a:latin typeface="Times New Roman"/>
              </a:rPr>
              <a:t>Reclam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380880" y="152280"/>
            <a:ext cx="849816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99"/>
                </a:solidFill>
                <a:latin typeface="Times New Roman"/>
              </a:rPr>
              <a:t>ANTIGUAMENTE TODO ERA ME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</a:t>
            </a: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El mundo hoy, va m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El gobierno sólo hace polític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Las autoridades son inoperante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La propia Iglesia se estancó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El carro no arranca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Mi promoción no sal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La señal aún está cerrad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Mi equipo perdid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Qué calor insoportabl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Mi mujer, sólo reclam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Mis amigos desaparecieron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52578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0" spc="-1" strike="noStrike">
                <a:solidFill>
                  <a:srgbClr val="800080"/>
                </a:solidFill>
                <a:latin typeface="Times New Roman"/>
              </a:rPr>
              <a:t>¡Que vida, eh !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0920" y="476280"/>
            <a:ext cx="856908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000099"/>
                </a:solidFill>
                <a:latin typeface="Times New Roman"/>
              </a:rPr>
              <a:t>ESOS NIÑOS QUE NO PARAN DE LLO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La ciudad es un asc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Mi jefe no me comprende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El taxi no aparece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Y esta fila que no avanza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Nadie reconoce mi trabaj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Los precios no paran de subir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99"/>
                </a:solidFill>
                <a:latin typeface="Times New Roman"/>
              </a:rPr>
              <a:t>Mi teléfono vive descompuest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1444680"/>
            <a:ext cx="9144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600" spc="-1" strike="noStrike">
                <a:solidFill>
                  <a:srgbClr val="000099"/>
                </a:solidFill>
                <a:latin typeface="Times New Roman"/>
              </a:rPr>
              <a:t>Pero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600" spc="-1" strike="noStrike">
                <a:solidFill>
                  <a:srgbClr val="000099"/>
                </a:solidFill>
                <a:latin typeface="Times New Roman"/>
              </a:rPr>
              <a:t>¿algú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600" spc="-1" strike="noStrike">
                <a:solidFill>
                  <a:srgbClr val="000099"/>
                </a:solidFill>
                <a:latin typeface="Times New Roman"/>
              </a:rPr>
              <a:t>Reclamo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-7632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99"/>
                </a:solidFill>
                <a:latin typeface="Times New Roman"/>
              </a:rPr>
              <a:t>¿Y si yo hubiese nacido en cuna de or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7200" y="59364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Y si mis papás fueran más inte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Y si yo ganase una enorme cant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Y si no existiese tanta gente confundiendo mi vi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Y si yo consiguiese un diploma sin tener que estudi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¿Por qué la gente tiene tanta lucha y  tribulación, tanto dolor y sufrimento, transformando la vida en u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i="1" lang="pt-BR" sz="2800" spc="-1" strike="noStrike">
                <a:solidFill>
                  <a:srgbClr val="000099"/>
                </a:solidFill>
                <a:latin typeface="Times New Roman"/>
              </a:rPr>
              <a:t>Valle de Lágrimas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4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0" y="1676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000" spc="-1" strike="noStrike">
                <a:solidFill>
                  <a:srgbClr val="000099"/>
                </a:solidFill>
                <a:latin typeface="Times New Roman"/>
              </a:rPr>
              <a:t>¿Difícil, está esto ahor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342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000" spc="-1" strike="noStrike">
                <a:solidFill>
                  <a:srgbClr val="000099"/>
                </a:solidFill>
                <a:latin typeface="Times New Roman"/>
              </a:rPr>
              <a:t>Pero ahora preste mucha atención a esta situación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0" y="2127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nació en un establ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0" y="455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imes New Roman"/>
              </a:rPr>
              <a:t>PRESTADO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0" y="80640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montó en un burric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0" y="137160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multiplicó los panes y peces en un cest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0" y="196524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utilizó un local para evangelizar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0" y="257508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promovió un milagro en un barc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0" y="31845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000099"/>
                </a:solidFill>
                <a:latin typeface="Times New Roman"/>
              </a:rPr>
              <a:t>Jesús fué sepultado en un sepulcro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3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37180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000" spc="-1" strike="noStrike">
                <a:solidFill>
                  <a:srgbClr val="000099"/>
                </a:solidFill>
                <a:latin typeface="Times New Roman"/>
              </a:rPr>
              <a:t>Y Él nunca maldijo su condición de nada tener, nunca murmuró y jamás blasfemó 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28600" y="609480"/>
            <a:ext cx="8686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7000" spc="-1" strike="noStrike">
                <a:solidFill>
                  <a:srgbClr val="990000"/>
                </a:solidFill>
                <a:latin typeface="Times New Roman"/>
              </a:rPr>
              <a:t>Sólo la cruz era de Él!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281040" y="6550200"/>
            <a:ext cx="29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ita:  www.RenuevoDePlenitu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9:44:45Z</dcterms:created>
  <dc:creator>Marquez</dc:creator>
  <dc:description/>
  <dc:language>en-US</dc:language>
  <cp:lastModifiedBy>Andrea Carrillo</cp:lastModifiedBy>
  <dcterms:modified xsi:type="dcterms:W3CDTF">2008-11-24T14:41:57Z</dcterms:modified>
  <cp:revision>2</cp:revision>
  <dc:subject/>
  <dc:title>Diapositiva 1</dc:title>
</cp:coreProperties>
</file>