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gif" ContentType="image/gif"/>
  <Override PartName="/ppt/media/image10.jpeg" ContentType="image/jpeg"/>
  <Override PartName="/ppt/media/image7.gif" ContentType="image/gif"/>
  <Override PartName="/ppt/media/Ernesto%20Cortazar%20-%20leaves_in_the_wind.wav" ContentType="audio/x-wav"/>
  <Override PartName="/ppt/media/image8.jpeg" ContentType="image/jpeg"/>
  <Override PartName="/ppt/media/image11.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8D33-2370-4AD2-A64F-261B57C36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3536-D42F-459F-B228-740C297F5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3C5A1-144A-4655-8359-4F8796417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CD46-E42D-4B94-BB9A-5592E755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D70E5-C931-4EA3-9EBD-C172998BF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0E901-CA91-4432-AA69-2756CF77B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D4F08-B37E-454C-A48E-21312D339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7AAE-F161-49CF-B51E-ED1EB221D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DC7A7-60CA-4242-824A-AAFF5F547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7281A-27BF-4AAD-98AA-329DF8767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17468-9CFE-4E36-A090-503FB6D29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5AD41-17BC-4987-9DCF-1275BD021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8FC44-CADD-4788-A685-2430CFC21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7BBD4-B0CE-4E92-AEFA-4AF7E423F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76D7D-AD59-4F1C-AE4B-183D792D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1FD3E-1E10-44B1-94E4-F8F27509D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35F9-E43A-419B-B489-6EBC5AE65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1F062-7638-4858-B2C2-5C00837B5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3A767-26FB-400B-AD07-8127D9591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E0A832-9ECA-433F-9109-218D82B97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2733C-250D-4845-AFA4-C6B33C75D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A98E7-862B-45A1-BFF9-6189535D1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FD5F5-3AB3-4642-91D1-430EDDC83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1A4A8-3425-4162-A531-74BCFE6F1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59253-93D2-4B99-812C-E4DE3DDD7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42656-89E0-4D51-896D-AD4740D5B9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EE2C8-0EC4-42D1-A815-FD845EE89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8EE2D-AFC4-4F12-B3BA-3BD29C051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48B19-9FA0-4ACB-9CFE-6E47EC504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3A1B6-E168-4AF4-9B46-2F003E885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85401-DE55-4907-AE3D-4F0041890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812C0E-2003-4D96-8C4A-F61885D20B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091288-55F1-4DC8-A5D2-68EC1471F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40121-9D3F-4A85-AB8A-E364F5F9F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84A5B-3B21-44C3-97BE-F20BBAA5B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99762-0635-4188-864B-D1FC93E95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0F687A-57A1-401D-9C9E-406D44C18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6B012-9A92-4D67-9997-83CCF57CB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D7A7C-8DAE-40A8-9709-3511A7A98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48212-DD94-4E12-92A2-1F200B256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B1170-4C1F-4432-AAED-F5B0054CA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E212F-8F66-46D2-BC9C-8E617834C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8A56E-BB35-48DF-A478-CC8F1A55E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56821B-0C95-4AC4-A414-040F8E55F4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F71E96-12AC-478B-BFA4-FC25427785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4D2E1E-8432-444A-BE6E-E9F74D93E0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C2C7-1747-409A-AA24-464D0027D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BDB3F-8977-4C15-A45A-FCB333962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D5DE8-8784-43FE-B9D2-C2792FC5B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CF35E-CBD2-4192-81E4-9488D447C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FB7FE-9DC7-4C9E-82A5-46F51CEEDF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07452-6244-4C4E-AA82-03F97A34F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6BFA0-6B66-4DE9-B9D0-2B1402E45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D90E8-A011-41F3-8C0B-8C4DE6219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1C13F-F7D2-402D-A4F8-7A31D40A6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1A6DA-662E-4C82-BB5D-D4E4FD93C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A89D00-7EC5-45A5-ACB8-B469C3398F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3647-CE23-41B7-8D28-2992AF527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51675-62B3-4DAA-9E46-F41C49EF3D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2F2E-90CB-488B-A379-D7E5AFFD3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445AE-4C11-4FAF-BC9E-3761C02D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78258-3922-464D-9F08-A8B84EF33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62E7-ACD9-497E-821E-2D8D095D654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6D7F-923F-4542-87FB-D09986628F2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07BD-DF0E-4CEE-B783-6ED56F30ECE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B0E5-A217-485C-B586-8C6F423DEFF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FE1B-7DFC-4DB5-9002-BB2ED88EA1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audio" Target="../media/Ernesto%20Cortazar%20-%20leaves_in_the_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Text Box 4"/>
          <p:cNvSpPr/>
          <p:nvPr/>
        </p:nvSpPr>
        <p:spPr>
          <a:xfrm>
            <a:off x="611280" y="1125360"/>
            <a:ext cx="800100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6600" spc="-1" strike="noStrike">
                <a:solidFill>
                  <a:srgbClr val="000000"/>
                </a:solidFill>
                <a:latin typeface="Comic Sans MS"/>
              </a:rPr>
              <a:t>“</a:t>
            </a:r>
            <a:r>
              <a:rPr b="1" lang="es-SV" sz="6600" spc="-1" strike="noStrike">
                <a:solidFill>
                  <a:srgbClr val="000000"/>
                </a:solidFill>
                <a:latin typeface="Jokerman"/>
              </a:rPr>
              <a:t>La Muerte              y el Ajedrez        por la vida…</a:t>
            </a:r>
            <a:r>
              <a:rPr b="1" lang="es-SV" sz="9600" spc="-1" strike="noStrike">
                <a:solidFill>
                  <a:srgbClr val="000000"/>
                </a:solidFill>
                <a:latin typeface="Comic Sans MS"/>
              </a:rPr>
              <a:t>”</a:t>
            </a:r>
            <a:endParaRPr b="0" lang="en-US" sz="9600" spc="-1" strike="noStrike">
              <a:solidFill>
                <a:srgbClr val="000000"/>
              </a:solidFill>
              <a:latin typeface="Arial"/>
            </a:endParaRPr>
          </a:p>
        </p:txBody>
      </p:sp>
      <p:pic>
        <p:nvPicPr>
          <p:cNvPr id="253" name="" descr=""/>
          <p:cNvPicPr/>
          <p:nvPr/>
        </p:nvPicPr>
        <p:blipFill>
          <a:blip r:embed="rId2"/>
          <a:stretch/>
        </p:blipFill>
        <p:spPr>
          <a:xfrm>
            <a:off x="3924360" y="4797360"/>
            <a:ext cx="790560" cy="1190520"/>
          </a:xfrm>
          <a:prstGeom prst="rect">
            <a:avLst/>
          </a:prstGeom>
          <a:ln w="0">
            <a:noFill/>
          </a:ln>
        </p:spPr>
      </p:pic>
      <p:pic>
        <p:nvPicPr>
          <p:cNvPr id="254" name="" descr=""/>
          <p:cNvPicPr/>
          <p:nvPr/>
        </p:nvPicPr>
        <p:blipFill>
          <a:blip r:embed="rId3"/>
          <a:stretch/>
        </p:blipFill>
        <p:spPr>
          <a:xfrm>
            <a:off x="7093080" y="5516640"/>
            <a:ext cx="1190520" cy="761760"/>
          </a:xfrm>
          <a:prstGeom prst="rect">
            <a:avLst/>
          </a:prstGeom>
          <a:ln w="0">
            <a:noFill/>
          </a:ln>
        </p:spPr>
      </p:pic>
      <p:sp>
        <p:nvSpPr>
          <p:cNvPr id="255" name=""/>
          <p:cNvSpPr/>
          <p:nvPr/>
        </p:nvSpPr>
        <p:spPr>
          <a:xfrm>
            <a:off x="3132000" y="60213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   </a:t>
            </a:r>
            <a:r>
              <a:rPr b="1" lang="es-PE" sz="2800" spc="-1" strike="noStrike">
                <a:solidFill>
                  <a:srgbClr val="000000"/>
                </a:solidFill>
                <a:latin typeface="Arial"/>
              </a:rPr>
              <a:t>((AUDIO))</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Picture 6" descr="chess4"/>
          <p:cNvPicPr/>
          <p:nvPr/>
        </p:nvPicPr>
        <p:blipFill>
          <a:blip r:embed="rId2"/>
          <a:stretch/>
        </p:blipFill>
        <p:spPr>
          <a:xfrm>
            <a:off x="0" y="0"/>
            <a:ext cx="9144000" cy="6858000"/>
          </a:xfrm>
          <a:prstGeom prst="rect">
            <a:avLst/>
          </a:prstGeom>
          <a:ln w="0">
            <a:noFill/>
          </a:ln>
        </p:spPr>
      </p:pic>
      <p:sp>
        <p:nvSpPr>
          <p:cNvPr id="269" name="Rectangle 9"/>
          <p:cNvSpPr/>
          <p:nvPr/>
        </p:nvSpPr>
        <p:spPr>
          <a:xfrm>
            <a:off x="152280" y="228600"/>
            <a:ext cx="8991720" cy="60199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El juego se inició. Daniel no se calmaba aunque comenzó ganando, consiguió un alfil y un caballo. Pero era obvio que eso no lo alegrab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d9d9d9"/>
                </a:solidFill>
                <a:latin typeface="Arial"/>
              </a:rPr>
              <a:t>La Muerte le preguntó </a:t>
            </a:r>
            <a:r>
              <a:rPr b="1" i="1" lang="es-SV" sz="3600" spc="-1" strike="noStrike">
                <a:solidFill>
                  <a:srgbClr val="d9d9d9"/>
                </a:solidFill>
                <a:latin typeface="Times New Roman"/>
              </a:rPr>
              <a:t>¿A qué te dedicabas en vida?</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oy … es decir, </a:t>
            </a:r>
            <a:r>
              <a:rPr b="0" i="1" lang="es-SV" sz="3600" spc="-1" strike="noStrike" u="sng">
                <a:solidFill>
                  <a:srgbClr val="cc9900"/>
                </a:solidFill>
                <a:uFillTx/>
                <a:latin typeface="Arial"/>
              </a:rPr>
              <a:t>era</a:t>
            </a:r>
            <a:r>
              <a:rPr b="0" lang="es-SV" sz="3600" spc="-1" strike="noStrike">
                <a:solidFill>
                  <a:srgbClr val="cc9900"/>
                </a:solidFill>
                <a:latin typeface="Arial"/>
              </a:rPr>
              <a:t>, un simple empleado en una fábrica de calzado.</a:t>
            </a:r>
            <a:endParaRPr b="0" lang="en-US" sz="3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br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No, trabajaba en la administración</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69"/>
                                        </p:tgtEl>
                                        <p:attrNameLst>
                                          <p:attrName>style.visibility</p:attrName>
                                        </p:attrNameLst>
                                      </p:cBhvr>
                                      <p:to>
                                        <p:strVal val="visible"/>
                                      </p:to>
                                    </p:set>
                                    <p:animEffect filter="fade" transition="in">
                                      <p:cBhvr additive="repl">
                                        <p:cTn id="35" dur="5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Picture 6" descr="chess3"/>
          <p:cNvPicPr/>
          <p:nvPr/>
        </p:nvPicPr>
        <p:blipFill>
          <a:blip r:embed="rId2"/>
          <a:stretch/>
        </p:blipFill>
        <p:spPr>
          <a:xfrm>
            <a:off x="0" y="3240"/>
            <a:ext cx="9144000" cy="6854760"/>
          </a:xfrm>
          <a:prstGeom prst="rect">
            <a:avLst/>
          </a:prstGeom>
          <a:ln w="0">
            <a:noFill/>
          </a:ln>
        </p:spPr>
      </p:pic>
      <p:sp>
        <p:nvSpPr>
          <p:cNvPr id="271" name="Rectangle 7"/>
          <p:cNvSpPr/>
          <p:nvPr/>
        </p:nvSpPr>
        <p:spPr>
          <a:xfrm>
            <a:off x="228600" y="380880"/>
            <a:ext cx="8610480" cy="6248520"/>
          </a:xfrm>
          <a:prstGeom prst="rect">
            <a:avLst/>
          </a:prstGeom>
          <a:solidFill>
            <a:srgbClr val="009dd9">
              <a:alpha val="51000"/>
            </a:srgbClr>
          </a:solid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Ah … Supongo que te encargabas de ver si faltaba algún producto,</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o dinero.</a:t>
            </a:r>
            <a:br>
              <a:rPr sz="3600"/>
            </a:b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Sí, en parte así era.</a:t>
            </a:r>
            <a:r>
              <a:rPr b="0" lang="es-SV"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Hay algo que no entiendo …</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é es lo que no entiendes</a:t>
            </a:r>
            <a:r>
              <a:rPr b="1" lang="es-SV" sz="3600" spc="-1" strike="noStrike">
                <a:solidFill>
                  <a:srgbClr val="cc99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71"/>
                                        </p:tgtEl>
                                        <p:attrNameLst>
                                          <p:attrName>style.visibility</p:attrName>
                                        </p:attrNameLst>
                                      </p:cBhvr>
                                      <p:to>
                                        <p:strVal val="visible"/>
                                      </p:to>
                                    </p:set>
                                    <p:animEffect filter="fade" transition="in">
                                      <p:cBhvr additive="repl">
                                        <p:cTn id="42" dur="5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2" name="Picture 6" descr="chess3"/>
          <p:cNvPicPr/>
          <p:nvPr/>
        </p:nvPicPr>
        <p:blipFill>
          <a:blip r:embed="rId2"/>
          <a:stretch/>
        </p:blipFill>
        <p:spPr>
          <a:xfrm>
            <a:off x="0" y="3240"/>
            <a:ext cx="9144000" cy="6854760"/>
          </a:xfrm>
          <a:prstGeom prst="rect">
            <a:avLst/>
          </a:prstGeom>
          <a:ln w="0">
            <a:noFill/>
          </a:ln>
        </p:spPr>
      </p:pic>
      <p:sp>
        <p:nvSpPr>
          <p:cNvPr id="273" name="Text Box 7"/>
          <p:cNvSpPr/>
          <p:nvPr/>
        </p:nvSpPr>
        <p:spPr>
          <a:xfrm>
            <a:off x="250920" y="620640"/>
            <a:ext cx="861048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Por qué ustedes teniendo tantas </a:t>
            </a:r>
            <a:r>
              <a:rPr b="1" i="1" lang="es-SV" sz="4000" spc="-1" strike="noStrike">
                <a:solidFill>
                  <a:srgbClr val="85dfd0"/>
                </a:solidFill>
                <a:latin typeface="Times New Roman"/>
              </a:rPr>
              <a:t>cosa</a:t>
            </a:r>
            <a:r>
              <a:rPr b="1" i="1" lang="es-SV" sz="3600" spc="-1" strike="noStrike">
                <a:solidFill>
                  <a:srgbClr val="85dfd0"/>
                </a:solidFill>
                <a:latin typeface="Times New Roman"/>
              </a:rPr>
              <a:t>s </a:t>
            </a:r>
            <a:r>
              <a:rPr b="1" i="1" lang="es-SV" sz="3600" spc="-1" strike="noStrike">
                <a:solidFill>
                  <a:srgbClr val="0f6fc6"/>
                </a:solidFill>
                <a:latin typeface="Times New Roman"/>
              </a:rPr>
              <a:t>buen</a:t>
            </a:r>
            <a:r>
              <a:rPr b="1" i="1" lang="es-SV" sz="3600" spc="-1" strike="noStrike">
                <a:solidFill>
                  <a:srgbClr val="85dfd0"/>
                </a:solidFill>
                <a:latin typeface="Times New Roman"/>
              </a:rPr>
              <a:t>as po</a:t>
            </a:r>
            <a:r>
              <a:rPr b="1" i="1" lang="es-SV" sz="3600" spc="-1" strike="noStrike">
                <a:solidFill>
                  <a:srgbClr val="0f6fc6"/>
                </a:solidFill>
                <a:latin typeface="Times New Roman"/>
              </a:rPr>
              <a:t>r</a:t>
            </a:r>
            <a:r>
              <a:rPr b="1" i="1" lang="es-SV" sz="3600" spc="-1" strike="noStrike">
                <a:solidFill>
                  <a:srgbClr val="85dfd0"/>
                </a:solidFill>
                <a:latin typeface="Times New Roman"/>
              </a:rPr>
              <a:t> </a:t>
            </a:r>
            <a:r>
              <a:rPr b="1" i="1" lang="es-SV" sz="3600" spc="-1" strike="noStrike">
                <a:solidFill>
                  <a:srgbClr val="009dd9"/>
                </a:solidFill>
                <a:latin typeface="Times New Roman"/>
              </a:rPr>
              <a:t>h</a:t>
            </a:r>
            <a:r>
              <a:rPr b="1" i="1" lang="es-SV" sz="3600" spc="-1" strike="noStrike">
                <a:solidFill>
                  <a:srgbClr val="85dfd0"/>
                </a:solidFill>
                <a:latin typeface="Times New Roman"/>
              </a:rPr>
              <a:t>acer, se encierran en el trabajo, se olvidan de los sentimientos, no les importan los demás, se vuelven egoístas y violentos, pero cuando los visito yo, demuestran ternura, humildad, tristeza, miedo, e incluso lloran? ¿Por qué esperan a que llegue yo, si ya nada podrán hac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No lo sé respondió Dani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4920" y="304920"/>
            <a:ext cx="8610480" cy="6400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969696"/>
                </a:solidFill>
                <a:latin typeface="Constantia"/>
              </a:rPr>
              <a:t>En cambio, yo soy un simple “peón”, haciendo lo que debo hacer y nada más. Mientras ustedes son dueños de su propia vida, capaces de decidir qué harán con ella ¿y para qué? si su decisión más común es desperdiciarla viviendo sin manifestar cariño y amor… </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Te creí más cruel, comentó Daniel.</a:t>
            </a:r>
            <a:br>
              <a:rPr sz="3200"/>
            </a:br>
            <a:r>
              <a:rPr b="0" i="1" lang="es-SV" sz="3200" spc="-1" strike="noStrike">
                <a:solidFill>
                  <a:srgbClr val="85dfd0"/>
                </a:solidFill>
                <a:latin typeface="Constantia"/>
              </a:rPr>
              <a:t> </a:t>
            </a:r>
            <a:r>
              <a:rPr b="0" i="1" lang="es-SV" sz="3200" spc="-1" strike="noStrike">
                <a:solidFill>
                  <a:srgbClr val="7f7f7f"/>
                </a:solidFill>
                <a:latin typeface="Constantia"/>
              </a:rPr>
              <a:t>¡Nada es lo que parece!</a:t>
            </a:r>
            <a:br>
              <a:rPr sz="3200"/>
            </a:br>
            <a:endParaRPr b="0" lang="en-US" sz="32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El silencio reinó por unos instantes mientras Daniel ponía </a:t>
            </a:r>
            <a:r>
              <a:rPr b="0" i="1" lang="es-SV" sz="3200" spc="-1" strike="noStrike" u="sng">
                <a:solidFill>
                  <a:srgbClr val="000000"/>
                </a:solidFill>
                <a:uFillTx/>
                <a:latin typeface="Constantia"/>
              </a:rPr>
              <a:t>en jaque</a:t>
            </a:r>
            <a:r>
              <a:rPr b="0" lang="es-SV" sz="3200" spc="-1" strike="noStrike">
                <a:solidFill>
                  <a:srgbClr val="000000"/>
                </a:solidFill>
                <a:latin typeface="Constantia"/>
              </a:rPr>
              <a:t> a la muert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4"/>
          <p:cNvSpPr/>
          <p:nvPr/>
        </p:nvSpPr>
        <p:spPr>
          <a:xfrm>
            <a:off x="152280" y="0"/>
            <a:ext cx="8991720" cy="6629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600" spc="-1" strike="noStrike">
                <a:solidFill>
                  <a:srgbClr val="7f7f7f"/>
                </a:solidFill>
                <a:latin typeface="Times New Roman"/>
              </a:rPr>
              <a:t>Dime … ¿qué pensabas cuando te casaste?</a:t>
            </a:r>
            <a:r>
              <a:rPr b="0" lang="es-SV" sz="3200" spc="-1" strike="noStrike">
                <a:solidFill>
                  <a:srgbClr val="7f7f7f"/>
                </a:solidFill>
                <a:latin typeface="Times New Roman"/>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ensaba en ser feliz, en formar una linda familia, en formar parte de la alta sociedad.</a:t>
            </a:r>
            <a:br>
              <a:rPr sz="3200"/>
            </a:br>
            <a:r>
              <a:rPr b="0" i="1" lang="es-SV" sz="3600" spc="-1" strike="noStrike">
                <a:solidFill>
                  <a:srgbClr val="777777"/>
                </a:solidFill>
                <a:latin typeface="Times New Roman"/>
              </a:rPr>
              <a:t>¿Y lo lograste?</a:t>
            </a:r>
            <a:br>
              <a:rPr sz="3600"/>
            </a:br>
            <a:r>
              <a:rPr b="0" lang="es-SV" sz="3200" spc="-1" strike="noStrike">
                <a:solidFill>
                  <a:srgbClr val="cc9900"/>
                </a:solidFill>
                <a:latin typeface="Arial"/>
              </a:rPr>
              <a:t>Es broma ¿verdad? Me encontraste solo en la cocina, durante la madrugada, y te pedí despedirme de mi hija. Es obvio que no lo hice. Si hubiese mostrado más amor a mi familia, la solicitud de despedirme no hubiera sido neces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2"/>
          <p:cNvSpPr/>
          <p:nvPr/>
        </p:nvSpPr>
        <p:spPr>
          <a:xfrm>
            <a:off x="611280" y="1700280"/>
            <a:ext cx="8686800" cy="29516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7f7f7f"/>
                </a:solidFill>
                <a:latin typeface="Arial"/>
              </a:rPr>
              <a:t>Ya las lágrimas se habían secado del rostro de Daniel y de pronto exclamó suavemente </a:t>
            </a:r>
            <a:r>
              <a:rPr b="0" lang="es-SV" sz="3600" spc="-1" strike="noStrike">
                <a:solidFill>
                  <a:srgbClr val="7f7f7f"/>
                </a:solidFill>
                <a:latin typeface="Arial"/>
              </a:rPr>
              <a:t>¡Jaque Mate!</a:t>
            </a:r>
            <a:br>
              <a:rPr sz="3600"/>
            </a:b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Arial"/>
              </a:rPr>
              <a:t>La muerte sonrió y dijo: </a:t>
            </a:r>
            <a:r>
              <a:rPr b="1" i="1" lang="es-SV" sz="3600" spc="-1" strike="noStrike">
                <a:solidFill>
                  <a:srgbClr val="7f7f7f"/>
                </a:solidFill>
                <a:latin typeface="Arial"/>
              </a:rPr>
              <a:t>¡Felic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52280" y="304920"/>
            <a:ext cx="8839440" cy="6248160"/>
          </a:xfrm>
          <a:prstGeom prst="rect">
            <a:avLst/>
          </a:prstGeom>
          <a:noFill/>
          <a:ln w="0">
            <a:noFill/>
          </a:ln>
        </p:spPr>
        <p:txBody>
          <a:bodyPr anchor="t">
            <a:normAutofit fontScale="8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suspiró y respondió: </a:t>
            </a:r>
            <a:r>
              <a:rPr b="0" lang="es-SV" sz="3600" spc="-1" strike="noStrike">
                <a:solidFill>
                  <a:srgbClr val="cc9900"/>
                </a:solidFill>
                <a:latin typeface="Constantia"/>
              </a:rPr>
              <a:t>Es una pena que no sirva de nada. No me importaba ganar, de todos modos ya estoy aquí … </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Constantia"/>
              </a:rPr>
              <a:t>Un simple juego de ajedrez no aleja mi mente de mi familia, mis hijos, mi esposa...</a:t>
            </a:r>
            <a:r>
              <a:rPr b="0" lang="es-SV" sz="3600" spc="-1" strike="noStrike">
                <a:solidFill>
                  <a:srgbClr val="000000"/>
                </a:solidFill>
                <a:latin typeface="Constantia"/>
              </a:rPr>
              <a:t> </a:t>
            </a:r>
            <a:endParaRPr b="0" lang="en-US" sz="3600" spc="-1" strike="noStrike">
              <a:solidFill>
                <a:srgbClr val="000000"/>
              </a:solidFill>
              <a:latin typeface="Constantia"/>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Las lágrimas brotaron de nuevo en el rostro de Daniel y se lo cubrió con ambas manos.</a:t>
            </a:r>
            <a:endParaRPr b="0" lang="en-US" sz="36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Mientras él sollozaba, la Muerte exclamó:</a:t>
            </a:r>
            <a:br>
              <a:rPr sz="3600"/>
            </a:br>
            <a:r>
              <a:rPr b="0" lang="es-SV" sz="3600" spc="-1" strike="noStrike">
                <a:solidFill>
                  <a:srgbClr val="000000"/>
                </a:solidFill>
                <a:latin typeface="Constantia"/>
              </a:rPr>
              <a:t>	</a:t>
            </a:r>
            <a:r>
              <a:rPr b="0" lang="es-SV" sz="3600" spc="-1" strike="noStrike">
                <a:solidFill>
                  <a:srgbClr val="000000"/>
                </a:solidFill>
                <a:latin typeface="Constantia"/>
              </a:rPr>
              <a:t>	</a:t>
            </a:r>
            <a:r>
              <a:rPr b="0" lang="es-SV" sz="3600" spc="-1" strike="noStrike">
                <a:solidFill>
                  <a:srgbClr val="000000"/>
                </a:solidFill>
                <a:latin typeface="Constantia"/>
              </a:rPr>
              <a:t>	</a:t>
            </a:r>
            <a:r>
              <a:rPr b="1" i="1" lang="es-SV" sz="3600" spc="-1" strike="noStrike">
                <a:solidFill>
                  <a:srgbClr val="7f7f7f"/>
                </a:solidFill>
                <a:latin typeface="Constantia"/>
              </a:rPr>
              <a:t>¡llegamos!</a:t>
            </a:r>
            <a:endParaRPr b="0" lang="en-US" sz="3600" spc="-1" strike="noStrike">
              <a:solidFill>
                <a:srgbClr val="000000"/>
              </a:solidFill>
              <a:latin typeface="Constantia"/>
            </a:endParaRPr>
          </a:p>
        </p:txBody>
      </p:sp>
      <p:sp>
        <p:nvSpPr>
          <p:cNvPr id="278" name="Rectangle 3"/>
          <p:cNvSpPr/>
          <p:nvPr/>
        </p:nvSpPr>
        <p:spPr>
          <a:xfrm>
            <a:off x="533520" y="5181480"/>
            <a:ext cx="518148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520" y="0"/>
            <a:ext cx="8229600" cy="4038480"/>
          </a:xfrm>
          <a:prstGeom prst="rect">
            <a:avLst/>
          </a:prstGeom>
          <a:noFill/>
          <a:ln w="0">
            <a:noFill/>
          </a:ln>
        </p:spPr>
        <p:txBody>
          <a:bodyPr anchor="t">
            <a:normAutofit fontScale="98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Daniel intentó calmarse, pero al abrir los ojos estaba de nuevo en su viejo sillón.</a:t>
            </a:r>
            <a:endParaRPr b="0" lang="en-US" sz="3600" spc="-1" strike="noStrike">
              <a:solidFill>
                <a:srgbClr val="000000"/>
              </a:solidFill>
              <a:latin typeface="Constant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000000"/>
                </a:solidFill>
                <a:latin typeface="Constantia"/>
              </a:rPr>
              <a:t>Eran las 6:45 de la mañana, y en lugar de gritar </a:t>
            </a:r>
            <a:r>
              <a:rPr b="1" lang="es-SV" sz="3200" spc="-1" strike="noStrike">
                <a:solidFill>
                  <a:srgbClr val="777777"/>
                </a:solidFill>
                <a:latin typeface="Times New Roman"/>
              </a:rPr>
              <a:t>¡ESTOY VIVO!</a:t>
            </a:r>
            <a:r>
              <a:rPr b="0" lang="es-SV" sz="3600" spc="-1" strike="noStrike">
                <a:solidFill>
                  <a:srgbClr val="000000"/>
                </a:solidFill>
                <a:latin typeface="Constantia"/>
              </a:rPr>
              <a:t> Como lo haría cualquier otro, salió al patio y dijo con voz tenue: </a:t>
            </a:r>
            <a:r>
              <a:rPr b="1" lang="es-SV" sz="3200" spc="-1" strike="noStrike">
                <a:solidFill>
                  <a:srgbClr val="cc9900"/>
                </a:solidFill>
                <a:latin typeface="Constantia"/>
              </a:rPr>
              <a:t>GRACIAS, DIOS MÍO …</a:t>
            </a:r>
            <a:endParaRPr b="0" lang="en-US" sz="3200" spc="-1" strike="noStrike">
              <a:solidFill>
                <a:srgbClr val="000000"/>
              </a:solidFill>
              <a:latin typeface="Constantia"/>
            </a:endParaRPr>
          </a:p>
        </p:txBody>
      </p:sp>
      <p:pic>
        <p:nvPicPr>
          <p:cNvPr id="280" name="Picture 7" descr="86119-Sunrise-0"/>
          <p:cNvPicPr/>
          <p:nvPr/>
        </p:nvPicPr>
        <p:blipFill>
          <a:blip r:embed="rId2"/>
          <a:stretch/>
        </p:blipFill>
        <p:spPr>
          <a:xfrm>
            <a:off x="380880" y="3733920"/>
            <a:ext cx="8382240" cy="2904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80"/>
                                        </p:tgtEl>
                                        <p:attrNameLst>
                                          <p:attrName>style.visibility</p:attrName>
                                        </p:attrNameLst>
                                      </p:cBhvr>
                                      <p:to>
                                        <p:strVal val="visible"/>
                                      </p:to>
                                    </p:set>
                                    <p:animEffect filter="fade" transition="in">
                                      <p:cBhvr additive="repl">
                                        <p:cTn id="56" dur="5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066320"/>
            <a:ext cx="8686800" cy="5334120"/>
          </a:xfrm>
          <a:prstGeom prst="rect">
            <a:avLst/>
          </a:prstGeom>
          <a:noFill/>
          <a:ln w="0">
            <a:noFill/>
          </a:ln>
        </p:spPr>
        <p:txBody>
          <a:bodyPr anchor="t">
            <a:normAutofit/>
          </a:bodyPr>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Luego, entró a la habitación de su hija y la besó, a la de su esposa e hizo lo mism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Entró al cuarto donde dormía su hijo mayor, le hizo cosquillas en los pies, y le dijo: </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hijo, despierta ¡es domingo!</a:t>
            </a:r>
            <a:br>
              <a:rPr sz="3200"/>
            </a:br>
            <a:r>
              <a:rPr b="0" lang="es-SV" sz="3200" spc="-1" strike="noStrike">
                <a:solidFill>
                  <a:srgbClr val="000000"/>
                </a:solidFill>
                <a:latin typeface="Constantia"/>
              </a:rPr>
              <a:t>-</a:t>
            </a:r>
            <a:r>
              <a:rPr b="0" lang="es-SV" sz="3300" spc="-1" strike="noStrike">
                <a:solidFill>
                  <a:srgbClr val="000000"/>
                </a:solidFill>
                <a:latin typeface="Constantia"/>
              </a:rPr>
              <a:t>¿papá, me despiertas para decirme que es domingo?</a:t>
            </a:r>
            <a:endParaRPr b="0" lang="en-US" sz="3300" spc="-1" strike="noStrike">
              <a:solidFill>
                <a:srgbClr val="000000"/>
              </a:solidFill>
              <a:latin typeface="Constantia"/>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cc9900"/>
                </a:solidFill>
                <a:latin typeface="Constantia"/>
              </a:rPr>
              <a:t>no hijito, no dormí, los desperté para decirles que los amo !!</a:t>
            </a:r>
            <a:endParaRPr b="0" lang="en-US" sz="32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 ya viejo, ven, échate un rato a mi lado.</a:t>
            </a:r>
            <a:endParaRPr b="0" lang="en-US" sz="3300" spc="-1" strike="noStrike">
              <a:solidFill>
                <a:srgbClr val="000000"/>
              </a:solidFill>
              <a:latin typeface="Constantia"/>
            </a:endParaRPr>
          </a:p>
          <a:p>
            <a:pPr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300" spc="-1" strike="noStrike">
                <a:solidFill>
                  <a:srgbClr val="000000"/>
                </a:solidFill>
                <a:latin typeface="Constantia"/>
              </a:rPr>
              <a:t>Y luego de años, ambos se durmieron               abrazados … </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Text Box 2"/>
          <p:cNvSpPr/>
          <p:nvPr/>
        </p:nvSpPr>
        <p:spPr>
          <a:xfrm>
            <a:off x="762120" y="1523880"/>
            <a:ext cx="7543800" cy="3049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No juguemos ese ajedrez,</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abracémonos ahora</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SV" sz="3200" spc="-1" strike="noStrike">
                <a:solidFill>
                  <a:srgbClr val="7f7f7f"/>
                </a:solidFill>
                <a:latin typeface="Arial"/>
              </a:rPr>
              <a:t>Saludos afectuosos…</a:t>
            </a:r>
            <a:endParaRPr b="0" lang="en-US" sz="3200" spc="-1" strike="noStrike">
              <a:solidFill>
                <a:srgbClr val="000000"/>
              </a:solidFill>
              <a:latin typeface="Arial"/>
            </a:endParaRPr>
          </a:p>
        </p:txBody>
      </p:sp>
      <p:sp>
        <p:nvSpPr>
          <p:cNvPr id="283" name="4 CuadroTexto"/>
          <p:cNvSpPr/>
          <p:nvPr/>
        </p:nvSpPr>
        <p:spPr>
          <a:xfrm>
            <a:off x="4572000" y="5181480"/>
            <a:ext cx="3733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mpositor: Anóni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úsica : Ernesto Cortáz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Simonsays Colle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f7f7f"/>
                </a:solidFill>
                <a:latin typeface="Arial"/>
              </a:rPr>
              <a:t>Marzo 2008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4"/>
          <p:cNvSpPr/>
          <p:nvPr/>
        </p:nvSpPr>
        <p:spPr>
          <a:xfrm>
            <a:off x="380880" y="2057400"/>
            <a:ext cx="89917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Todo tiene su tiempo, y todo tiene su hora. Tiempo de nacer, tiempo de vivir y hora de mori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                                      </a:t>
            </a:r>
            <a:r>
              <a:rPr b="0" lang="es-SV" sz="3200" spc="-1" strike="noStrike">
                <a:solidFill>
                  <a:srgbClr val="000000"/>
                </a:solidFill>
                <a:latin typeface="comic"/>
                <a:ea typeface="Levenim MT"/>
              </a:rPr>
              <a:t>Eclesiastes 3:1-2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mic"/>
                <a:ea typeface="Levenim MT"/>
              </a:rPr>
              <a:t>ÁMENSE EN SU TIEMPO DE VIV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56"/>
                                        </p:tgtEl>
                                        <p:attrNameLst>
                                          <p:attrName>style.visibility</p:attrName>
                                        </p:attrNameLst>
                                      </p:cBhvr>
                                      <p:to>
                                        <p:strVal val="visible"/>
                                      </p:to>
                                    </p:set>
                                    <p:animEffect filter="slide(fromBottom)" transition="in">
                                      <p:cBhvr additive="repl">
                                        <p:cTn id="7" dur="5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692000" y="620280"/>
            <a:ext cx="6095880" cy="3505320"/>
          </a:xfrm>
          <a:prstGeom prst="rect">
            <a:avLst/>
          </a:prstGeom>
          <a:noFill/>
          <a:ln w="0">
            <a:noFill/>
          </a:ln>
        </p:spPr>
        <p:txBody>
          <a:bodyPr anchor="t">
            <a:normAutofit/>
          </a:bodyPr>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 una noche oscura y fría. Daniel bebía un café sentado en su sillón favorito en la sala de estudio de su casa.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Su familia dormía, mientras él reflexionaba sobre muchas cosas, tantas, que perdió la noción del tiempo. </a:t>
            </a:r>
            <a:endParaRPr b="0" lang="en-US" sz="2500" spc="-1" strike="noStrike">
              <a:solidFill>
                <a:srgbClr val="000000"/>
              </a:solidFill>
              <a:latin typeface="Constantia"/>
            </a:endParaRPr>
          </a:p>
          <a:p>
            <a:pPr indent="0" algn="just">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500" spc="-1" strike="noStrike">
                <a:solidFill>
                  <a:srgbClr val="000000"/>
                </a:solidFill>
                <a:latin typeface="Constantia"/>
              </a:rPr>
              <a:t>Eran las tres de la mañana, llevó su taza vacía al lavaplatos, y abrió el refrigerador para prepararse  algo de comer. </a:t>
            </a:r>
            <a:endParaRPr b="0" lang="en-US" sz="2500" spc="-1" strike="noStrike">
              <a:solidFill>
                <a:srgbClr val="000000"/>
              </a:solidFill>
              <a:latin typeface="Constantia"/>
            </a:endParaRPr>
          </a:p>
        </p:txBody>
      </p:sp>
      <p:pic>
        <p:nvPicPr>
          <p:cNvPr id="258" name="Picture 17" descr="man sitting"/>
          <p:cNvPicPr/>
          <p:nvPr/>
        </p:nvPicPr>
        <p:blipFill>
          <a:blip r:embed="rId2"/>
          <a:stretch/>
        </p:blipFill>
        <p:spPr>
          <a:xfrm>
            <a:off x="2050920" y="3429000"/>
            <a:ext cx="5334120" cy="3124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58"/>
                                        </p:tgtEl>
                                        <p:attrNameLst>
                                          <p:attrName>style.visibility</p:attrName>
                                        </p:attrNameLst>
                                      </p:cBhvr>
                                      <p:to>
                                        <p:strVal val="visible"/>
                                      </p:to>
                                    </p:set>
                                    <p:animEffect filter="fade" transition="in">
                                      <p:cBhvr additive="repl">
                                        <p:cTn id="14" dur="5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4"/>
          <p:cNvSpPr/>
          <p:nvPr/>
        </p:nvSpPr>
        <p:spPr>
          <a:xfrm>
            <a:off x="611280" y="1341360"/>
            <a:ext cx="8001000" cy="175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Cuando cerró la puerta, vio junto a él a una figura muy conocida, pero nada apreciada…era la muerte!!</a:t>
            </a:r>
            <a:endParaRPr b="0" lang="en-US" sz="2800" spc="-1" strike="noStrike">
              <a:solidFill>
                <a:srgbClr val="000000"/>
              </a:solidFill>
              <a:latin typeface="Arial"/>
            </a:endParaRPr>
          </a:p>
        </p:txBody>
      </p:sp>
      <p:sp>
        <p:nvSpPr>
          <p:cNvPr id="260" name="Text Box 6"/>
          <p:cNvSpPr/>
          <p:nvPr/>
        </p:nvSpPr>
        <p:spPr>
          <a:xfrm>
            <a:off x="611280" y="2997360"/>
            <a:ext cx="891540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espectral imagen le arrebató el sueño en u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nstante, lo miró fijamente y le dijo con voz tenu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2800" spc="-1" strike="noStrike">
                <a:solidFill>
                  <a:srgbClr val="000000"/>
                </a:solidFill>
                <a:latin typeface="Constantia"/>
              </a:rPr>
              <a:t>¿Sabes a qué he venid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El asintió con la cabeza y dij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onstantia"/>
              </a:rPr>
              <a:t>Sí, lo sé, ya es mi h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0"/>
                                        </p:tgtEl>
                                        <p:attrNameLst>
                                          <p:attrName>style.visibility</p:attrName>
                                        </p:attrNameLst>
                                      </p:cBhvr>
                                      <p:to>
                                        <p:strVal val="visible"/>
                                      </p:to>
                                    </p:set>
                                    <p:animEffect filter="fade" transition="in">
                                      <p:cBhvr additive="repl">
                                        <p:cTn id="21" dur="5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152280" y="152280"/>
            <a:ext cx="8839440" cy="64771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Confundida, la muerte preguntó a su víctima: </a:t>
            </a:r>
            <a:r>
              <a:rPr b="1" i="1" lang="es-SV" sz="3200" spc="-1" strike="noStrike">
                <a:solidFill>
                  <a:srgbClr val="85dfd0"/>
                </a:solidFill>
                <a:latin typeface="Constantia"/>
              </a:rPr>
              <a:t>¿No vas a llorar? ¡Todos lo hacen! se arrodillan, suplican, juran que serán mejores, ruegan por otra oportunidad; mientras que tú, aceptas mi llegada con resignación.</a:t>
            </a:r>
            <a:br>
              <a:rPr sz="3200"/>
            </a:b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Temeroso aun y con un nudo en la garganta, Daniel respondió: </a:t>
            </a:r>
            <a:r>
              <a:rPr b="0" lang="es-SV" sz="3200" spc="-1" strike="noStrike">
                <a:solidFill>
                  <a:srgbClr val="cc9900"/>
                </a:solidFill>
                <a:latin typeface="Constantia"/>
              </a:rPr>
              <a:t>¿De qué serviría? Nunca me darás otra oportunidad, tú solo haces tu trabajo.</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Tienes razón, yo solo hago mi trabajo</a:t>
            </a:r>
            <a:r>
              <a:rPr b="1" i="1" lang="es-SV" sz="3600" spc="-1" strike="noStrike">
                <a:solidFill>
                  <a:srgbClr val="85dfd0"/>
                </a:solidFill>
                <a:latin typeface="Constantia"/>
              </a:rPr>
              <a: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324000" y="609480"/>
            <a:ext cx="8610480" cy="62485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Puedo despedirme de mi familia?</a:t>
            </a:r>
            <a:r>
              <a:rPr b="1" lang="es-SV" sz="3200" spc="-1" strike="noStrike">
                <a:solidFill>
                  <a:srgbClr val="cc9900"/>
                </a:solidFill>
                <a:latin typeface="Arial"/>
              </a:rPr>
              <a:t> </a:t>
            </a:r>
            <a:r>
              <a:rPr b="0" lang="es-SV" sz="3200" spc="-1" strike="noStrike">
                <a:solidFill>
                  <a:srgbClr val="000000"/>
                </a:solidFill>
                <a:latin typeface="Arial"/>
              </a:rPr>
              <a:t>preguntó Daniel con la ligera esperanza</a:t>
            </a:r>
            <a:br>
              <a:rPr sz="3200"/>
            </a:br>
            <a:r>
              <a:rPr b="0" lang="es-SV" sz="3200" spc="-1" strike="noStrike">
                <a:solidFill>
                  <a:srgbClr val="000000"/>
                </a:solidFill>
                <a:latin typeface="Arial"/>
              </a:rPr>
              <a:t>de recibir un sí. -</a:t>
            </a:r>
            <a:r>
              <a:rPr b="1" i="1" lang="es-SV" sz="3200" spc="-1" strike="noStrike">
                <a:solidFill>
                  <a:srgbClr val="85dfd0"/>
                </a:solidFill>
                <a:latin typeface="Times New Roman"/>
              </a:rPr>
              <a:t>Tú has dicho que solo hago mi trabajo, yo no decido la hora ni el lugar, mucho menos los detalles</a:t>
            </a:r>
            <a:r>
              <a:rPr b="1" i="1" lang="es-SV" sz="3200" spc="-1" strike="noStrike">
                <a:solidFill>
                  <a:srgbClr val="85dfd0"/>
                </a:solidFill>
                <a:latin typeface="Arial"/>
              </a:rPr>
              <a:t>.  </a:t>
            </a:r>
            <a:r>
              <a:rPr b="0" lang="es-SV"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Arial"/>
              </a:rPr>
              <a:t>Lo siento…</a:t>
            </a:r>
            <a:r>
              <a:rPr b="0" lang="es-SV" sz="3200" spc="-1" strike="noStrike">
                <a:solidFill>
                  <a:srgbClr val="000000"/>
                </a:solidFill>
                <a:latin typeface="Arial"/>
              </a:rPr>
              <a:t> dijo Daniel.</a:t>
            </a:r>
            <a:br>
              <a:rPr sz="3200"/>
            </a:b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Times New Roman"/>
              </a:rPr>
              <a:t>No tienes que disculparte, poca gente piensa en su familia mientras está en vida pero al llegar este momento, todos piden lo m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28600" y="533520"/>
            <a:ext cx="8763120" cy="3200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No lo entiendes, dijo Daniel con tono de reproche, yo perdí a mi padre cuando tenia 15 años, y mi sufrimiento fue grande… pero mi hija menor tiene tan solo 4, déjame decirle que la amo.</a:t>
            </a:r>
            <a:br>
              <a:rPr sz="3200"/>
            </a:br>
            <a:endParaRPr b="0" lang="en-US" sz="3200" spc="-1" strike="noStrike">
              <a:solidFill>
                <a:srgbClr val="000000"/>
              </a:solidFill>
              <a:latin typeface="Constantia"/>
            </a:endParaRPr>
          </a:p>
        </p:txBody>
      </p:sp>
      <p:sp>
        <p:nvSpPr>
          <p:cNvPr id="264" name="Rectangle 3"/>
          <p:cNvSpPr/>
          <p:nvPr/>
        </p:nvSpPr>
        <p:spPr>
          <a:xfrm>
            <a:off x="324000" y="2997360"/>
            <a:ext cx="8610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Tuviste 4 años para decírselo, tuviste muchos días libres, muchos cumpleaños, fiestas, y otros momentos en que pudiste decirle a tu hija que la amas … pero ¿Por qué solo pensaste en tu hij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04560" y="380880"/>
            <a:ext cx="8839080" cy="6477120"/>
          </a:xfrm>
          <a:prstGeom prst="rect">
            <a:avLst/>
          </a:prstGeom>
          <a:noFill/>
          <a:ln w="0">
            <a:noFill/>
          </a:ln>
        </p:spPr>
        <p:txBody>
          <a:bodyPr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cc9900"/>
                </a:solidFill>
                <a:latin typeface="Constantia"/>
              </a:rPr>
              <a:t>Mi hijo mayor no me creería, y mi esposa, bueno … a ella no creo que le interese si la amo o no. Nos hemos distanciado mucho. Pero mi niña, no hay día que entre por la puerta y no esté ahí para recibirme con un beso</a:t>
            </a:r>
            <a:r>
              <a:rPr b="0" lang="es-SV" sz="3600" spc="-1" strike="noStrike">
                <a:solidFill>
                  <a:srgbClr val="cc9900"/>
                </a:solidFill>
                <a:latin typeface="Constantia"/>
              </a:rPr>
              <a:t>.</a:t>
            </a:r>
            <a:br>
              <a:rPr sz="3600"/>
            </a:br>
            <a:endParaRPr b="0" lang="en-US" sz="36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Deja de hablar, se hace tarde,</a:t>
            </a:r>
            <a:r>
              <a:rPr b="0" lang="es-SV" sz="3200" spc="-1" strike="noStrike">
                <a:solidFill>
                  <a:srgbClr val="000000"/>
                </a:solidFill>
                <a:latin typeface="Constantia"/>
              </a:rPr>
              <a:t>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Constantia"/>
              </a:rPr>
              <a:t> </a:t>
            </a:r>
            <a:r>
              <a:rPr b="0" lang="es-SV" sz="3200" spc="-1" strike="noStrike">
                <a:solidFill>
                  <a:srgbClr val="000000"/>
                </a:solidFill>
                <a:latin typeface="Constantia"/>
              </a:rPr>
              <a:t>-lo interrumpió la Muerte, </a:t>
            </a:r>
            <a:endParaRPr b="0" lang="en-US" sz="3200" spc="-1" strike="noStrike">
              <a:solidFill>
                <a:srgbClr val="000000"/>
              </a:solidFill>
              <a:latin typeface="Constant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200" spc="-1" strike="noStrike">
                <a:solidFill>
                  <a:srgbClr val="85dfd0"/>
                </a:solidFill>
                <a:latin typeface="Constantia"/>
              </a:rPr>
              <a:t>pero … está bien ¿sabes? este momento hace que mucha gente haga conciencia de cómo vivió su vida. Lástima que lo hagan demasiado tard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Picture 6" descr="x1pY1pzPg3KBhscz6lgbCrvNmVytpBDv8j4uMvhB-hLaLRUdGyzM7n_Xafs3dgxnZLNs_P2cHUY4DkCS-FNv4w-4bse7QEe3w3H"/>
          <p:cNvPicPr/>
          <p:nvPr/>
        </p:nvPicPr>
        <p:blipFill>
          <a:blip r:embed="rId2"/>
          <a:stretch/>
        </p:blipFill>
        <p:spPr>
          <a:xfrm>
            <a:off x="0" y="189000"/>
            <a:ext cx="9144000" cy="6867360"/>
          </a:xfrm>
          <a:prstGeom prst="rect">
            <a:avLst/>
          </a:prstGeom>
          <a:ln w="0">
            <a:noFill/>
          </a:ln>
        </p:spPr>
      </p:pic>
      <p:sp>
        <p:nvSpPr>
          <p:cNvPr id="267" name="Text Box 7"/>
          <p:cNvSpPr/>
          <p:nvPr/>
        </p:nvSpPr>
        <p:spPr>
          <a:xfrm>
            <a:off x="250920" y="620640"/>
            <a:ext cx="8610480" cy="5923800"/>
          </a:xfrm>
          <a:prstGeom prst="rect">
            <a:avLst/>
          </a:prstGeom>
          <a:solidFill>
            <a:srgbClr val="04617b">
              <a:alpha val="50000"/>
            </a:srgbClr>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0c9f8"/>
                </a:solidFill>
                <a:latin typeface="Arial"/>
              </a:rPr>
              <a:t>Ambos salieron de la casa, un extraño tren aguardaba en la calle y lo abordaron. </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SV" sz="3600" spc="-1" strike="noStrike">
                <a:solidFill>
                  <a:srgbClr val="85dfd0"/>
                </a:solidFill>
                <a:latin typeface="Times New Roman"/>
              </a:rPr>
              <a:t>-No todo es aburrido en el estado de  muerte, no puedo decirte lo que pasará al llegar, pero te propongo que juguemos una partida de Ajedrez “para matar el tiemp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21b2c9"/>
                </a:solidFill>
                <a:latin typeface="Arial"/>
              </a:rPr>
              <a:t>Con sonrisa, y una lágrima Daniel le dijo:</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600" spc="-1" strike="noStrike">
                <a:solidFill>
                  <a:srgbClr val="cc9900"/>
                </a:solidFill>
                <a:latin typeface="Arial"/>
              </a:rPr>
              <a:t>¡que curioso! creí que no tenías sentido del hum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267"/>
                                        </p:tgtEl>
                                        <p:attrNameLst>
                                          <p:attrName>style.visibility</p:attrName>
                                        </p:attrNameLst>
                                      </p:cBhvr>
                                      <p:to>
                                        <p:strVal val="visible"/>
                                      </p:to>
                                    </p:set>
                                    <p:animEffect filter="fade" transition="in">
                                      <p:cBhvr additive="repl">
                                        <p:cTn id="28" dur="3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03:16:41Z</dcterms:created>
  <dc:creator>Usuario</dc:creator>
  <dc:description/>
  <dc:language>en-US</dc:language>
  <cp:lastModifiedBy>Usuario</cp:lastModifiedBy>
  <dcterms:modified xsi:type="dcterms:W3CDTF">2008-03-10T04:18:37Z</dcterms:modified>
  <cp:revision>2</cp:revision>
  <dc:subject/>
  <dc:title>Diapositiva 1</dc:title>
</cp:coreProperties>
</file>