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2.jpeg" ContentType="image/jpeg"/>
  <Override PartName="/ppt/media/Fl%C3%BBtes%20indiennes.wav" ContentType="audio/x-wav"/>
  <Override PartName="/ppt/media/image30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8.jpeg" ContentType="image/jpeg"/>
  <Override PartName="/ppt/media/image5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FE65-6F06-42C4-AB7F-640395CC18F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B21F-E876-4717-BACB-A3CA795E7B8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E921-74F4-4B6A-BD26-CC1C4216D0C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794F-83CD-4F34-AE89-C519629E127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0360-AE18-40B1-8387-56294FE1DD5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58DD-5270-4C67-BD18-303C6E2310B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DA91-1DB1-44FB-ABBF-00114CD5D78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0BE0-CFFA-4AA9-9B8B-A74AFC82AB7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FEE9-DD5F-4C2D-BEA8-8ED7BA95F8F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F363-A1D6-4E6F-8C46-DDC89797F4A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7667-F1D1-47B8-B39A-1EBE487CCB8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EDF8-4CA0-4A1E-9EA5-2D23B267C94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AE54-7B88-4EAE-9BB7-AD88119F11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8DA5-44F4-4C71-872F-E4DDBA51620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E30F-A69F-40D4-8F3C-2DAFE3C3D67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5D4F-7C8B-447E-AB71-8D739683ABF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FE4F-0326-4EEA-A1B6-E0049325B6D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C81E-63AD-4429-91FF-CA1B1EE1E14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1588-2660-4EB7-88E8-D2D4CA524A1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0C81-C52C-4F08-BE28-86185105C5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01C3-EEB7-4B4B-9B68-BC11AAD2839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F8B4-B53B-4381-B40B-8C05CE92652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2D7A-6655-4662-B59E-6C7FC42FADD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8604-3F97-4F83-AE4A-8CFCBC2925F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953B-86AF-4AC3-BD76-C1D39BBEC3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9630-700C-41D7-B809-5D2132EEE09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44DA-7740-4775-A448-4C75B8ACDA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6FB0-B64A-44C4-A12D-419E857C133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1F0A-8281-40FB-B221-56DB1F52C0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B659-D518-44B8-A925-B2D80363F3B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53D5-046D-4B45-BDE3-980FDB3D355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0AA8-6722-46B5-ADF5-8DF92C315C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91CF-2342-4D74-8017-2DCC171959B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6E31-6F1A-47BC-949D-2E1441DE59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88D8-139D-4BE9-ADD9-9F011D49A72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A5FA-40E5-4882-AE07-8272514BC1A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546B-45F9-4BAD-A338-AB1FB76689A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9B66-7B6F-46C7-8C55-DEB1A9607F2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445D-2995-499D-82F7-FC617D17C67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B0C0-D415-460D-8ABF-150CF837B75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64F2-BDA9-41F8-8CEF-D7127289CCE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8EE2-2F63-49AD-9574-F9890156C0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6E29-B412-4027-8C34-FB0426D3F9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6E29-9238-4393-BF39-5B49D639469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09BC-4CCE-40B2-9FC2-D39839F1B8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D826-309D-4DD3-AB93-0F23227D9D0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CD69-8D19-45F7-8056-8B55C6D247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F369-A0F4-42D6-AD4F-D67EC218890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5CD2-0242-48FF-AB0D-798634FCD0E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9D47-BA9F-4326-A408-CB6A5D545E7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AD85-8A8F-4DAF-9D72-A41DF71894C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20FF-7B34-4AC2-8EEE-AB051BC150F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3C21-0AFC-4742-A4E9-695DDED7006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00F9-6F4B-4500-A3A3-F1EE713F16A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22C5-BC92-48AB-9BFA-469480D8A4D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CE46-D5DC-4168-A7B3-09064C122E4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185A-3AC3-4141-8CA7-07B3DF5E220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9B96-CBEA-49DA-9868-F3272B1C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04F1-915F-4C79-81A1-AF3EA625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56ED-8108-4214-810E-52C9B223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9BFD-483A-4D34-B59E-8688E4D55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FAE3-E5C8-498B-A046-4C81F61F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62AF-49F2-4669-B76F-B31E147A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6B76-2CEE-4C30-BAC5-78542226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C553-7B22-4CB2-A28D-EFA26BEC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4177-F6D1-48FA-ABF8-7A2CF10D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4F77-BF0C-4172-A7FC-8174DB7E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EB5D-CBA6-4F3C-8A62-42A3AD16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954B-6AB9-46BC-9222-002C5958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8D55-F49C-43AE-B464-29933AD2C79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audio" Target="../media/Fl&#251;tes%20indienn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P_Machu Picchu 07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755640" y="765000"/>
            <a:ext cx="7077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Comic Sans MS"/>
              </a:rPr>
              <a:t>Mucho tiempo después de Babyl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Comic Sans MS"/>
              </a:rPr>
              <a:t>                    </a:t>
            </a:r>
            <a:r>
              <a:rPr b="1" i="1" lang="fr-FR" sz="2800" spc="-1" strike="noStrike">
                <a:solidFill>
                  <a:srgbClr val="ff0000"/>
                </a:solidFill>
                <a:latin typeface="Comic Sans MS"/>
              </a:rPr>
              <a:t>La Gran Murall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Comic Sans MS"/>
              </a:rPr>
              <a:t>                    </a:t>
            </a:r>
            <a:r>
              <a:rPr b="1" i="1" lang="fr-FR" sz="2800" spc="-1" strike="noStrike">
                <a:solidFill>
                  <a:srgbClr val="ff0000"/>
                </a:solidFill>
                <a:latin typeface="Comic Sans MS"/>
              </a:rPr>
              <a:t>Las Pirámides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Comic Sans MS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4000" y="292428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Arial"/>
              </a:rPr>
              <a:t>unos hombres instalaron sobre un l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Arial"/>
              </a:rPr>
              <a:t>alto, apertrechado, casi  inaccesibl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139840" y="4437000"/>
            <a:ext cx="437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Los hijos del S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 rot="19793400">
            <a:off x="2484720" y="2781000"/>
            <a:ext cx="419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ff66"/>
                </a:solidFill>
                <a:latin typeface="MarcoPoloSCapsSSK"/>
              </a:rPr>
              <a:t>Los Inc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6927840" y="6093000"/>
            <a:ext cx="19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Arial"/>
              </a:rPr>
              <a:t>so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32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4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2540"/>
                            </p:stCondLst>
                            <p:childTnLst>
                              <p:par>
                                <p:cTn id="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D_Machu Picchu (temple de la Lune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D_Machu Picchu 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D_Machu Picchu 007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D_Machu Picchu 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D_Machu Picchu 0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D_Machu Picchu 026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D_Machu Picchu 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D_Machu Picchu 0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D_Machu Picchu 0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D_Machu Picchu 0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P_Machu Picchu 03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 rot="20075400">
            <a:off x="684720" y="2852280"/>
            <a:ext cx="768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ff"/>
                </a:solidFill>
                <a:latin typeface="MarcoPoloSCapsSSK"/>
              </a:rPr>
              <a:t> </a:t>
            </a:r>
            <a:r>
              <a:rPr b="1" lang="fr-FR" sz="7200" spc="-1" strike="noStrike">
                <a:solidFill>
                  <a:srgbClr val="0000ff"/>
                </a:solidFill>
                <a:latin typeface="MarcoPoloSCapsSSK"/>
              </a:rPr>
              <a:t>Machu Picch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D_Machu Picchu 0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G_Machu Picchu 07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 rot="20362800">
            <a:off x="611640" y="1125000"/>
            <a:ext cx="67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Comic Sans MS"/>
              </a:rPr>
              <a:t>las terrazas que cortan la respi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G_Machu Picchu 0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D_Machu Picchu 0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D_Machu Picchu 0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D_Machu Picchu 047"/>
          <p:cNvPicPr/>
          <p:nvPr/>
        </p:nvPicPr>
        <p:blipFill>
          <a:blip r:embed="rId1"/>
          <a:stretch/>
        </p:blipFill>
        <p:spPr>
          <a:xfrm>
            <a:off x="2227320" y="0"/>
            <a:ext cx="4689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D_Machu Picchu 049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G_Machu Picchu 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G_Machu Picchu 046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 rot="19840800">
            <a:off x="468720" y="2205000"/>
            <a:ext cx="628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Comic Sans MS"/>
              </a:rPr>
              <a:t>las terrazas al borde del va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D_Machu Picchu 082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P_Machu Picchu 0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D_Machu Picchu 084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G_Machu Picchu 058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D_Machu Picchu (Le compas 01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2014560" y="33336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omic Sans MS"/>
              </a:rPr>
              <a:t>y una curiosa mesa de orientación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D_Machu Picchu (Le compas 02)"/>
          <p:cNvPicPr/>
          <p:nvPr/>
        </p:nvPicPr>
        <p:blipFill>
          <a:blip r:embed="rId1"/>
          <a:stretch/>
        </p:blipFill>
        <p:spPr>
          <a:xfrm>
            <a:off x="1974960" y="0"/>
            <a:ext cx="5194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D_Machu Picchu (le compas 03)"/>
          <p:cNvPicPr/>
          <p:nvPr/>
        </p:nvPicPr>
        <p:blipFill>
          <a:blip r:embed="rId1"/>
          <a:stretch/>
        </p:blipFill>
        <p:spPr>
          <a:xfrm>
            <a:off x="2235240" y="0"/>
            <a:ext cx="467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D_Machu Picchu (Porte du soleil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G_Machu Picchu 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G_Machu Picchu 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G_Machu Picchu 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G_Machu Picchu 0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A_Machu Picchu 0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G_Machu Picchu 0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G_Machu Picchu 0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A_Machu Picchu 0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G_Machu Picchu 0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G_Machu Picchu 0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G_Machu Picchu 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G_Machu Picchu 0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G_Machu Picchu 081"/>
          <p:cNvPicPr/>
          <p:nvPr/>
        </p:nvPicPr>
        <p:blipFill>
          <a:blip r:embed="rId1"/>
          <a:stretch/>
        </p:blipFill>
        <p:spPr>
          <a:xfrm>
            <a:off x="19796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G_Machu Picchu 09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A_Machu Picchu 078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D_Machu Picchu (Accès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 rot="19838400">
            <a:off x="478080" y="148248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Arial"/>
              </a:rPr>
              <a:t>Un camino poco conoc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6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6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P_Machu Picchu 090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A_Machu Picchu 070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G_Machu Picchu 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A_Machu Picchu 0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imag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324000" y="189000"/>
            <a:ext cx="606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Comic Sans MS"/>
              </a:rPr>
              <a:t>En el unive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Comic Sans MS"/>
              </a:rPr>
              <a:t>       ‘</a:t>
            </a:r>
            <a:r>
              <a:rPr b="1" i="1" lang="fr-FR" sz="3200" spc="-1" strike="noStrike">
                <a:solidFill>
                  <a:srgbClr val="ff0000"/>
                </a:solidFill>
                <a:latin typeface="Comic Sans MS"/>
              </a:rPr>
              <a:t>Nada es imposibl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1187280" y="2781360"/>
            <a:ext cx="729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fr-FR" sz="3200" spc="-1" strike="noStrike">
                <a:solidFill>
                  <a:srgbClr val="ff0000"/>
                </a:solidFill>
                <a:latin typeface="Comic Sans MS"/>
              </a:rPr>
              <a:t>dicen los hermanos Bogd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358920" y="4365720"/>
            <a:ext cx="878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Arial"/>
              </a:rPr>
              <a:t>Ahora, tenemos confianza en el género humano; hay quizá, no demasiado lejos, otro sol, otro planeta, donde otros hijos del sol construy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1" i="1" lang="fr-FR" sz="3600" spc="-1" strike="noStrike">
                <a:solidFill>
                  <a:srgbClr val="ff0000"/>
                </a:solidFill>
                <a:latin typeface="MarcoPoloSCapsSSK"/>
              </a:rPr>
              <a:t>‘</a:t>
            </a:r>
            <a:r>
              <a:rPr b="1" i="1" lang="fr-FR" sz="3600" spc="-1" strike="noStrike">
                <a:solidFill>
                  <a:srgbClr val="ff0000"/>
                </a:solidFill>
                <a:latin typeface="MarcoPoloSCapsSSK"/>
              </a:rPr>
              <a:t>Machu Picchu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image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 rot="20089800">
            <a:off x="900360" y="1772640"/>
            <a:ext cx="66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66"/>
                </a:solidFill>
                <a:latin typeface="Comic Sans MS"/>
              </a:rPr>
              <a:t>Estaremos allí para verlo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_Machu Picchu 035"/>
          <p:cNvPicPr/>
          <p:nvPr/>
        </p:nvPicPr>
        <p:blipFill>
          <a:blip r:embed="rId1"/>
          <a:stretch/>
        </p:blipFill>
        <p:spPr>
          <a:xfrm>
            <a:off x="0" y="2143080"/>
            <a:ext cx="9144000" cy="25192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6"/>
          <p:cNvSpPr/>
          <p:nvPr/>
        </p:nvSpPr>
        <p:spPr>
          <a:xfrm>
            <a:off x="1600200" y="3141720"/>
            <a:ext cx="383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D_Machu Picchu (Accès 02)"/>
          <p:cNvPicPr/>
          <p:nvPr/>
        </p:nvPicPr>
        <p:blipFill>
          <a:blip r:embed="rId1"/>
          <a:stretch/>
        </p:blipFill>
        <p:spPr>
          <a:xfrm>
            <a:off x="19796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D_Machu Picchu 080"/>
          <p:cNvPicPr/>
          <p:nvPr/>
        </p:nvPicPr>
        <p:blipFill>
          <a:blip r:embed="rId1"/>
          <a:stretch/>
        </p:blipFill>
        <p:spPr>
          <a:xfrm>
            <a:off x="1908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D_Machu Picchu (Accès 04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971640" y="476280"/>
            <a:ext cx="49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omic Sans MS"/>
              </a:rPr>
              <a:t>Afortunadamente, aho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 rot="20058600">
            <a:off x="2411640" y="2636640"/>
            <a:ext cx="189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Comic Sans MS"/>
              </a:rPr>
              <a:t>H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 rot="20334600">
            <a:off x="3708720" y="3860280"/>
            <a:ext cx="15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66"/>
                </a:solidFill>
                <a:latin typeface="Comic Sans MS"/>
              </a:rPr>
              <a:t>y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G_Machu Picchu 0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6:10:04Z</dcterms:created>
  <dc:creator>cotelle</dc:creator>
  <dc:description/>
  <dc:language>en-US</dc:language>
  <cp:lastModifiedBy>Jose Vilchez</cp:lastModifiedBy>
  <dcterms:modified xsi:type="dcterms:W3CDTF">2007-11-28T02:20:53Z</dcterms:modified>
  <cp:revision>15</cp:revision>
  <dc:subject/>
  <dc:title>Diapositive 1</dc:title>
</cp:coreProperties>
</file>