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Fl%C3%BBtes%20indiennes.wav" ContentType="audio/x-wav"/>
  <Override PartName="/ppt/media/image30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748C-3215-402D-BF46-7E45A06050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0949-A61C-4CA8-88B2-D14BF81BEF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270C-5B12-4A45-AD4D-EFEF6E8C6B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D400-E548-4EC7-A2E0-0D4D186D42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83F6-357B-4537-8888-159E7FD20D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6DBB-E952-46FE-8B61-6FBD64D4EC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99AA-CCA8-477B-832B-7EC032FFD0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F30A-6044-4DBD-A685-47F9B0719D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75F8-BE6E-4FB8-869C-79D16FE195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17A5-E22B-41EE-823F-0EEC1EE362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AA20-6C64-4575-B96A-1AE92D36B6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29AD-F49D-4064-87EF-60CE972898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7B39-F1FF-4AE4-8ADA-385912C1EC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2C08-6CF7-4E0D-8933-4691E7558C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71C6-41A0-4202-9C82-BFD7F8B899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7DD1-60EA-4F45-B843-DCCB7AC9A2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DB5F-E709-48C5-A8CB-214645473B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F5C0-2D70-4FD1-8119-59021BE8CC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800C-178E-4C3E-9789-6337C22C11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57D3-48EA-40C5-BFC6-A61EC1540A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FCDC-F336-41DC-89EC-D709F6749E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EEDC-BB97-48B1-A0BC-F52377862D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5C06-A2B1-41B9-A3BB-E40A1EF898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118D-B50E-4682-8DC8-8D2A94355C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919E-EF7C-4E1D-A90C-294CD50B7F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2016-74F4-474E-A8BB-44254EA638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428B-2E1F-4B93-B7A4-5B53EA5552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D43C-C0AC-4601-BCE0-01B41D4B46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1106-67FA-4143-B1B8-293CEA10E5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0D51-6F3C-4107-809A-A44D081771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C022-4D04-4703-9C5F-D4375DE289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B03E-0543-4A81-B313-6E4D9CD637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5E32-68BD-4D00-9F7D-E2D2DBD938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B0C4-4271-452A-AF75-C3DD741DF4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43D8-B433-4A1F-8353-3E282373C3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1E46-E6BE-48E7-812B-7555F98199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3C5B-69B4-4539-ADE3-DD64BBB872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0D1E-226D-450E-9F19-172F6A6359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33C9-D068-4C91-8298-A6371156A6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7C30-415F-42CA-A2D1-0B3CE3B254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9F48-D0F4-44A3-9A65-82EA986235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3BB2-76D1-471F-A5C9-2AF2BCD5D5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E503-7ACB-4C83-A9E3-7F0128D917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498D-9542-4829-A6D7-DDA1E755CC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9C50-8C78-42DA-9F59-76A37AA3FE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1027-DF66-4683-A07F-9345F03070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203B-FF05-498E-BD7B-B84F4658C6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BDD6-7B95-4F42-AA24-6DE542EAAF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C565-9E9D-4263-893C-1D32ADF360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1298-EEDE-469B-8059-C97663D355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62D7-FD01-4996-81D1-74B9DD9345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5CD9-E675-4CE8-817A-E05937429C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CCC7-FAD8-466F-B9F9-1FD69C9A41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0F4C-302F-4CB8-9B2C-A77BE85D22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AFD3-A006-4112-A621-6A77CE2CF5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B3E0-8753-4492-A704-AF91D5CA12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F3A2-E20D-4DDA-9B6F-34E62E5E29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B30-8318-4F73-91A1-E827C375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5FF-3CB0-4B21-A892-E3DA4642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168-2FAB-4176-BB42-9DB448EB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714-740C-489B-8F44-A206A8CF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3C8-A633-431F-AC3C-3A3A3A1B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A39-B05B-4685-86DA-C7E49610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BF5-63BE-4D45-841F-AD7223AC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40C-AFA6-4411-A248-59440285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00E-24F0-4759-9BDC-09A6FBAE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8FF-40BF-4C7B-BA5E-BE4B64CC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BC2-ECB4-4034-8CC6-497774A3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983-2405-4185-AF3E-A6E7C14C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09B7-E07B-40B6-B8B2-A7D53286272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audio" Target="../media/Fl&#251;tes%20indienn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_Machu Picchu 0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55640" y="765000"/>
            <a:ext cx="707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Mucho tiempo después de Babyl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La Gran Mural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Las Pirámides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4000" y="29242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unos hombres instalaron sobre un l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alto, apertrechado, casi  inaccesibl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139840" y="4437000"/>
            <a:ext cx="43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os hijos del S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 rot="19793400">
            <a:off x="2484720" y="2781000"/>
            <a:ext cx="419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ff66"/>
                </a:solidFill>
                <a:latin typeface="MarcoPoloSCapsSSK"/>
              </a:rPr>
              <a:t>Los Inc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927840" y="6093000"/>
            <a:ext cx="19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s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32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4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540"/>
                            </p:stCondLst>
                            <p:childTnLst>
                              <p:par>
                                <p:cTn id="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D_Machu Picchu (temple de la Lune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D_Machu Picchu 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D_Machu Picchu 007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D_Machu Picchu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D_Machu Picchu 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D_Machu Picchu 026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D_Machu Picchu 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D_Machu Picchu 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D_Machu Picchu 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D_Machu Picchu 0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_Machu Picchu 0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 rot="20075400">
            <a:off x="684720" y="2852280"/>
            <a:ext cx="76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ff"/>
                </a:solidFill>
                <a:latin typeface="MarcoPoloSCapsSSK"/>
              </a:rPr>
              <a:t> </a:t>
            </a:r>
            <a:r>
              <a:rPr b="1" lang="fr-FR" sz="7200" spc="-1" strike="noStrike">
                <a:solidFill>
                  <a:srgbClr val="0000ff"/>
                </a:solidFill>
                <a:latin typeface="MarcoPoloSCapsSSK"/>
              </a:rPr>
              <a:t>Machu Picc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D_Machu Picchu 0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G_Machu Picchu 07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 rot="20362800">
            <a:off x="611640" y="1125000"/>
            <a:ext cx="67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Comic Sans MS"/>
              </a:rPr>
              <a:t>las terrazas que cortan la respi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G_Machu Picchu 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D_Machu Picchu 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_Machu Picchu 0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D_Machu Picchu 047"/>
          <p:cNvPicPr/>
          <p:nvPr/>
        </p:nvPicPr>
        <p:blipFill>
          <a:blip r:embed="rId1"/>
          <a:stretch/>
        </p:blipFill>
        <p:spPr>
          <a:xfrm>
            <a:off x="2227320" y="0"/>
            <a:ext cx="468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D_Machu Picchu 049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G_Machu Picchu 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G_Machu Picchu 046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 rot="19840800">
            <a:off x="468720" y="2205000"/>
            <a:ext cx="62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las terrazas al borde del va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D_Machu Picchu 082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_Machu Picchu 0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D_Machu Picchu 084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G_Machu Picchu 058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D_Machu Picchu (Le compas 01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2014560" y="3333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omic Sans MS"/>
              </a:rPr>
              <a:t>y una curiosa mesa de orientación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D_Machu Picchu (Le compas 02)"/>
          <p:cNvPicPr/>
          <p:nvPr/>
        </p:nvPicPr>
        <p:blipFill>
          <a:blip r:embed="rId1"/>
          <a:stretch/>
        </p:blipFill>
        <p:spPr>
          <a:xfrm>
            <a:off x="1974960" y="0"/>
            <a:ext cx="5194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D_Machu Picchu (le compas 03)"/>
          <p:cNvPicPr/>
          <p:nvPr/>
        </p:nvPicPr>
        <p:blipFill>
          <a:blip r:embed="rId1"/>
          <a:stretch/>
        </p:blipFill>
        <p:spPr>
          <a:xfrm>
            <a:off x="2235240" y="0"/>
            <a:ext cx="467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D_Machu Picchu (Porte du soleil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G_Machu Picchu 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G_Machu Picchu 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G_Machu Picchu 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G_Machu Picchu 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_Machu Picchu 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G_Machu Picchu 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G_Machu Picchu 0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A_Machu Picchu 0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G_Machu Picchu 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G_Machu Picchu 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G_Machu Picchu 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G_Machu Picchu 0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G_Machu Picchu 081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G_Machu Picchu 0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A_Machu Picchu 078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_Machu Picchu (Accès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 rot="19838400">
            <a:off x="478080" y="148248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Un camino poco conoc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6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P_Machu Picchu 09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A_Machu Picchu 070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G_Machu Picchu 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A_Machu Picchu 0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a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324000" y="189000"/>
            <a:ext cx="606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En el unive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       ‘</a:t>
            </a: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Nada es imposibl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187280" y="2781360"/>
            <a:ext cx="72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fr-FR" sz="3200" spc="-1" strike="noStrike">
                <a:solidFill>
                  <a:srgbClr val="ff0000"/>
                </a:solidFill>
                <a:latin typeface="Comic Sans MS"/>
              </a:rPr>
              <a:t>dicen los hermanos Bogd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58920" y="4365720"/>
            <a:ext cx="87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Ahora, tenemos confianza en el género humano; hay quizá, no demasiado lejos, otro sol, otro planeta, donde otros hijos del sol construy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i="1" lang="fr-FR" sz="3600" spc="-1" strike="noStrike">
                <a:solidFill>
                  <a:srgbClr val="ff0000"/>
                </a:solidFill>
                <a:latin typeface="MarcoPoloSCapsSSK"/>
              </a:rPr>
              <a:t>‘</a:t>
            </a:r>
            <a:r>
              <a:rPr b="1" i="1" lang="fr-FR" sz="3600" spc="-1" strike="noStrike">
                <a:solidFill>
                  <a:srgbClr val="ff0000"/>
                </a:solidFill>
                <a:latin typeface="MarcoPoloSCapsSSK"/>
              </a:rPr>
              <a:t>Machu Picchu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image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 rot="20089800">
            <a:off x="900360" y="1772640"/>
            <a:ext cx="66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66"/>
                </a:solidFill>
                <a:latin typeface="Comic Sans MS"/>
              </a:rPr>
              <a:t>Estaremos allí para verlo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_Machu Picchu 035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25192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1600200" y="3141720"/>
            <a:ext cx="383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D_Machu Picchu (Accès 02)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_Machu Picchu 080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D_Machu Picchu (Accès 04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971640" y="476280"/>
            <a:ext cx="49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omic Sans MS"/>
              </a:rPr>
              <a:t>Afortunadamente, aho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 rot="20058600">
            <a:off x="2411640" y="2636640"/>
            <a:ext cx="18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Comic Sans MS"/>
              </a:rPr>
              <a:t>H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 rot="20334600">
            <a:off x="3708720" y="386028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66"/>
                </a:solidFill>
                <a:latin typeface="Comic Sans MS"/>
              </a:rPr>
              <a:t>y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G_Machu Picchu 0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10:04Z</dcterms:created>
  <dc:creator>cotelle</dc:creator>
  <dc:description/>
  <dc:language>en-US</dc:language>
  <cp:lastModifiedBy>Jose Vilchez</cp:lastModifiedBy>
  <dcterms:modified xsi:type="dcterms:W3CDTF">2007-11-28T02:20:53Z</dcterms:modified>
  <cp:revision>15</cp:revision>
  <dc:subject/>
  <dc:title>Diapositive 1</dc:title>
</cp:coreProperties>
</file>