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11%20el%20ultimo%20vals312.wav" ContentType="audio/x-wav"/>
  <Override PartName="/ppt/media/image20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2EF-57A5-43FD-9FA7-0532BF91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537-50E1-4602-A8EF-2EC27E4B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8FA-A86A-475D-A075-CBB6EC60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A90-CCB7-44E8-A9BE-D1E4E942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463-1B58-4CA8-B408-CA3D593F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C26-E02D-494D-8F0D-2BC90331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A7E-2382-4EF1-8F47-417C03BC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347-48C8-4F8E-BA76-B128FE30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EDD-5E57-4F98-9A93-91A9DF2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86C-B7FA-49B9-9350-F9146FDB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334-A3A8-4F9B-AA5E-BDAB4648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429-D733-4793-946D-AD82D93D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B9F8-F00F-4B6E-9B15-9FD0A43A5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1%20el%20ultimo%20vals312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lta_Austria" TargetMode="External"/><Relationship Id="rId2" Type="http://schemas.openxmlformats.org/officeDocument/2006/relationships/hyperlink" Target="http://es.wikipedia.org/wiki/Salzkammergut" TargetMode="External"/><Relationship Id="rId3" Type="http://schemas.openxmlformats.org/officeDocument/2006/relationships/hyperlink" Target="http://es.wikipedia.org/wiki/Austria" TargetMode="External"/><Relationship Id="rId4" Type="http://schemas.openxmlformats.org/officeDocument/2006/relationships/hyperlink" Target="http://es.wikipedia.org/w/index.php?title=Hallst&#228;tter_See&amp;action=edit&amp;redlink=1" TargetMode="External"/><Relationship Id="rId5" Type="http://schemas.openxmlformats.org/officeDocument/2006/relationships/hyperlink" Target="http://es.wikipedia.org/w/index.php?title=Hallst&#228;tter_See&amp;action=edit&amp;redlink=1" TargetMode="External"/><Relationship Id="rId6" Type="http://schemas.openxmlformats.org/officeDocument/2006/relationships/hyperlink" Target="http://es.wikipedia.org/w/index.php?title=Hallst&#228;tter_See&amp;action=edit&amp;redlink=1" TargetMode="External"/><Relationship Id="rId7" Type="http://schemas.openxmlformats.org/officeDocument/2006/relationships/hyperlink" Target="http://es.wikipedia.org/wiki/Idioma_celta" TargetMode="Externa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1700280"/>
            <a:ext cx="5904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ALLSTATT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STRIA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42040" y="6380280"/>
            <a:ext cx="24544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e manual de diaposi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  <p:sndAc>
      <p:stSnd>
        <p:snd r:embed="rId1" name="11%20el%20ultimo%20vals312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3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820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Hallstatt,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ta Austria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 es una localidad del distrito montañoso d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lzkammergut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 en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ustria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. Está localizada cerca del lago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allstätte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ee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Etimológicamente el nombre de </a:t>
            </a:r>
            <a:r>
              <a:rPr b="1" i="1" lang="es-ES" sz="2800" spc="-1" strike="noStrike">
                <a:solidFill>
                  <a:srgbClr val="00ffff"/>
                </a:solidFill>
                <a:latin typeface="Arial"/>
              </a:rPr>
              <a:t>Hall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 probablemente proviene del término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éltico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 con el que se denominaba a la sal, abundante en las minas cerc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La localidad da su nombre a la cultura de la edad de Hierro denominada </a:t>
            </a:r>
            <a:r>
              <a:rPr b="1" i="1" lang="es-ES" sz="2800" spc="-1" strike="noStrike">
                <a:solidFill>
                  <a:srgbClr val="00ffff"/>
                </a:solidFill>
                <a:latin typeface="Arial"/>
              </a:rPr>
              <a:t>Cultura de Hallst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En 1997 fue declarado Patrimonio de la Humanidad por la UNE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380360" y="6237360"/>
            <a:ext cx="107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I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Ba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5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88930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Hasta el siglo XIX la única posibilidad de llegar a la localidad era en barco o por senderos estrechos. La tierra entre las montañas y el lago era escasa siendo esta poca tierra ocupada por la localidad misma. El acceso entre las casas y la orilla del lago se realizaba a través de una pasarela elevada sobre los áticos de las casas. El primer camino importante se construyó en 1890 por la parte oeste a través de la roc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440" y="-428760"/>
            <a:ext cx="9524880" cy="7715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08:57:16Z</dcterms:created>
  <dc:creator>Josefina</dc:creator>
  <dc:description/>
  <dc:language>en-US</dc:language>
  <cp:lastModifiedBy>Usuario</cp:lastModifiedBy>
  <dcterms:modified xsi:type="dcterms:W3CDTF">2009-12-29T02:35:15Z</dcterms:modified>
  <cp:revision>22</cp:revision>
  <dc:subject/>
  <dc:title>Diapositiva 1</dc:title>
</cp:coreProperties>
</file>