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11%20el%20ultimo%20vals312.wav" ContentType="audio/x-wav"/>
  <Override PartName="/ppt/media/image20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97D-38B8-4855-B9DB-20673DFC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9E1-742B-4769-A57D-50851AEA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A0B-0B4A-4B71-9B2D-1B0B5388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E0C-366A-449C-B065-1FEB1E3E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0F5-79F3-470D-85A0-2BE9D9C8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426-4E4C-4059-9731-E9E5E3C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BF2-8084-4877-A0D3-7028BD9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589-793B-4086-8863-55C22E3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31B-B22E-43EB-852A-7962168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403-3D13-4354-BF5F-9545A1F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C34-8E29-4F29-91B2-2C04BBA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C5C-135D-4FCA-8FA8-682F551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AC6-8FFF-48CD-A218-1BE45AC8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%20el%20ultimo%20vals31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ta_Austria" TargetMode="External"/><Relationship Id="rId2" Type="http://schemas.openxmlformats.org/officeDocument/2006/relationships/hyperlink" Target="http://es.wikipedia.org/wiki/Salzkammergut" TargetMode="External"/><Relationship Id="rId3" Type="http://schemas.openxmlformats.org/officeDocument/2006/relationships/hyperlink" Target="http://es.wikipedia.org/wiki/Austria" TargetMode="External"/><Relationship Id="rId4" Type="http://schemas.openxmlformats.org/officeDocument/2006/relationships/hyperlink" Target="http://es.wikipedia.org/w/index.php?title=Hallst&#228;tter_See&amp;action=edit&amp;redlink=1" TargetMode="External"/><Relationship Id="rId5" Type="http://schemas.openxmlformats.org/officeDocument/2006/relationships/hyperlink" Target="http://es.wikipedia.org/w/index.php?title=Hallst&#228;tter_See&amp;action=edit&amp;redlink=1" TargetMode="External"/><Relationship Id="rId6" Type="http://schemas.openxmlformats.org/officeDocument/2006/relationships/hyperlink" Target="http://es.wikipedia.org/w/index.php?title=Hallst&#228;tter_See&amp;action=edit&amp;redlink=1" TargetMode="External"/><Relationship Id="rId7" Type="http://schemas.openxmlformats.org/officeDocument/2006/relationships/hyperlink" Target="http://es.wikipedia.org/wiki/Idioma_celta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700280"/>
            <a:ext cx="5904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ALLSTATT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TRIA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42040" y="6380280"/>
            <a:ext cx="2454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e manual de diaposi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  <p:sndAc>
      <p:stSnd>
        <p:snd r:embed="rId1" name="11%20el%20ultimo%20vals31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Hallstatt,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ta Austria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es una localidad del distrito montañoso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lzkammergut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e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ustria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. Está localizada cerca del lag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llstätte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ee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Etimológicamente el nombre de </a:t>
            </a:r>
            <a:r>
              <a:rPr b="1" i="1" lang="es-ES" sz="2800" spc="-1" strike="noStrike">
                <a:solidFill>
                  <a:srgbClr val="00ffff"/>
                </a:solidFill>
                <a:latin typeface="Arial"/>
              </a:rPr>
              <a:t>Hall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probablemente proviene del términ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éltico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con el que se denominaba a la sal, abundante en las minas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La localidad da su nombre a la cultura de la edad de Hierro denominada </a:t>
            </a:r>
            <a:r>
              <a:rPr b="1" i="1" lang="es-ES" sz="2800" spc="-1" strike="noStrike">
                <a:solidFill>
                  <a:srgbClr val="00ffff"/>
                </a:solidFill>
                <a:latin typeface="Arial"/>
              </a:rPr>
              <a:t>Cultura de Hallst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En 1997 fue declarado Patrimonio de la Humanidad por la UNE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380360" y="623736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893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Hasta el siglo XIX la única posibilidad de llegar a la localidad era en barco o por senderos estrechos. La tierra entre las montañas y el lago era escasa siendo esta poca tierra ocupada por la localidad misma. El acceso entre las casas y la orilla del lago se realizaba a través de una pasarela elevada sobre los áticos de las casas. El primer camino importante se construyó en 1890 por la parte oeste a través de la roc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428760"/>
            <a:ext cx="9524880" cy="7715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57:16Z</dcterms:created>
  <dc:creator>Josefina</dc:creator>
  <dc:description/>
  <dc:language>en-US</dc:language>
  <cp:lastModifiedBy>Usuario</cp:lastModifiedBy>
  <dcterms:modified xsi:type="dcterms:W3CDTF">2009-12-29T02:35:15Z</dcterms:modified>
  <cp:revision>22</cp:revision>
  <dc:subject/>
  <dc:title>Diapositiva 1</dc:title>
</cp:coreProperties>
</file>