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gif" ContentType="image/gif"/>
  <Override PartName="/ppt/media/image4.jpeg" ContentType="image/jpeg"/>
  <Override PartName="/ppt/media/F%20LEAVES.wav" ContentType="audio/x-wav"/>
  <Override PartName="/ppt/media/image1.jpeg" ContentType="image/jpeg"/>
  <Override PartName="/ppt/media/image2.jpeg" ContentType="image/jpeg"/>
  <Override PartName="/ppt/media/image6.jpeg" ContentType="image/jpeg"/>
  <Override PartName="/ppt/media/image3.jpeg" ContentType="image/jpeg"/>
  <Override PartName="/ppt/media/Ernesto-Cortazar-A-Waltz-Towards-Eternity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rnesto-Cortazar-A-Waltz-Towards-Eternit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F%20LEAV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2667" t="3610" r="2745" b="-1496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2987640" y="549360"/>
            <a:ext cx="475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Como Amar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11280" y="5013360"/>
            <a:ext cx="61930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al Adulto Mayor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0" t="0" r="0" b="6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01336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Papyrus"/>
              </a:rPr>
              <a:t>... como él sabe; como él quiere, porque el adulto mayor descubre la sombra de DIOS en el camino que le falta recorr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052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Papyrus"/>
              </a:rPr>
              <a:t>DÉJALO  REZ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59500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Papyrus"/>
              </a:rPr>
              <a:t>Ernesto Cortázar:         A Valtz to the Etern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41300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Papyrus"/>
              </a:rPr>
              <a:t>..... entre brazos llenos de piedad, porque el AMOR de los hermanos sobre la tierra, nos hace presentir mejor el torrente infinito de amor del PADRE en EL CIEL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33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Papyrus"/>
              </a:rPr>
              <a:t>DÉJALO  MOR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630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308640"/>
            <a:ext cx="26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2667" t="3610" r="2745" b="-1496"/>
          <a:stretch/>
        </p:blipFill>
        <p:spPr>
          <a:xfrm>
            <a:off x="0" y="-458640"/>
            <a:ext cx="9144000" cy="75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6000" y="909720"/>
            <a:ext cx="8964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- ¡ SOY UN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PERSONA MAYOR 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p:transition spd="slow">
    <p:fade thruBlk="true"/>
    <p:sndAc>
      <p:stSnd>
        <p:snd r:embed="rId3" name="F%20LEAV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rebuchet MS"/>
              </a:rPr>
              <a:t>Constantemente se critica a las personas mayores por no adaptarse al mundo modern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rebuchet MS"/>
              </a:rPr>
              <a:t>Sin embargo, nosotros nos responsabilizamos por todo lo que hemos hecho y no culpamos a nadie por ell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4360" y="618840"/>
            <a:ext cx="77738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o obstante,después de una profu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meditación, nos gustaría señalar qu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 pesar de haber llev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el pelo largo, de haber realiz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una revolución sexual, de haber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revelado contra los llama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valores tradicionales y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haber bailado con Los Beat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y los Rolling St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En efecto, soy una persona mayor………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                                                       …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.Pero</a:t>
            </a:r>
            <a:r>
              <a:rPr b="1" lang="es-ES" sz="1800" spc="-1" strike="noStrike">
                <a:solidFill>
                  <a:srgbClr val="00ff00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8088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341360"/>
            <a:ext cx="54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243000"/>
            <a:ext cx="874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NO FUIMOS NOSOTROS LOS QUE ELIMINA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melodía de la músic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talento y el ingenio de las creaciones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artístic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buena voz a la hora de cant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orgullo por nuestra apariencia exterio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cortesía al conduci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romance en las relaciones amoros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compromiso de la parej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responsabilidad de la paternida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unión de la famil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aprendizaje y gusto por la cultur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sentimiento de patriotism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rechazo a la vulgarida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80880"/>
            <a:ext cx="51814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324000" y="33480"/>
            <a:ext cx="914400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NO FUIMOS NOSOTROS LOS QUE ELIMINA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escena de la Navidad de las escuelas y ciudad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comportamiento intelectu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El refinamiento del lenguaj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dedicación a la literatur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prudencia a la hora de gast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La ambición por lograr ser alguien en la v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-Ni tampoco sacamos a Dios del gobierno de la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scuelas y de nuestra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-Y por supuesto que no somos los que elimina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la paciencia y la tolerancia de nuestras relacion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personales ni de nuestras interac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con los demá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2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20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252360" y="-5256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¡EN EFECTO, YA SOY UNA PERSONA MAY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ero todavía puedo animar una fiesta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incluso si sólo resisto  hasta las 2 a.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davía puedo abrir frascos con tapas a prueb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 niños aunque tenga que usar un marti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Todavía me acuerdo de llegar a mi cas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aunque deba llevar un mapa conm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davía duermo como un bebé en las noches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unque al otro día el cuerpo demore en permit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e me lev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080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¡EN EFECTO,  SOY UNA PERSONA MAY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Pero todavía puedo reírme de las críticas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unque a veces no pueda oírlo que dicen de m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odavía soy muy bueno contando historia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unque  las repita varias ve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Pero no creas que me he vuelto peleador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cascarrabias ni intransigent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36360" y="144000"/>
            <a:ext cx="882000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Simplemente que tengo edad para deci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que hay cosas que ya no me gusta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Ya no me gusta la congestión de tráfic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as  muchedumbr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a música alt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os niños griton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os perros que ladra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los polí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i tantas otras cosa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que ahora no recuer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5053" t="16729" r="5053" b="154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90560" y="2060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Papyrus"/>
              </a:rPr>
              <a:t>..... porque hay en su pasado un tesoro lleno de verdad, de belleza y de bi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9079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Papyrus"/>
              </a:rPr>
              <a:t>DÉJALO  HAB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43956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¡Y seguir disfrutan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de mi vida a top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uir practic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el amor libre y seguir bailan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con Los Beatles y los Rolling Stones!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No obstante, ahora no recuer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quién demonios me envío es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Tal vez se lo vuelva a envi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 esa persona que me lo envi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3960" y="2019240"/>
            <a:ext cx="7696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Ahora me asalta la dud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¿Ya les habré mandado es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Bueno, por si acaso, voy a volver a enviárselos para estar seguro de que les llega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Es sólo una muestra de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ahoma"/>
              </a:rPr>
              <a:t>pienso en Uds.  !!!!!</a:t>
            </a: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2920" y="34776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Sólo las personas mayores pueden entender esto          de estar enviando mensajes y chistes pes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00"/>
                </a:solidFill>
                <a:latin typeface="Tahoma"/>
              </a:rPr>
              <a:t>por correo electrónico todos los dí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90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0" r="0" b="6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8000" y="295596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....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en las discusiones, porque tiene necesidad de sentirse seguro de sí mism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557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DÉJALO  VEN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292428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Papyrus"/>
              </a:rPr>
              <a:t>.... a sus  viejos  amigos  porque entre  ellos  se  siente  revivi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1197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Papyrus"/>
              </a:rPr>
              <a:t>DÉJALO  IR  A  VISI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13201" t="11468" r="11956" b="72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2781360"/>
            <a:ext cx="54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99"/>
                </a:solidFill>
                <a:latin typeface="Papyrus"/>
              </a:rPr>
              <a:t>.... sus historias repetidas, porque se  siente feliz  cuando lo escucham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197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99"/>
                </a:solidFill>
                <a:latin typeface="Papyrus"/>
              </a:rPr>
              <a:t>DÉJALO  CON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5445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Papyrus"/>
              </a:rPr>
              <a:t>.... entre las cosas que ha amado, porque sufre al sentir que le arrancamos pedazos de su v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1916280"/>
            <a:ext cx="33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Papyrus"/>
              </a:rPr>
              <a:t>DÉJALO  VIV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0" t="0" r="0" b="7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5157720"/>
            <a:ext cx="806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ff"/>
                </a:solidFill>
                <a:latin typeface="Papyrus"/>
              </a:rPr>
              <a:t>.... cuando se ha equivocado porque los ancianos como los niños tienen derecho a la comprensió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74920" y="3429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ff"/>
                </a:solidFill>
                <a:latin typeface="Papyrus"/>
              </a:rPr>
              <a:t>DÉJALO  GRI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242100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99"/>
                </a:solidFill>
                <a:latin typeface="Papyrus"/>
              </a:rPr>
              <a:t>. ..en el automóvil de la familia cuando van de vacaciones, porque el próximo año tendrás remordimientos de conciencia si ya no existe má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7650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99"/>
                </a:solidFill>
                <a:latin typeface="Papyrus"/>
              </a:rPr>
              <a:t>DÉJALO  TOMAR  UN  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4581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... . con el mismo paciente amor con que dejas crecer a tus hijos, porque todo es parte de la natural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316872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Papyrus"/>
              </a:rPr>
              <a:t>DÉJALO  ENVEJE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3:08:08Z</dcterms:created>
  <dc:creator/>
  <dc:description/>
  <dc:language>en-US</dc:language>
  <cp:lastModifiedBy>Netcenter</cp:lastModifiedBy>
  <dcterms:modified xsi:type="dcterms:W3CDTF">2009-04-15T19:31:05Z</dcterms:modified>
  <cp:revision>46</cp:revision>
  <dc:subject/>
  <dc:title>Slide sem título </dc:title>
</cp:coreProperties>
</file>