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50%20-%20Bach-Prelude-and-Fugue%20WAV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EFF7-B511-41C0-99DD-5E2CF6E1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C49A-DB2B-4CD8-B197-0D3BEF1E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AA7-435A-49D5-943D-45A9AA13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D35-8822-48B0-8531-AADFFEFE1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5FB-BD72-402D-906A-2118CD36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BC0-6DC4-4D8B-9F35-328716D1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32E-2041-419E-B520-B496B27A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B9C-43B2-4F47-A8D2-1EA815CB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122-7CA1-4AF7-80D1-C42B284A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C6F-8648-4143-8B8F-2E48E07E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0D32-C417-45C3-A844-7F129920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CF3-91ED-4CFD-8EC8-8B617BBD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F909-2FB1-460D-AC03-F3C76EE868A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50%20-%20Bach-Prelude-and-Fugue%20WAV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71600"/>
            <a:ext cx="80773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Kristen ITC"/>
                <a:ea typeface="Arial"/>
              </a:rPr>
              <a:t>   </a:t>
            </a:r>
            <a:r>
              <a:rPr b="1" lang="es-ES_tradnl" sz="5400" spc="-1" strike="noStrike">
                <a:solidFill>
                  <a:srgbClr val="ffffff"/>
                </a:solidFill>
                <a:latin typeface="Kristen ITC"/>
                <a:ea typeface="Arial"/>
              </a:rPr>
              <a:t>¿</a:t>
            </a:r>
            <a:r>
              <a:rPr b="1" lang="es-ES" sz="5400" spc="-1" strike="noStrike">
                <a:solidFill>
                  <a:srgbClr val="ffffff"/>
                </a:solidFill>
                <a:latin typeface="Kristen ITC"/>
                <a:ea typeface="Arial"/>
              </a:rPr>
              <a:t>Serías capaz de vivi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Kristen ITC"/>
                <a:ea typeface="Arial"/>
              </a:rPr>
              <a:t> </a:t>
            </a:r>
            <a:r>
              <a:rPr b="1" lang="es-ES_tradnl" sz="5400" spc="-1" strike="noStrike">
                <a:solidFill>
                  <a:srgbClr val="ffffff"/>
                </a:solidFill>
                <a:latin typeface="Kristen ITC"/>
                <a:ea typeface="Arial"/>
              </a:rPr>
              <a:t>         </a:t>
            </a:r>
            <a:r>
              <a:rPr b="1" lang="es-ES" sz="5400" spc="-1" strike="noStrike">
                <a:solidFill>
                  <a:srgbClr val="ffffff"/>
                </a:solidFill>
                <a:latin typeface="Kristen ITC"/>
                <a:ea typeface="Arial"/>
              </a:rPr>
              <a:t>en una iglesi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5486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5867280"/>
            <a:ext cx="7372080" cy="7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zzzzzzzzzzzzzzzzzzzzzzzzz" descr=""/>
          <p:cNvPicPr/>
          <p:nvPr/>
        </p:nvPicPr>
        <p:blipFill>
          <a:blip r:embed="rId1"/>
          <a:stretch/>
        </p:blipFill>
        <p:spPr>
          <a:xfrm>
            <a:off x="1787400" y="0"/>
            <a:ext cx="556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zzzzzzzzzzzzzz" descr=""/>
          <p:cNvPicPr/>
          <p:nvPr/>
        </p:nvPicPr>
        <p:blipFill>
          <a:blip r:embed="rId1"/>
          <a:stretch/>
        </p:blipFill>
        <p:spPr>
          <a:xfrm>
            <a:off x="304920" y="-19080"/>
            <a:ext cx="84582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zzzzzzzzzzzzzzzzzzzzzzzzzzzzzzzzzzzzzzzzzzz" descr=""/>
          <p:cNvPicPr/>
          <p:nvPr/>
        </p:nvPicPr>
        <p:blipFill>
          <a:blip r:embed="rId1"/>
          <a:stretch/>
        </p:blipFill>
        <p:spPr>
          <a:xfrm>
            <a:off x="1784520" y="0"/>
            <a:ext cx="557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zzzzzzzzzzzzzzzzzzzzzzzzzz" descr=""/>
          <p:cNvPicPr/>
          <p:nvPr/>
        </p:nvPicPr>
        <p:blipFill>
          <a:blip r:embed="rId1"/>
          <a:stretch/>
        </p:blipFill>
        <p:spPr>
          <a:xfrm>
            <a:off x="2286000" y="614520"/>
            <a:ext cx="4572000" cy="5628960"/>
          </a:xfrm>
          <a:prstGeom prst="rect">
            <a:avLst/>
          </a:prstGeom>
          <a:ln w="0">
            <a:noFill/>
          </a:ln>
        </p:spPr>
      </p:pic>
      <p:pic>
        <p:nvPicPr>
          <p:cNvPr id="57" name="zzzzzzzzzzzzzzzzzzzzzzzzzzzzzzzz" descr=""/>
          <p:cNvPicPr/>
          <p:nvPr/>
        </p:nvPicPr>
        <p:blipFill>
          <a:blip r:embed="rId2"/>
          <a:stretch/>
        </p:blipFill>
        <p:spPr>
          <a:xfrm>
            <a:off x="1785960" y="0"/>
            <a:ext cx="557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1066680"/>
            <a:ext cx="85345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Kristen ITC"/>
              </a:rPr>
              <a:t>Hoy </a:t>
            </a:r>
            <a:fld id="{CE65C312-2B3B-4623-A58B-23CE85F8EB21}" type="datetime2">
              <a:rPr b="1" lang="es-MX" sz="4000" spc="-1" strike="noStrike">
                <a:solidFill>
                  <a:srgbClr val="ffffff"/>
                </a:solidFill>
                <a:latin typeface="Kristen ITC"/>
              </a:rPr>
              <a:t>miércoles 29 de julio de 2026</a:t>
            </a:fld>
            <a:r>
              <a:rPr b="1" lang="es-MX" sz="4000" spc="-1" strike="noStrike">
                <a:solidFill>
                  <a:srgbClr val="ffffff"/>
                </a:solidFill>
                <a:latin typeface="Kristen ITC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Kristen ITC"/>
              </a:rPr>
              <a:t>A las </a:t>
            </a:r>
            <a:fld id="{A9D8E51C-CC67-4793-BBD6-9348996D7634}" type="datetime13">
              <a:rPr b="1" lang="es-MX" sz="4000" spc="-1" strike="noStrike">
                <a:solidFill>
                  <a:srgbClr val="ffffff"/>
                </a:solidFill>
                <a:latin typeface="Kristen ITC"/>
              </a:rPr>
              <a:t>07:26:00 a. m.</a:t>
            </a:fld>
            <a:r>
              <a:rPr b="1" lang="es-MX" sz="4000" spc="-1" strike="noStrike">
                <a:solidFill>
                  <a:srgbClr val="ffffff"/>
                </a:solidFill>
                <a:latin typeface="Kristen ITC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Kristen ITC"/>
              </a:rPr>
              <a:t>¡ Te deseo que tengas un hermoso día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3579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U</a:t>
            </a:r>
            <a:r>
              <a:rPr b="1" lang="es-ES" sz="4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na familia de Inglaterra</a:t>
            </a:r>
            <a:r>
              <a:rPr b="1" lang="es-ES_tradnl" sz="4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compró una iglesia por 92 mil libras</a:t>
            </a:r>
            <a:r>
              <a:rPr b="1" lang="es-ES_tradnl" sz="4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y gastó otras 300 mil libras en su reform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Observa cómo quedó... la cama está en el alt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   </a:t>
            </a:r>
            <a:r>
              <a:rPr b="1" lang="es-ES_tradnl" sz="4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¡¡¡</a:t>
            </a:r>
            <a:r>
              <a:rPr b="1" lang="es-ES" sz="40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La decoración es estupenda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zzz" descr=""/>
          <p:cNvPicPr/>
          <p:nvPr/>
        </p:nvPicPr>
        <p:blipFill>
          <a:blip r:embed="rId1"/>
          <a:stretch/>
        </p:blipFill>
        <p:spPr>
          <a:xfrm>
            <a:off x="304920" y="-34920"/>
            <a:ext cx="8610480" cy="69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zzzz" descr=""/>
          <p:cNvPicPr/>
          <p:nvPr/>
        </p:nvPicPr>
        <p:blipFill>
          <a:blip r:embed="rId1"/>
          <a:stretch/>
        </p:blipFill>
        <p:spPr>
          <a:xfrm>
            <a:off x="1782720" y="0"/>
            <a:ext cx="557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zzzzz" descr=""/>
          <p:cNvPicPr/>
          <p:nvPr/>
        </p:nvPicPr>
        <p:blipFill>
          <a:blip r:embed="rId1"/>
          <a:stretch/>
        </p:blipFill>
        <p:spPr>
          <a:xfrm>
            <a:off x="304920" y="-30240"/>
            <a:ext cx="84582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zzzzzzz" descr=""/>
          <p:cNvPicPr/>
          <p:nvPr/>
        </p:nvPicPr>
        <p:blipFill>
          <a:blip r:embed="rId1"/>
          <a:stretch/>
        </p:blipFill>
        <p:spPr>
          <a:xfrm>
            <a:off x="1793880" y="0"/>
            <a:ext cx="555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zzzzzzzz" descr=""/>
          <p:cNvPicPr/>
          <p:nvPr/>
        </p:nvPicPr>
        <p:blipFill>
          <a:blip r:embed="rId1"/>
          <a:stretch/>
        </p:blipFill>
        <p:spPr>
          <a:xfrm>
            <a:off x="1782720" y="0"/>
            <a:ext cx="557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zzzzzzzzzz" descr=""/>
          <p:cNvPicPr/>
          <p:nvPr/>
        </p:nvPicPr>
        <p:blipFill>
          <a:blip r:embed="rId1"/>
          <a:stretch/>
        </p:blipFill>
        <p:spPr>
          <a:xfrm>
            <a:off x="1779480" y="0"/>
            <a:ext cx="558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zzzzzzzzzzzzz" descr=""/>
          <p:cNvPicPr/>
          <p:nvPr/>
        </p:nvPicPr>
        <p:blipFill>
          <a:blip r:embed="rId1"/>
          <a:stretch/>
        </p:blipFill>
        <p:spPr>
          <a:xfrm>
            <a:off x="1792440" y="0"/>
            <a:ext cx="555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ulogio Caperochipi Echenique</cp:lastModifiedBy>
  <dcterms:modified xsi:type="dcterms:W3CDTF">2009-10-19T10:24:46Z</dcterms:modified>
  <cp:revision>1</cp:revision>
  <dc:subject/>
  <dc:title>PowerPoint Presentation</dc:title>
</cp:coreProperties>
</file>