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455-45D0-422E-9FFE-7B56DF1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658-3769-4357-94EF-4D643BC1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239-E7F2-43C2-91C0-28CB329F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313-0FA6-42C3-8ABE-8A13611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9BF-4B6C-4A90-B7C2-27703FE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F1A-3CAB-400E-8DB7-B36FA593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6DF-3EED-4076-8DB7-C0007FC4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3EE-5BF3-424C-83EE-558C18B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7B0-D3DD-46DD-920B-C44C6F4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832-68E6-4CDC-992B-E7B538C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277-A408-41A3-A20D-C41038E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7EA-897C-467E-8C7B-E53E524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532F-464E-4A55-B0AA-EBEC3E79E1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ATT00001111.gif"/>
          <p:cNvPicPr/>
          <p:nvPr/>
        </p:nvPicPr>
        <p:blipFill>
          <a:blip r:embed="rId1"/>
          <a:stretch/>
        </p:blipFill>
        <p:spPr>
          <a:xfrm>
            <a:off x="2428920" y="1333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42" name="4 Rectángulo"/>
          <p:cNvSpPr/>
          <p:nvPr/>
        </p:nvSpPr>
        <p:spPr>
          <a:xfrm>
            <a:off x="1214280" y="64296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 alguien lo pilla que me lo explique, ¿Cuántos son 12 ó 13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6 Rectángulo"/>
          <p:cNvSpPr/>
          <p:nvPr/>
        </p:nvSpPr>
        <p:spPr>
          <a:xfrm>
            <a:off x="357120" y="4759200"/>
            <a:ext cx="80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ad las personas, esperad a que cambien de posición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adlas de nuevo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no me pregunteis , porque yo tampoco lo sé ...!!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9:32:57Z</dcterms:created>
  <dc:creator>Jesús Mari</dc:creator>
  <dc:description/>
  <dc:language>en-US</dc:language>
  <cp:lastModifiedBy>Jesús Mari</cp:lastModifiedBy>
  <dcterms:modified xsi:type="dcterms:W3CDTF">2009-03-12T09:40:08Z</dcterms:modified>
  <cp:revision>1</cp:revision>
  <dc:subject/>
  <dc:title>Diapositiva 1</dc:title>
</cp:coreProperties>
</file>