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D3BD-F76E-4953-8261-82C41570B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8E6B-436F-432A-BD38-E925CA51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4878-A84B-4C9A-BDBE-A5D28A0E5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1B84-018F-4145-ACB4-E5CD5C70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FEFC-5602-4F8F-BB39-77CAF24B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956F-D07D-4818-B2FF-5D632B3B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86C0-BE1F-4B33-B046-A29EB41C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8A81-0D52-4AEC-8351-AF009FDD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CC9D-2C72-413F-9A4B-0647450C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0743-5373-4748-A8C5-D0B40BBB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A391-9044-418F-A2BE-418863F7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2C30-8374-472E-9116-D1369D4C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BA42-70D0-458A-91E1-5C2337247F0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 Imagen" descr="ATT00001111.gif"/>
          <p:cNvPicPr/>
          <p:nvPr/>
        </p:nvPicPr>
        <p:blipFill>
          <a:blip r:embed="rId1"/>
          <a:stretch/>
        </p:blipFill>
        <p:spPr>
          <a:xfrm>
            <a:off x="2428920" y="1333440"/>
            <a:ext cx="3600360" cy="2667240"/>
          </a:xfrm>
          <a:prstGeom prst="rect">
            <a:avLst/>
          </a:prstGeom>
          <a:ln w="0">
            <a:noFill/>
          </a:ln>
        </p:spPr>
      </p:pic>
      <p:sp>
        <p:nvSpPr>
          <p:cNvPr id="42" name="4 Rectángulo"/>
          <p:cNvSpPr/>
          <p:nvPr/>
        </p:nvSpPr>
        <p:spPr>
          <a:xfrm>
            <a:off x="1214280" y="642960"/>
            <a:ext cx="59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Si alguien lo pilla que me lo explique, ¿Cuántos son 12 ó 13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6 Rectángulo"/>
          <p:cNvSpPr/>
          <p:nvPr/>
        </p:nvSpPr>
        <p:spPr>
          <a:xfrm>
            <a:off x="357120" y="4759200"/>
            <a:ext cx="8072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tad las personas, esperad a que cambien de posición.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tadlas de nuevo. 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Y no me pregunteis , porque yo tampoco lo sé ...!!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09:32:57Z</dcterms:created>
  <dc:creator>Jesús Mari</dc:creator>
  <dc:description/>
  <dc:language>en-US</dc:language>
  <cp:lastModifiedBy>Jesús Mari</cp:lastModifiedBy>
  <dcterms:modified xsi:type="dcterms:W3CDTF">2009-03-12T09:40:08Z</dcterms:modified>
  <cp:revision>1</cp:revision>
  <dc:subject/>
  <dc:title>Diapositiva 1</dc:title>
</cp:coreProperties>
</file>