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la%20marseillese%20-%20mireille%20math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820-DC1C-411E-92DD-4E9E455473B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92FF-BC0C-4891-AE45-55BC96CA9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6C5-D5F7-493E-A7DE-4969224D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30E5-C852-449A-8AAF-E4B0E0E9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806-DA6D-46FA-A306-D5D693EA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AF7-7C1F-423F-ABA5-9EF6E8D8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758-AB30-4E3D-A9D8-DA9C2BADA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32F-BDA5-4995-AB73-EE624F22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F82-3334-4892-99A7-61BE5420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84F-8109-47FB-880F-723ECD7A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E015-CDC2-4A86-91AA-BFE8F98D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D69-CB0E-4448-8EF4-57F0FBE4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93B-56BD-426D-AA9D-738D0081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F4F-6161-4743-9905-76CAB041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C51-E9C3-49EA-84FE-6F2480318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C9E-6CAD-489E-8143-5193824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C38-A629-478A-82C2-1AE443FC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9CA-F88E-4FEF-8487-80C5A388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579-CDB8-4751-ACB0-235CF435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61B-BDC4-40A0-A7E9-099B0CE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6E5-E33D-44B7-921B-9126C55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634-71B5-4FD2-AE76-FC6FB4DE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661-C280-4D88-8318-C2DC1FC8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71E-73F6-4BD5-A75F-55DB09D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F71-1A6D-4CE7-9D56-2369FA4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327-A566-427C-87A7-AA6AD13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D8D-B5C4-44DB-B88A-2038A13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D2FB-7EE1-4E6D-BAFB-20CD100CC11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marseillese%20-%20mireille%20mat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fran 109+dia libertad.jpg"/>
          <p:cNvPicPr/>
          <p:nvPr/>
        </p:nvPicPr>
        <p:blipFill>
          <a:blip r:embed="rId1"/>
          <a:stretch/>
        </p:blipFill>
        <p:spPr>
          <a:xfrm>
            <a:off x="4071960" y="4680"/>
            <a:ext cx="507204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-794880" y="449280"/>
            <a:ext cx="55587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Edwardian Script ITC"/>
              </a:rPr>
              <a:t>14 Jouillet 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Edwardian Script ITC"/>
              </a:rPr>
              <a:t>Jour de la F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Edwardian Script ITC"/>
              </a:rPr>
              <a:t>Aniversaire  du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LIB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FRATER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EGA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paris 15+montmartre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paris 19+pont alexandre iii.jpg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paris 21+pasarel des arts.jpg"/>
          <p:cNvPicPr/>
          <p:nvPr/>
        </p:nvPicPr>
        <p:blipFill>
          <a:blip r:embed="rId1"/>
          <a:stretch/>
        </p:blipFill>
        <p:spPr>
          <a:xfrm>
            <a:off x="4000680" y="-42840"/>
            <a:ext cx="514332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-37800" y="2214720"/>
            <a:ext cx="392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Edwardian Script ITC"/>
              </a:rPr>
              <a:t>Pasare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Edwardian Script ITC"/>
              </a:rPr>
              <a:t>de las Ar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aris 27+eif y trocade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2395440" y="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Edwardian Script ITC"/>
              </a:rPr>
              <a:t>Le  Troc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paris 30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paris 202.jpg"/>
          <p:cNvPicPr/>
          <p:nvPr/>
        </p:nvPicPr>
        <p:blipFill>
          <a:blip r:embed="rId1"/>
          <a:stretch/>
        </p:blipFill>
        <p:spPr>
          <a:xfrm>
            <a:off x="171468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paris 209+palacio luxembur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997640" y="0"/>
            <a:ext cx="49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Palais du Luxembu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paris 216+petit palace.jpg"/>
          <p:cNvPicPr/>
          <p:nvPr/>
        </p:nvPicPr>
        <p:blipFill>
          <a:blip r:embed="rId1"/>
          <a:stretch/>
        </p:blipFill>
        <p:spPr>
          <a:xfrm>
            <a:off x="3643200" y="22320"/>
            <a:ext cx="5500800" cy="683568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123840" y="2286000"/>
            <a:ext cx="322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Edwardian Script ITC"/>
              </a:rPr>
              <a:t>Petit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Edwardian Script ITC"/>
              </a:rPr>
              <a:t>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paris 220.jpg"/>
          <p:cNvPicPr/>
          <p:nvPr/>
        </p:nvPicPr>
        <p:blipFill>
          <a:blip r:embed="rId1"/>
          <a:stretch/>
        </p:blipFill>
        <p:spPr>
          <a:xfrm>
            <a:off x="2857680" y="-47520"/>
            <a:ext cx="6286320" cy="6905520"/>
          </a:xfrm>
          <a:prstGeom prst="rect">
            <a:avLst/>
          </a:prstGeom>
          <a:ln w="0">
            <a:noFill/>
          </a:ln>
        </p:spPr>
      </p:pic>
      <p:sp>
        <p:nvSpPr>
          <p:cNvPr id="74" name="2 CuadroTexto"/>
          <p:cNvSpPr/>
          <p:nvPr/>
        </p:nvSpPr>
        <p:spPr>
          <a:xfrm>
            <a:off x="-229680" y="2071800"/>
            <a:ext cx="327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Detalle 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pu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“</a:t>
            </a: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Alejandro  3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 Imagen" descr="paris 222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ran 2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-1085400" y="2192400"/>
            <a:ext cx="6449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0000"/>
                </a:solidFill>
                <a:latin typeface="Edwardian Script ITC"/>
              </a:rPr>
              <a:t>Monsieur le Pres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0000"/>
                </a:solidFill>
                <a:latin typeface="Edwardian Script ITC"/>
              </a:rPr>
              <a:t>Dr. Nicolás Sarkoz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fran 6.jpg"/>
          <p:cNvPicPr/>
          <p:nvPr/>
        </p:nvPicPr>
        <p:blipFill>
          <a:blip r:embed="rId1"/>
          <a:stretch/>
        </p:blipFill>
        <p:spPr>
          <a:xfrm>
            <a:off x="621504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2 Imagen" descr="fran 7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357800"/>
          </a:xfrm>
          <a:prstGeom prst="rect">
            <a:avLst/>
          </a:prstGeom>
          <a:ln w="0">
            <a:noFill/>
          </a:ln>
        </p:spPr>
      </p:pic>
      <p:pic>
        <p:nvPicPr>
          <p:cNvPr id="78" name="3 Imagen" descr="SARKOZY.jpg"/>
          <p:cNvPicPr/>
          <p:nvPr/>
        </p:nvPicPr>
        <p:blipFill>
          <a:blip r:embed="rId3"/>
          <a:stretch/>
        </p:blipFill>
        <p:spPr>
          <a:xfrm>
            <a:off x="642960" y="4071960"/>
            <a:ext cx="2928960" cy="2486160"/>
          </a:xfrm>
          <a:prstGeom prst="rect">
            <a:avLst/>
          </a:prstGeom>
          <a:ln w="0">
            <a:noFill/>
          </a:ln>
        </p:spPr>
      </p:pic>
      <p:pic>
        <p:nvPicPr>
          <p:cNvPr id="79" name="4 Imagen" descr="fran 4.jpg"/>
          <p:cNvPicPr/>
          <p:nvPr/>
        </p:nvPicPr>
        <p:blipFill>
          <a:blip r:embed="rId4"/>
          <a:stretch/>
        </p:blipFill>
        <p:spPr>
          <a:xfrm>
            <a:off x="642960" y="174600"/>
            <a:ext cx="2928960" cy="3397320"/>
          </a:xfrm>
          <a:prstGeom prst="rect">
            <a:avLst/>
          </a:prstGeom>
          <a:ln w="0">
            <a:noFill/>
          </a:ln>
        </p:spPr>
      </p:pic>
      <p:sp>
        <p:nvSpPr>
          <p:cNvPr id="80" name="5 CuadroTexto"/>
          <p:cNvSpPr/>
          <p:nvPr/>
        </p:nvSpPr>
        <p:spPr>
          <a:xfrm>
            <a:off x="3529440" y="2857680"/>
            <a:ext cx="270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Tout  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tres bi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 Imagen" descr="fran 39.jpg"/>
          <p:cNvPicPr/>
          <p:nvPr/>
        </p:nvPicPr>
        <p:blipFill>
          <a:blip r:embed="rId1"/>
          <a:stretch/>
        </p:blipFill>
        <p:spPr>
          <a:xfrm>
            <a:off x="7920" y="1643040"/>
            <a:ext cx="9136080" cy="3714840"/>
          </a:xfrm>
          <a:prstGeom prst="rect">
            <a:avLst/>
          </a:prstGeom>
          <a:ln w="0">
            <a:noFill/>
          </a:ln>
        </p:spPr>
      </p:pic>
      <p:sp>
        <p:nvSpPr>
          <p:cNvPr id="82" name="2 CuadroTexto"/>
          <p:cNvSpPr/>
          <p:nvPr/>
        </p:nvSpPr>
        <p:spPr>
          <a:xfrm>
            <a:off x="1357560" y="357120"/>
            <a:ext cx="68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Edwardian Script ITC"/>
              </a:rPr>
              <a:t>Cartier du la Defense -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paris 228+la def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Imagen" descr="90432607_t6B7jg8J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90441745_oqluC8ue_3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Imagen" descr="fran 4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 Imagen" descr="fran 42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fran 43.jpg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Imagen" descr="fran 44.jpg"/>
          <p:cNvPicPr/>
          <p:nvPr/>
        </p:nvPicPr>
        <p:blipFill>
          <a:blip r:embed="rId1"/>
          <a:stretch/>
        </p:blipFill>
        <p:spPr>
          <a:xfrm>
            <a:off x="1928880" y="-7920"/>
            <a:ext cx="5715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fran 17.jpg"/>
          <p:cNvPicPr/>
          <p:nvPr/>
        </p:nvPicPr>
        <p:blipFill>
          <a:blip r:embed="rId1"/>
          <a:stretch/>
        </p:blipFill>
        <p:spPr>
          <a:xfrm>
            <a:off x="178596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ran 108+14+7+.jpg"/>
          <p:cNvPicPr/>
          <p:nvPr/>
        </p:nvPicPr>
        <p:blipFill>
          <a:blip r:embed="rId1"/>
          <a:stretch/>
        </p:blipFill>
        <p:spPr>
          <a:xfrm>
            <a:off x="-3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Imagen" descr="paris 3.jpg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2 CuadroTexto"/>
          <p:cNvSpPr/>
          <p:nvPr/>
        </p:nvSpPr>
        <p:spPr>
          <a:xfrm>
            <a:off x="-2735640" y="0"/>
            <a:ext cx="144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Grupo de maquetas de la construcción, ya iniciada del Nuevo Parí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sobre ambas riveras del rio Sena hacia el Atlán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 Imagen" descr="paris 4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Imagen" descr="PARIS FUTURO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Imagen" descr="paris 5.jpg"/>
          <p:cNvPicPr/>
          <p:nvPr/>
        </p:nvPicPr>
        <p:blipFill>
          <a:blip r:embed="rId1"/>
          <a:stretch/>
        </p:blipFill>
        <p:spPr>
          <a:xfrm>
            <a:off x="0" y="1440"/>
            <a:ext cx="9147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PARIS FUT.2.jpg"/>
          <p:cNvPicPr/>
          <p:nvPr/>
        </p:nvPicPr>
        <p:blipFill>
          <a:blip r:embed="rId1"/>
          <a:stretch/>
        </p:blipFill>
        <p:spPr>
          <a:xfrm>
            <a:off x="1071720" y="30240"/>
            <a:ext cx="70722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>
            <a:alpha val="8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 Imagen" descr="fran 14.jpg"/>
          <p:cNvPicPr/>
          <p:nvPr/>
        </p:nvPicPr>
        <p:blipFill>
          <a:blip r:embed="rId1"/>
          <a:stretch/>
        </p:blipFill>
        <p:spPr>
          <a:xfrm>
            <a:off x="2000160" y="-42840"/>
            <a:ext cx="535788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On The Heights Of Monmartre, Paris.jpg"/>
          <p:cNvPicPr/>
          <p:nvPr/>
        </p:nvPicPr>
        <p:blipFill>
          <a:blip r:embed="rId1"/>
          <a:stretch/>
        </p:blipFill>
        <p:spPr>
          <a:xfrm>
            <a:off x="-76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686320" y="600084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Monmartre  - 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Grand Horloge In Musee D'Orsay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5143680" y="2857680"/>
            <a:ext cx="396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Edwardian Script ITC"/>
              </a:rPr>
              <a:t>Grand Horloge en Musee D'Or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afe in Paris.jpg"/>
          <p:cNvPicPr/>
          <p:nvPr/>
        </p:nvPicPr>
        <p:blipFill>
          <a:blip r:embed="rId1"/>
          <a:stretch/>
        </p:blipFill>
        <p:spPr>
          <a:xfrm>
            <a:off x="-7776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fran 12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fran 11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-860040" y="1346040"/>
            <a:ext cx="5752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Madame la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du Sarko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Abbey St.Michel, Norman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271520" y="6357960"/>
            <a:ext cx="630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Abbadia St.Michel,  - Norm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Chateau Chenonceaux, Loire Vall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119240" y="6000840"/>
            <a:ext cx="68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Chateau Chenonceaux, - Valle du la L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French Condominium In Troglodytes, Amboise.jpg"/>
          <p:cNvPicPr/>
          <p:nvPr/>
        </p:nvPicPr>
        <p:blipFill>
          <a:blip r:embed="rId1"/>
          <a:stretch/>
        </p:blipFill>
        <p:spPr>
          <a:xfrm>
            <a:off x="0" y="-34920"/>
            <a:ext cx="5715000" cy="6892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857920" y="2857680"/>
            <a:ext cx="32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Condomi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Troglodi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Amb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reakfast Of Rich, Cannes.jpg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-84240" y="5715000"/>
            <a:ext cx="25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Edwardian Script ITC"/>
              </a:rPr>
              <a:t>Can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harming Fountain In St.Paul, Provence.jpg"/>
          <p:cNvPicPr/>
          <p:nvPr/>
        </p:nvPicPr>
        <p:blipFill>
          <a:blip r:embed="rId1"/>
          <a:stretch/>
        </p:blipFill>
        <p:spPr>
          <a:xfrm>
            <a:off x="0" y="27000"/>
            <a:ext cx="5715000" cy="6834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181480" y="271476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Fuente  pu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St.Pau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Pro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Fish Market In Nice, Provence.jpg"/>
          <p:cNvPicPr/>
          <p:nvPr/>
        </p:nvPicPr>
        <p:blipFill>
          <a:blip r:embed="rId1"/>
          <a:stretch/>
        </p:blipFill>
        <p:spPr>
          <a:xfrm>
            <a:off x="0" y="-73080"/>
            <a:ext cx="5715000" cy="6931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857920" y="2643120"/>
            <a:ext cx="314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Les prod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Du la 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Yachts In Cannes, Proven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917000" y="585792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Edwardian Script ITC"/>
              </a:rPr>
              <a:t>Cannes  -  Pro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fran 13.jpg"/>
          <p:cNvPicPr/>
          <p:nvPr/>
        </p:nvPicPr>
        <p:blipFill>
          <a:blip r:embed="rId1"/>
          <a:stretch/>
        </p:blipFill>
        <p:spPr>
          <a:xfrm>
            <a:off x="1143000" y="0"/>
            <a:ext cx="7000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Royal Chateau Chambord, Loire Valley.jpg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876240" y="5857920"/>
            <a:ext cx="712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Edwardian Script ITC"/>
              </a:rPr>
              <a:t>Chateau Chambord  -  Valle du la Lo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Medieval Strasburg, Alsa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696240" y="5857920"/>
            <a:ext cx="787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Edwardian Script ITC"/>
              </a:rPr>
              <a:t>Medieval Strasburg, Als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fran 116+loouvre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Medieval Petite France, Strasbur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Hotel Dieu In Beanne, Burgundy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-127080" y="5943600"/>
            <a:ext cx="9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Edwardian Script ITC"/>
              </a:rPr>
              <a:t>Hotel Dieu en Beanne  -  Burgu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AURICIO\Pictures\ameves 20.jpg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Imagen" descr="ban fran 4-mej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2 CuadroTexto"/>
          <p:cNvSpPr/>
          <p:nvPr/>
        </p:nvSpPr>
        <p:spPr>
          <a:xfrm>
            <a:off x="461880" y="3357720"/>
            <a:ext cx="752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Edwardian Script ITC"/>
              </a:rPr>
              <a:t>C’est  la 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1 Imagen" descr="ban fran 3 mejilla.jpg"/>
          <p:cNvPicPr/>
          <p:nvPr/>
        </p:nvPicPr>
        <p:blipFill>
          <a:blip r:embed="rId1"/>
          <a:stretch/>
        </p:blipFill>
        <p:spPr>
          <a:xfrm>
            <a:off x="-22320" y="0"/>
            <a:ext cx="91998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2 CuadroTexto"/>
          <p:cNvSpPr/>
          <p:nvPr/>
        </p:nvSpPr>
        <p:spPr>
          <a:xfrm>
            <a:off x="-660960" y="285840"/>
            <a:ext cx="58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bfbfbf"/>
                </a:solidFill>
                <a:latin typeface="Edwardian Script ITC"/>
              </a:rPr>
              <a:t>Au revoire a tous</a:t>
            </a:r>
            <a:r>
              <a:rPr b="0" lang="es-AR" sz="4000" spc="-1" strike="noStrike">
                <a:solidFill>
                  <a:srgbClr val="bfbfbf"/>
                </a:solidFill>
                <a:latin typeface="Vivaldi"/>
              </a:rPr>
              <a:t>…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CuadroTexto"/>
          <p:cNvSpPr/>
          <p:nvPr/>
        </p:nvSpPr>
        <p:spPr>
          <a:xfrm>
            <a:off x="153360" y="59292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L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5 Imagen" descr="manzan-mauric.jpg"/>
          <p:cNvPicPr/>
          <p:nvPr/>
        </p:nvPicPr>
        <p:blipFill>
          <a:blip r:embed="rId2"/>
          <a:stretch/>
        </p:blipFill>
        <p:spPr>
          <a:xfrm>
            <a:off x="214200" y="5549760"/>
            <a:ext cx="1428840" cy="1094040"/>
          </a:xfrm>
          <a:prstGeom prst="rect">
            <a:avLst/>
          </a:prstGeom>
          <a:ln w="0">
            <a:noFill/>
          </a:ln>
        </p:spPr>
      </p:pic>
      <p:sp>
        <p:nvSpPr>
          <p:cNvPr id="133" name="6 CuadroTexto"/>
          <p:cNvSpPr/>
          <p:nvPr/>
        </p:nvSpPr>
        <p:spPr>
          <a:xfrm>
            <a:off x="50040" y="5857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ritannic Bold"/>
              </a:rPr>
              <a:t>DEL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paris 13+des halles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-702000" y="292896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Centre  Pompid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fran 117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paris 5+4 arrondissement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paris 17+quai de la tournelle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20:40:41Z</dcterms:created>
  <dc:creator>mauricio</dc:creator>
  <dc:description/>
  <dc:language>en-US</dc:language>
  <cp:lastModifiedBy>mauricio</cp:lastModifiedBy>
  <dcterms:modified xsi:type="dcterms:W3CDTF">2009-06-27T23:20:10Z</dcterms:modified>
  <cp:revision>20</cp:revision>
  <dc:subject/>
  <dc:title>Diapositiva 1</dc:title>
</cp:coreProperties>
</file>