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5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6.jpeg" ContentType="image/jpeg"/>
  <Override PartName="/ppt/media/la%20marseillese%20-%20mireille%20math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AA9B-C9F2-4E9D-A801-69CFBCFB674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3782-2FA8-48D5-8000-6B2D9F777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5970-35A3-4A06-8E32-7644E330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8A7F-7558-4FE8-BF91-2B9580B4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2434-3905-4469-B3AD-B234AE1A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6052-5A43-439A-AD29-5D00CDBF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5FF-BF06-4FAF-A853-D19685C61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C53A-5389-4230-A492-9E46EFA5C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B4F-30D2-45DC-9924-AB9355737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F638-83C6-48DB-BF92-2EEBFB44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505D-9912-410F-AC8A-BD7EE127B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6E2B-351A-452D-8BD3-51F2CDFB5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86E9-7689-46AD-AC1C-FDDC401F2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2245-527D-4664-8AA8-907A5B38F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2218-F66D-4971-9912-E8E3CAD26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B97-98B0-410A-A41E-12DA2B34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26D-ECC7-4934-8246-CA8FD11F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018-C4D9-4128-92DE-A13F7570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82B-7ADA-48E3-B765-0C018E52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EA5-C780-4FE3-AD21-E48910E0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1B6-2B4D-49D3-8227-077A729D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C90-0551-4F8A-BD9C-CAD49F81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148-CD10-4E9D-85D8-20421349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10C-0FBC-4BE1-A847-660C0B2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F81-9AFF-4C49-97E5-9726197F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B27-B06A-4A2D-9DA2-57DE9F3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406-2FB0-4811-8245-055F0750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D1D2-7985-4E96-A096-8C671480F24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marseillese%20-%20mireille%20mat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fran 109+dia libertad.jpg"/>
          <p:cNvPicPr/>
          <p:nvPr/>
        </p:nvPicPr>
        <p:blipFill>
          <a:blip r:embed="rId1"/>
          <a:stretch/>
        </p:blipFill>
        <p:spPr>
          <a:xfrm>
            <a:off x="4071960" y="4680"/>
            <a:ext cx="5072040" cy="6848640"/>
          </a:xfrm>
          <a:prstGeom prst="rect">
            <a:avLst/>
          </a:prstGeom>
          <a:ln w="0">
            <a:noFill/>
          </a:ln>
        </p:spPr>
      </p:pic>
      <p:sp>
        <p:nvSpPr>
          <p:cNvPr id="49" name="2 CuadroTexto"/>
          <p:cNvSpPr/>
          <p:nvPr/>
        </p:nvSpPr>
        <p:spPr>
          <a:xfrm>
            <a:off x="-794880" y="449280"/>
            <a:ext cx="555876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0000"/>
                </a:solidFill>
                <a:latin typeface="Edwardian Script ITC"/>
              </a:rPr>
              <a:t>14 Jouillet 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0000"/>
                </a:solidFill>
                <a:latin typeface="Edwardian Script ITC"/>
              </a:rPr>
              <a:t>Jour de la Fr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Edwardian Script ITC"/>
              </a:rPr>
              <a:t>Aniversaire  du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Bodoni MT Black"/>
              </a:rPr>
              <a:t>LIB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Bodoni MT Black"/>
              </a:rPr>
              <a:t>FRATERN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Bodoni MT Black"/>
              </a:rPr>
              <a:t>EGA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paris 15+montmartre.jp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paris 19+pont alexandre iii.jpg"/>
          <p:cNvPicPr/>
          <p:nvPr/>
        </p:nvPicPr>
        <p:blipFill>
          <a:blip r:embed="rId1"/>
          <a:stretch/>
        </p:blipFill>
        <p:spPr>
          <a:xfrm>
            <a:off x="0" y="123840"/>
            <a:ext cx="91440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paris 21+pasarel des arts.jpg"/>
          <p:cNvPicPr/>
          <p:nvPr/>
        </p:nvPicPr>
        <p:blipFill>
          <a:blip r:embed="rId1"/>
          <a:stretch/>
        </p:blipFill>
        <p:spPr>
          <a:xfrm>
            <a:off x="4000680" y="-42840"/>
            <a:ext cx="5143320" cy="6905520"/>
          </a:xfrm>
          <a:prstGeom prst="rect">
            <a:avLst/>
          </a:prstGeom>
          <a:ln w="0">
            <a:noFill/>
          </a:ln>
        </p:spPr>
      </p:pic>
      <p:sp>
        <p:nvSpPr>
          <p:cNvPr id="64" name="2 CuadroTexto"/>
          <p:cNvSpPr/>
          <p:nvPr/>
        </p:nvSpPr>
        <p:spPr>
          <a:xfrm>
            <a:off x="-37800" y="2214720"/>
            <a:ext cx="392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Edwardian Script ITC"/>
              </a:rPr>
              <a:t>Pasare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Edwardian Script ITC"/>
              </a:rPr>
              <a:t>de las Ar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aris 27+eif y trocader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2 CuadroTexto"/>
          <p:cNvSpPr/>
          <p:nvPr/>
        </p:nvSpPr>
        <p:spPr>
          <a:xfrm>
            <a:off x="2395440" y="0"/>
            <a:ext cx="34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Edwardian Script ITC"/>
              </a:rPr>
              <a:t>Le  Troca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paris 30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paris 202.jpg"/>
          <p:cNvPicPr/>
          <p:nvPr/>
        </p:nvPicPr>
        <p:blipFill>
          <a:blip r:embed="rId1"/>
          <a:stretch/>
        </p:blipFill>
        <p:spPr>
          <a:xfrm>
            <a:off x="171468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paris 209+palacio luxembur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997640" y="0"/>
            <a:ext cx="49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Edwardian Script ITC"/>
              </a:rPr>
              <a:t>Palais du Luxembu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paris 216+petit palace.jpg"/>
          <p:cNvPicPr/>
          <p:nvPr/>
        </p:nvPicPr>
        <p:blipFill>
          <a:blip r:embed="rId1"/>
          <a:stretch/>
        </p:blipFill>
        <p:spPr>
          <a:xfrm>
            <a:off x="3643200" y="22320"/>
            <a:ext cx="5500800" cy="6835680"/>
          </a:xfrm>
          <a:prstGeom prst="rect">
            <a:avLst/>
          </a:prstGeom>
          <a:ln w="0">
            <a:noFill/>
          </a:ln>
        </p:spPr>
      </p:pic>
      <p:sp>
        <p:nvSpPr>
          <p:cNvPr id="72" name="2 CuadroTexto"/>
          <p:cNvSpPr/>
          <p:nvPr/>
        </p:nvSpPr>
        <p:spPr>
          <a:xfrm>
            <a:off x="123840" y="2286000"/>
            <a:ext cx="322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Edwardian Script ITC"/>
              </a:rPr>
              <a:t>Petit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Edwardian Script ITC"/>
              </a:rPr>
              <a:t>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paris 220.jpg"/>
          <p:cNvPicPr/>
          <p:nvPr/>
        </p:nvPicPr>
        <p:blipFill>
          <a:blip r:embed="rId1"/>
          <a:stretch/>
        </p:blipFill>
        <p:spPr>
          <a:xfrm>
            <a:off x="2857680" y="-47520"/>
            <a:ext cx="6286320" cy="6905520"/>
          </a:xfrm>
          <a:prstGeom prst="rect">
            <a:avLst/>
          </a:prstGeom>
          <a:ln w="0">
            <a:noFill/>
          </a:ln>
        </p:spPr>
      </p:pic>
      <p:sp>
        <p:nvSpPr>
          <p:cNvPr id="74" name="2 CuadroTexto"/>
          <p:cNvSpPr/>
          <p:nvPr/>
        </p:nvSpPr>
        <p:spPr>
          <a:xfrm>
            <a:off x="-229680" y="2071800"/>
            <a:ext cx="327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Detalle 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pu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“</a:t>
            </a: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Alejandro  3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Edwardian Script ITC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 Imagen" descr="paris 222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fran 2.jpg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-1085400" y="2192400"/>
            <a:ext cx="6449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0000"/>
                </a:solidFill>
                <a:latin typeface="Edwardian Script ITC"/>
              </a:rPr>
              <a:t>Monsieur le Presi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0000"/>
                </a:solidFill>
                <a:latin typeface="Edwardian Script ITC"/>
              </a:rPr>
              <a:t>Dr. Nicolás Sarkoz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Imagen" descr="fran 6.jpg"/>
          <p:cNvPicPr/>
          <p:nvPr/>
        </p:nvPicPr>
        <p:blipFill>
          <a:blip r:embed="rId1"/>
          <a:stretch/>
        </p:blipFill>
        <p:spPr>
          <a:xfrm>
            <a:off x="6215040" y="45720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7" name="2 Imagen" descr="fran 7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4357800"/>
          </a:xfrm>
          <a:prstGeom prst="rect">
            <a:avLst/>
          </a:prstGeom>
          <a:ln w="0">
            <a:noFill/>
          </a:ln>
        </p:spPr>
      </p:pic>
      <p:pic>
        <p:nvPicPr>
          <p:cNvPr id="78" name="3 Imagen" descr="SARKOZY.jpg"/>
          <p:cNvPicPr/>
          <p:nvPr/>
        </p:nvPicPr>
        <p:blipFill>
          <a:blip r:embed="rId3"/>
          <a:stretch/>
        </p:blipFill>
        <p:spPr>
          <a:xfrm>
            <a:off x="642960" y="4071960"/>
            <a:ext cx="2928960" cy="2486160"/>
          </a:xfrm>
          <a:prstGeom prst="rect">
            <a:avLst/>
          </a:prstGeom>
          <a:ln w="0">
            <a:noFill/>
          </a:ln>
        </p:spPr>
      </p:pic>
      <p:pic>
        <p:nvPicPr>
          <p:cNvPr id="79" name="4 Imagen" descr="fran 4.jpg"/>
          <p:cNvPicPr/>
          <p:nvPr/>
        </p:nvPicPr>
        <p:blipFill>
          <a:blip r:embed="rId4"/>
          <a:stretch/>
        </p:blipFill>
        <p:spPr>
          <a:xfrm>
            <a:off x="642960" y="174600"/>
            <a:ext cx="2928960" cy="3397320"/>
          </a:xfrm>
          <a:prstGeom prst="rect">
            <a:avLst/>
          </a:prstGeom>
          <a:ln w="0">
            <a:noFill/>
          </a:ln>
        </p:spPr>
      </p:pic>
      <p:sp>
        <p:nvSpPr>
          <p:cNvPr id="80" name="5 CuadroTexto"/>
          <p:cNvSpPr/>
          <p:nvPr/>
        </p:nvSpPr>
        <p:spPr>
          <a:xfrm>
            <a:off x="3529440" y="2857680"/>
            <a:ext cx="270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Edwardian Script ITC"/>
              </a:rPr>
              <a:t>Tout  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Edwardian Script ITC"/>
              </a:rPr>
              <a:t>tres bi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 Imagen" descr="fran 39.jpg"/>
          <p:cNvPicPr/>
          <p:nvPr/>
        </p:nvPicPr>
        <p:blipFill>
          <a:blip r:embed="rId1"/>
          <a:stretch/>
        </p:blipFill>
        <p:spPr>
          <a:xfrm>
            <a:off x="7920" y="1643040"/>
            <a:ext cx="9136080" cy="3714840"/>
          </a:xfrm>
          <a:prstGeom prst="rect">
            <a:avLst/>
          </a:prstGeom>
          <a:ln w="0">
            <a:noFill/>
          </a:ln>
        </p:spPr>
      </p:pic>
      <p:sp>
        <p:nvSpPr>
          <p:cNvPr id="82" name="2 CuadroTexto"/>
          <p:cNvSpPr/>
          <p:nvPr/>
        </p:nvSpPr>
        <p:spPr>
          <a:xfrm>
            <a:off x="1357560" y="357120"/>
            <a:ext cx="68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Edwardian Script ITC"/>
              </a:rPr>
              <a:t>Cartier du la Defense - 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paris 228+la def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Imagen" descr="90432607_t6B7jg8J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Imagen" descr="90441745_oqluC8ue_3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Imagen" descr="fran 41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 Imagen" descr="fran 42.jpg"/>
          <p:cNvPicPr/>
          <p:nvPr/>
        </p:nvPicPr>
        <p:blipFill>
          <a:blip r:embed="rId1"/>
          <a:stretch/>
        </p:blipFill>
        <p:spPr>
          <a:xfrm>
            <a:off x="1857240" y="0"/>
            <a:ext cx="55724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Imagen" descr="fran 43.jpg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 Imagen" descr="fran 44.jpg"/>
          <p:cNvPicPr/>
          <p:nvPr/>
        </p:nvPicPr>
        <p:blipFill>
          <a:blip r:embed="rId1"/>
          <a:stretch/>
        </p:blipFill>
        <p:spPr>
          <a:xfrm>
            <a:off x="1928880" y="-7920"/>
            <a:ext cx="5715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 Imagen" descr="fran 17.jpg"/>
          <p:cNvPicPr/>
          <p:nvPr/>
        </p:nvPicPr>
        <p:blipFill>
          <a:blip r:embed="rId1"/>
          <a:stretch/>
        </p:blipFill>
        <p:spPr>
          <a:xfrm>
            <a:off x="1785960" y="0"/>
            <a:ext cx="56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fran 108+14+7+.jpg"/>
          <p:cNvPicPr/>
          <p:nvPr/>
        </p:nvPicPr>
        <p:blipFill>
          <a:blip r:embed="rId1"/>
          <a:stretch/>
        </p:blipFill>
        <p:spPr>
          <a:xfrm>
            <a:off x="-324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Imagen" descr="paris 3.jpg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2 CuadroTexto"/>
          <p:cNvSpPr/>
          <p:nvPr/>
        </p:nvSpPr>
        <p:spPr>
          <a:xfrm>
            <a:off x="-2735640" y="0"/>
            <a:ext cx="144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Edwardian Script ITC"/>
              </a:rPr>
              <a:t>Grupo de maquetas de la construcción, ya iniciada del Nuevo Parí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Edwardian Script ITC"/>
              </a:rPr>
              <a:t>sobre ambas riveras del rio Sena hacia el Atlán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 Imagen" descr="paris 4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Imagen" descr="PARIS FUTURO.jp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 Imagen" descr="paris 5.jpg"/>
          <p:cNvPicPr/>
          <p:nvPr/>
        </p:nvPicPr>
        <p:blipFill>
          <a:blip r:embed="rId1"/>
          <a:stretch/>
        </p:blipFill>
        <p:spPr>
          <a:xfrm>
            <a:off x="0" y="1440"/>
            <a:ext cx="91472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Imagen" descr="PARIS FUT.2.jpg"/>
          <p:cNvPicPr/>
          <p:nvPr/>
        </p:nvPicPr>
        <p:blipFill>
          <a:blip r:embed="rId1"/>
          <a:stretch/>
        </p:blipFill>
        <p:spPr>
          <a:xfrm>
            <a:off x="1071720" y="30240"/>
            <a:ext cx="70722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>
            <a:alpha val="8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 Imagen" descr="fran 14.jpg"/>
          <p:cNvPicPr/>
          <p:nvPr/>
        </p:nvPicPr>
        <p:blipFill>
          <a:blip r:embed="rId1"/>
          <a:stretch/>
        </p:blipFill>
        <p:spPr>
          <a:xfrm>
            <a:off x="2000160" y="-42840"/>
            <a:ext cx="535788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On The Heights Of Monmartre, Paris.jpg"/>
          <p:cNvPicPr/>
          <p:nvPr/>
        </p:nvPicPr>
        <p:blipFill>
          <a:blip r:embed="rId1"/>
          <a:stretch/>
        </p:blipFill>
        <p:spPr>
          <a:xfrm>
            <a:off x="-7632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686320" y="6000840"/>
            <a:ext cx="47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Monmartre  -  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Grand Horloge In Musee D'Orsay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5143680" y="2857680"/>
            <a:ext cx="396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Edwardian Script ITC"/>
              </a:rPr>
              <a:t>Grand Horloge en Musee D'Ors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Cafe in Paris.jpg"/>
          <p:cNvPicPr/>
          <p:nvPr/>
        </p:nvPicPr>
        <p:blipFill>
          <a:blip r:embed="rId1"/>
          <a:stretch/>
        </p:blipFill>
        <p:spPr>
          <a:xfrm>
            <a:off x="-7776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Imagen" descr="fran 12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fran 11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3 CuadroTexto"/>
          <p:cNvSpPr/>
          <p:nvPr/>
        </p:nvSpPr>
        <p:spPr>
          <a:xfrm>
            <a:off x="-860040" y="1346040"/>
            <a:ext cx="5752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deada"/>
                </a:solidFill>
                <a:latin typeface="Edwardian Script ITC"/>
              </a:rPr>
              <a:t>Madame la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deada"/>
                </a:solidFill>
                <a:latin typeface="Edwardian Script ITC"/>
              </a:rPr>
              <a:t>Carla Br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deada"/>
                </a:solidFill>
                <a:latin typeface="Edwardian Script ITC"/>
              </a:rPr>
              <a:t>du Sarko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Abbey St.Michel, Norman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271520" y="6357960"/>
            <a:ext cx="630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Abbadia St.Michel,  - Norma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Chateau Chenonceaux, Loire Vall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119240" y="6000840"/>
            <a:ext cx="68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Chateau Chenonceaux, - Valle du la L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French Condominium In Troglodytes, Amboise.jpg"/>
          <p:cNvPicPr/>
          <p:nvPr/>
        </p:nvPicPr>
        <p:blipFill>
          <a:blip r:embed="rId1"/>
          <a:stretch/>
        </p:blipFill>
        <p:spPr>
          <a:xfrm>
            <a:off x="0" y="-34920"/>
            <a:ext cx="5715000" cy="6892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5857920" y="2857680"/>
            <a:ext cx="32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Condomin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Troglodit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Amb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reakfast Of Rich, Cannes.jpg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-84240" y="5715000"/>
            <a:ext cx="25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Edwardian Script ITC"/>
              </a:rPr>
              <a:t>Can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Charming Fountain In St.Paul, Provence.jpg"/>
          <p:cNvPicPr/>
          <p:nvPr/>
        </p:nvPicPr>
        <p:blipFill>
          <a:blip r:embed="rId1"/>
          <a:stretch/>
        </p:blipFill>
        <p:spPr>
          <a:xfrm>
            <a:off x="0" y="27000"/>
            <a:ext cx="5715000" cy="6834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181480" y="271476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Edwardian Script ITC"/>
              </a:rPr>
              <a:t>Fuente  pu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Edwardian Script ITC"/>
              </a:rPr>
              <a:t>St.Paul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Edwardian Script ITC"/>
              </a:rPr>
              <a:t>Pro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Fish Market In Nice, Provence.jpg"/>
          <p:cNvPicPr/>
          <p:nvPr/>
        </p:nvPicPr>
        <p:blipFill>
          <a:blip r:embed="rId1"/>
          <a:stretch/>
        </p:blipFill>
        <p:spPr>
          <a:xfrm>
            <a:off x="0" y="-73080"/>
            <a:ext cx="5715000" cy="6931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5857920" y="2643120"/>
            <a:ext cx="3143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dwardian Script ITC"/>
              </a:rPr>
              <a:t>Les prod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dwardian Script ITC"/>
              </a:rPr>
              <a:t>Du la 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Yachts In Cannes, Proven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917000" y="5857920"/>
            <a:ext cx="53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Edwardian Script ITC"/>
              </a:rPr>
              <a:t>Cannes  -  Pro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Imagen" descr="fran 13.jpg"/>
          <p:cNvPicPr/>
          <p:nvPr/>
        </p:nvPicPr>
        <p:blipFill>
          <a:blip r:embed="rId1"/>
          <a:stretch/>
        </p:blipFill>
        <p:spPr>
          <a:xfrm>
            <a:off x="1143000" y="0"/>
            <a:ext cx="70009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Royal Chateau Chambord, Loire Valley.jpg"/>
          <p:cNvPicPr/>
          <p:nvPr/>
        </p:nvPicPr>
        <p:blipFill>
          <a:blip r:embed="rId1"/>
          <a:stretch/>
        </p:blipFill>
        <p:spPr>
          <a:xfrm>
            <a:off x="158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876240" y="5857920"/>
            <a:ext cx="712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Edwardian Script ITC"/>
              </a:rPr>
              <a:t>Chateau Chambord  -  Valle du la Lo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Medieval Strasburg, Alsa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696240" y="5857920"/>
            <a:ext cx="787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Edwardian Script ITC"/>
              </a:rPr>
              <a:t>Medieval Strasburg, Als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fran 116+loouvre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Medieval Petite France, Strasbur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Hotel Dieu In Beanne, Burgundy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-127080" y="5943600"/>
            <a:ext cx="927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Edwardian Script ITC"/>
              </a:rPr>
              <a:t>Hotel Dieu en Beanne  -  Burgu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MAURICIO\Pictures\ameves 20.jpg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 Imagen" descr="ban fran 4-mej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2 CuadroTexto"/>
          <p:cNvSpPr/>
          <p:nvPr/>
        </p:nvSpPr>
        <p:spPr>
          <a:xfrm>
            <a:off x="461880" y="3357720"/>
            <a:ext cx="752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Edwardian Script ITC"/>
              </a:rPr>
              <a:t>C’est  la 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1 Imagen" descr="ban fran 3 mejilla.jpg"/>
          <p:cNvPicPr/>
          <p:nvPr/>
        </p:nvPicPr>
        <p:blipFill>
          <a:blip r:embed="rId1"/>
          <a:stretch/>
        </p:blipFill>
        <p:spPr>
          <a:xfrm>
            <a:off x="-22320" y="0"/>
            <a:ext cx="91998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2 CuadroTexto"/>
          <p:cNvSpPr/>
          <p:nvPr/>
        </p:nvSpPr>
        <p:spPr>
          <a:xfrm>
            <a:off x="-660960" y="285840"/>
            <a:ext cx="586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bfbfbf"/>
                </a:solidFill>
                <a:latin typeface="Edwardian Script ITC"/>
              </a:rPr>
              <a:t>Au revoire a tous</a:t>
            </a:r>
            <a:r>
              <a:rPr b="0" lang="es-AR" sz="4000" spc="-1" strike="noStrike">
                <a:solidFill>
                  <a:srgbClr val="bfbfbf"/>
                </a:solidFill>
                <a:latin typeface="Vivaldi"/>
              </a:rPr>
              <a:t>…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CuadroTexto"/>
          <p:cNvSpPr/>
          <p:nvPr/>
        </p:nvSpPr>
        <p:spPr>
          <a:xfrm>
            <a:off x="153360" y="592920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L MANZ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5 Imagen" descr="manzan-mauric.jpg"/>
          <p:cNvPicPr/>
          <p:nvPr/>
        </p:nvPicPr>
        <p:blipFill>
          <a:blip r:embed="rId2"/>
          <a:stretch/>
        </p:blipFill>
        <p:spPr>
          <a:xfrm>
            <a:off x="214200" y="5549760"/>
            <a:ext cx="1428840" cy="1094040"/>
          </a:xfrm>
          <a:prstGeom prst="rect">
            <a:avLst/>
          </a:prstGeom>
          <a:ln w="0">
            <a:noFill/>
          </a:ln>
        </p:spPr>
      </p:pic>
      <p:sp>
        <p:nvSpPr>
          <p:cNvPr id="133" name="6 CuadroTexto"/>
          <p:cNvSpPr/>
          <p:nvPr/>
        </p:nvSpPr>
        <p:spPr>
          <a:xfrm>
            <a:off x="50040" y="58579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Britannic Bold"/>
              </a:rPr>
              <a:t>DEL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paris 13+des halles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2 CuadroTexto"/>
          <p:cNvSpPr/>
          <p:nvPr/>
        </p:nvSpPr>
        <p:spPr>
          <a:xfrm>
            <a:off x="-702000" y="2928960"/>
            <a:ext cx="537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Edwardian Script ITC"/>
              </a:rPr>
              <a:t>Centre  Pompid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fran 117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paris 5+4 arrondissement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paris 17+quai de la tournelle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20:40:41Z</dcterms:created>
  <dc:creator>mauricio</dc:creator>
  <dc:description/>
  <dc:language>en-US</dc:language>
  <cp:lastModifiedBy>mauricio</cp:lastModifiedBy>
  <dcterms:modified xsi:type="dcterms:W3CDTF">2009-06-27T23:20:10Z</dcterms:modified>
  <cp:revision>20</cp:revision>
  <dc:subject/>
  <dc:title>Diapositiva 1</dc:title>
</cp:coreProperties>
</file>