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Moon%20River%20-%20Andy%20Williams%20ccx.wav" ContentType="audio/x-wav"/>
  <Override PartName="/ppt/media/image44.jpeg" ContentType="image/jpeg"/>
  <Override PartName="/ppt/media/image43.jpeg" ContentType="image/jpeg"/>
  <Override PartName="/ppt/media/Que%20Sera%20Sera%20-%20Doris%20Day%20ccpps1.wav" ContentType="audio/x-wav"/>
  <Override PartName="/ppt/media/image36.jpeg" ContentType="image/jpeg"/>
  <Override PartName="/ppt/media/image35.jpeg" ContentType="image/jpeg"/>
  <Override PartName="/ppt/media/image34.jpeg" ContentType="image/jpeg"/>
  <Override PartName="/ppt/media/Love%20Is%20A%20Many%20Splendored%20Thing%20-%204%20Aces%20ccx.wav" ContentType="audio/x-wav"/>
  <Override PartName="/ppt/media/image20.jpeg" ContentType="image/jpeg"/>
  <Override PartName="/ppt/media/image33.png" ContentType="image/png"/>
  <Override PartName="/ppt/media/image54.jpeg" ContentType="image/jpeg"/>
  <Override PartName="/ppt/media/image31.jpeg" ContentType="image/jpeg"/>
  <Override PartName="/ppt/media/image29.jpeg" ContentType="image/jpeg"/>
  <Override PartName="/ppt/media/image12.jpeg" ContentType="image/jpeg"/>
  <Override PartName="/ppt/media/image28.jpeg" ContentType="image/jpeg"/>
  <Override PartName="/ppt/media/image11.jpeg" ContentType="image/jpeg"/>
  <Override PartName="/ppt/media/image27.jpeg" ContentType="image/jpeg"/>
  <Override PartName="/ppt/media/image10.jpeg" ContentType="image/jpeg"/>
  <Override PartName="/ppt/media/image26.jpeg" ContentType="image/jpeg"/>
  <Override PartName="/ppt/media/image25.jpeg" ContentType="image/jpeg"/>
  <Override PartName="/ppt/media/James%20Bond%20%20007%20Theme%20ccx.wav" ContentType="audio/x-wav"/>
  <Override PartName="/ppt/media/image9.jpeg" ContentType="image/jpeg"/>
  <Override PartName="/ppt/media/image39.jpeg" ContentType="image/jpeg"/>
  <Override PartName="/ppt/media/image2.gif" ContentType="image/gif"/>
  <Override PartName="/ppt/media/image17.png" ContentType="image/png"/>
  <Override PartName="/ppt/media/image8.jpeg" ContentType="image/jpeg"/>
  <Override PartName="/ppt/media/image42.jpeg" ContentType="image/jpeg"/>
  <Override PartName="/ppt/media/image59.jpeg" ContentType="image/jpeg"/>
  <Override PartName="/ppt/media/image6.jpeg" ContentType="image/jpeg"/>
  <Override PartName="/ppt/media/As%20Time%20Goes%20By%20-%20Louis%20Armstrong%20ccpps.wav" ContentType="audio/x-wav"/>
  <Override PartName="/ppt/media/image3.jpeg" ContentType="image/jpeg"/>
  <Override PartName="/ppt/media/image37.jpeg" ContentType="image/jpeg"/>
  <Override PartName="/ppt/media/Shane's%20Theme%20ccpps.wav" ContentType="audio/x-wav"/>
  <Override PartName="/ppt/media/image69.jpeg" ContentType="image/jpeg"/>
  <Override PartName="/ppt/media/image56.jpeg" ContentType="image/jpeg"/>
  <Override PartName="/ppt/media/image58.jpeg" ContentType="image/jpeg"/>
  <Override PartName="/ppt/media/image4.jpeg" ContentType="image/jpeg"/>
  <Override PartName="/ppt/media/image51.jpeg" ContentType="image/jpeg"/>
  <Override PartName="/ppt/media/image55.jpeg" ContentType="image/jpeg"/>
  <Override PartName="/ppt/media/Tender%20Is%20The%20Night%20-%20Tony%20Bennett%20ccpps.wav" ContentType="audio/x-wav"/>
  <Override PartName="/ppt/media/image73.jpeg" ContentType="image/jpeg"/>
  <Override PartName="/ppt/media/image76.jpeg" ContentType="image/jpeg"/>
  <Override PartName="/ppt/media/image50.png" ContentType="image/png"/>
  <Override PartName="/ppt/media/image5.jpeg" ContentType="image/jpeg"/>
  <Override PartName="/ppt/media/image75.jpeg" ContentType="image/jpeg"/>
  <Override PartName="/ppt/media/image68.jpeg" ContentType="image/jpeg"/>
  <Override PartName="/ppt/media/The%20pink%20panther%20-%20H%20Mancini%20ccpps.wav" ContentType="audio/x-wav"/>
  <Override PartName="/ppt/media/image60.jpeg" ContentType="image/jpeg"/>
  <Override PartName="/ppt/media/image77.jpeg" ContentType="image/jpeg"/>
  <Override PartName="/ppt/media/image64.png" ContentType="image/png"/>
  <Override PartName="/ppt/media/image15.jpeg" ContentType="image/jpeg"/>
  <Override PartName="/ppt/media/Al%20Di%20La%20%20-%20%20Emilio%20Pericoli%20x.wav" ContentType="audio/x-wav"/>
  <Override PartName="/ppt/media/image74.jpeg" ContentType="image/jpeg"/>
  <Override PartName="/ppt/media/image72.jpeg" ContentType="image/jpeg"/>
  <Override PartName="/ppt/media/image67.jpeg" ContentType="image/jpeg"/>
  <Override PartName="/ppt/media/image66.jpeg" ContentType="image/jpeg"/>
  <Override PartName="/ppt/media/image65.jpeg" ContentType="image/jpeg"/>
  <Override PartName="/ppt/media/image57.jpeg" ContentType="image/jpeg"/>
  <Override PartName="/ppt/media/image63.jpeg" ContentType="image/jpeg"/>
  <Override PartName="/ppt/media/image53.jpeg" ContentType="image/jpeg"/>
  <Override PartName="/ppt/media/image61.jpeg" ContentType="image/jpeg"/>
  <Override PartName="/ppt/media/image78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Pillow%20Talk%20-%20Doris%20Day%20ccpps.wav" ContentType="audio/x-wav"/>
  <Override PartName="/ppt/media/image62.jpeg" ContentType="image/jpeg"/>
  <Override PartName="/ppt/media/image19.png" ContentType="image/png"/>
  <Override PartName="/ppt/media/Moon%20Glow%20-%20The%20Mills%20Brothers%20ccpps.wav" ContentType="audio/x-wav"/>
  <Override PartName="/ppt/media/image71.jpeg" ContentType="image/jpeg"/>
  <Override PartName="/ppt/media/image18.jpeg" ContentType="image/jpeg"/>
  <Override PartName="/ppt/media/image32.jpeg" ContentType="image/jpeg"/>
  <Override PartName="/ppt/media/Singing%20in%20the%20Rain%20-%20Gene%20Kelly%20ccx.wav" ContentType="audio/x-wav"/>
  <Override PartName="/ppt/media/image70.jpeg" ContentType="image/jpeg"/>
  <Override PartName="/ppt/media/Lara's%20theme%20-%20P%20Faith%20ccx3.wav" ContentType="audio/x-wav"/>
  <Override PartName="/ppt/media/image16.jpeg" ContentType="image/jpeg"/>
  <Override PartName="/ppt/media/Night%20and%20Day%20-%20F%20Sinatra%20ccpps.wav" ContentType="audio/x-wav"/>
  <Override PartName="/ppt/media/image30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An%20Affair%20To%20Remember%20-%20Nat%20K%20Cole%20ccx.wav" ContentType="audio/x-wav"/>
  <Override PartName="/ppt/media/image1.png" ContentType="image/png"/>
  <Override PartName="/ppt/media/image52.jpeg" ContentType="image/jpeg"/>
  <Override PartName="/ppt/media/image24.jpeg" ContentType="image/jpeg"/>
  <Override PartName="/ppt/media/Tara's%20Theme%20-%20Percy%20Faith%20ccx1.wav" ContentType="audio/x-wav"/>
  <Override PartName="/ppt/media/image7.jpeg" ContentType="image/jpeg"/>
  <Override PartName="/ppt/media/image3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826" t="5555" r="8635" b="8459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457200" y="0"/>
            <a:ext cx="998208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30492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lick to edit the outline text format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826920" indent="-28548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econd Outline Level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lvl="2" marL="123516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Third Outline Level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lvl="3" marL="164304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Fourth Outline Level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Tara&apos;s%20Theme%20-%20Percy%20Faith%20ccx1.wav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" Target="slide25.xml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audio" Target="../media/Pillow%20Talk%20-%20Doris%20Day%20ccpps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" Target="slide26.xml"/><Relationship Id="rId4" Type="http://schemas.openxmlformats.org/officeDocument/2006/relationships/image" Target="../media/image49.jpeg"/><Relationship Id="rId5" Type="http://schemas.openxmlformats.org/officeDocument/2006/relationships/image" Target="../media/image50.png"/><Relationship Id="rId6" Type="http://schemas.openxmlformats.org/officeDocument/2006/relationships/image" Target="../media/image51.jpeg"/><Relationship Id="rId7" Type="http://schemas.openxmlformats.org/officeDocument/2006/relationships/audio" Target="../media/Moon%20River%20-%20Andy%20Williams%20ccx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" Target="slide27.xml"/><Relationship Id="rId6" Type="http://schemas.openxmlformats.org/officeDocument/2006/relationships/audio" Target="../media/Tender%20Is%20The%20Night%20-%20Tony%20Bennett%20ccpps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" Target="slide28.xml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audio" Target="../media/James%20Bond%20%20007%20Theme%20ccx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png"/><Relationship Id="rId5" Type="http://schemas.openxmlformats.org/officeDocument/2006/relationships/slide" Target="slide29.xml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audio" Target="../media/Al%20Di%20La%20%20-%20%20Emilio%20Pericoli%20x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" Target="slide30.xml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image" Target="../media/image72.jpeg"/><Relationship Id="rId8" Type="http://schemas.openxmlformats.org/officeDocument/2006/relationships/audio" Target="../media/The%20pink%20panther%20-%20H%20Mancini%20ccpps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" Target="slide31.xml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audio" Target="../media/Lara&apos;s%20theme%20-%20P%20Faith%20ccx3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" Target="slide17.xml"/><Relationship Id="rId6" Type="http://schemas.openxmlformats.org/officeDocument/2006/relationships/audio" Target="../media/As%20Time%20Goes%20By%20-%20Louis%20Armstrong%20ccpps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" Target="slide18.xm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audio" Target="../media/Night%20and%20Day%20-%20F%20Sinatra%20ccpps.wav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" Target="slide19.xml"/><Relationship Id="rId7" Type="http://schemas.openxmlformats.org/officeDocument/2006/relationships/audio" Target="../media/Singing%20in%20the%20Rain%20-%20Gene%20Kelly%20ccx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" Target="slide20.xml"/><Relationship Id="rId5" Type="http://schemas.openxmlformats.org/officeDocument/2006/relationships/image" Target="../media/image23.jpeg"/><Relationship Id="rId6" Type="http://schemas.openxmlformats.org/officeDocument/2006/relationships/audio" Target="../media/Shane&apos;s%20Theme%20ccpp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" Target="slide21.xml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audio" Target="../media/Moon%20Glow%20-%20The%20Mills%20Brothers%20ccpps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" Target="slide22.xml"/><Relationship Id="rId6" Type="http://schemas.openxmlformats.org/officeDocument/2006/relationships/audio" Target="../media/Love%20Is%20A%20Many%20Splendored%20Thing%20-%204%20Aces%20ccx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" Target="slide23.xml"/><Relationship Id="rId5" Type="http://schemas.openxmlformats.org/officeDocument/2006/relationships/image" Target="../media/image37.jpeg"/><Relationship Id="rId6" Type="http://schemas.openxmlformats.org/officeDocument/2006/relationships/audio" Target="../media/Que%20Sera%20Sera%20-%20Doris%20Day%20ccpps1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" Target="slide24.xml"/><Relationship Id="rId6" Type="http://schemas.openxmlformats.org/officeDocument/2006/relationships/image" Target="../media/image42.jpeg"/><Relationship Id="rId7" Type="http://schemas.openxmlformats.org/officeDocument/2006/relationships/audio" Target="../media/An%20Affair%20To%20Remember%20-%20Nat%20K%20Cole%20ccx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05840" y="5788080"/>
            <a:ext cx="3510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0000"/>
                </a:solidFill>
                <a:latin typeface="Berlin Sans FB"/>
              </a:rPr>
              <a:t>Tema de Tara   – Percy Fa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09680" y="2286000"/>
            <a:ext cx="48769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Berlin Sans FB Demi"/>
              </a:rPr>
              <a:t>FILMES QUE 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Berlin Sans FB Demi"/>
              </a:rPr>
              <a:t>MARCARON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Berlin Sans FB Demi"/>
              </a:rPr>
              <a:t>ÉPOCA Y 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Berlin Sans FB Demi"/>
              </a:rPr>
              <a:t>SUS CANCIONES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Berlin Sans FB Demi"/>
              </a:rPr>
              <a:t> </a:t>
            </a: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ff0000"/>
                  </a:outerShdw>
                </a:effectLst>
                <a:latin typeface="Berlin Sans FB Demi"/>
              </a:rPr>
              <a:t>INOLVIDABLES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ff0000"/>
                </a:outerShdw>
              </a:effectLst>
              <a:latin typeface="Berlin Sans FB Demi"/>
              <a:ea typeface="Berlin Sans FB Demi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1438920"/>
            <a:ext cx="6324480" cy="349128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50000">
                <a:srgbClr val="ffffff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" rIns="43200" tIns="46800" bIns="46800" anchor="ctr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cc0000"/>
                </a:solidFill>
                <a:uFillTx/>
                <a:latin typeface="Baskerville Old Face"/>
              </a:rPr>
              <a:t>ATEN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876"/>
              </a:spcBef>
              <a:spcAft>
                <a:spcPts val="437"/>
              </a:spcAft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LOS TEMAS MUSICALES DURAN  EL TIEMPO  DE  EXIBICIÓN DE LOS SLIDES Y DE LECTURA DE LOS DADOS DEL FI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876"/>
              </a:spcBef>
              <a:spcAft>
                <a:spcPts val="437"/>
              </a:spcAft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OBTENER INFORMACIONES TECNICAS, SOBRE  ELELENCO Y SINOPSIS DE LA HISTORIA, CLIQUEE SOBRE EL BOTON ROJO INDICA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876"/>
              </a:spcBef>
              <a:spcAft>
                <a:spcPts val="437"/>
              </a:spcAft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CAMBIAR DE FILM, HAGA UN NUEVO CLICK SOBRE EL BOTON BLANCO, EN LA PARTE  INFERIOR DERECHA  DE LA PÁGINA DE INFORM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876"/>
              </a:spcBef>
              <a:spcAft>
                <a:spcPts val="437"/>
              </a:spcAft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N CASO QUE NO  QUIERA LEER LAS INFORMACIONES, BASTA UN CLIQCK SOBRE LA PÁGINA DE LAS IMAGENES DEL FIL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495680" cy="4662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4648320" cy="474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48520" y="5409720"/>
            <a:ext cx="1512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10080"/>
            <a:ext cx="46483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Confidencias a media no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6465" t="2024" r="3008" b="3230"/>
          <a:stretch/>
        </p:blipFill>
        <p:spPr>
          <a:xfrm>
            <a:off x="1371600" y="1143000"/>
            <a:ext cx="2590920" cy="4114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005720" y="6215040"/>
            <a:ext cx="1267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Pillow 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Dori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371600" y="1219320"/>
            <a:ext cx="6400800" cy="403848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371600" y="1143000"/>
            <a:ext cx="6400800" cy="4114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1447920" y="1143000"/>
            <a:ext cx="64008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5520" y="6935760"/>
            <a:ext cx="151308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95360" y="1152360"/>
            <a:ext cx="2681280" cy="4191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5410080"/>
            <a:ext cx="3276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Muñequita  de l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60920" y="6215040"/>
            <a:ext cx="1747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Moon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 </a:t>
            </a: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Andy Willi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47712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3" action="ppaction://hlinksldjump"/>
          </p:cNvPr>
          <p:cNvSpPr/>
          <p:nvPr/>
        </p:nvSpPr>
        <p:spPr>
          <a:xfrm>
            <a:off x="800100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1295280" y="1143000"/>
            <a:ext cx="6553440" cy="4191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1295280" y="1143000"/>
            <a:ext cx="6553440" cy="4140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>
            <a:grayscl/>
            <a:lum contrast="14000"/>
          </a:blip>
          <a:stretch/>
        </p:blipFill>
        <p:spPr>
          <a:xfrm>
            <a:off x="1295280" y="1143000"/>
            <a:ext cx="6477120" cy="41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4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500"/>
                            </p:stCondLst>
                            <p:childTnLst>
                              <p:par>
                                <p:cTn id="243" nodeType="afterEffect" fill="hold" presetClass="entr" presetID="14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" nodeType="afterEffect" fill="hold" presetClass="entr" presetID="14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5" nodeType="afterEffect" fill="hold" presetClass="entr" presetID="14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5715000" cy="4118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00800" y="5409720"/>
            <a:ext cx="129384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410080"/>
            <a:ext cx="30481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Ternura en la no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52320" y="6215040"/>
            <a:ext cx="2395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Ternura en la no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Tony Benn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447920" y="1143000"/>
            <a:ext cx="6324480" cy="4114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477120" cy="4135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495680" y="1143000"/>
            <a:ext cx="3387960" cy="419112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rId5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500"/>
                            </p:stCondLst>
                            <p:childTnLst>
                              <p:par>
                                <p:cTn id="274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9500"/>
                            </p:stCondLst>
                            <p:childTnLst>
                              <p:par>
                                <p:cTn id="286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19920" y="5486400"/>
            <a:ext cx="151272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2889360" cy="4114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5410080"/>
            <a:ext cx="3657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El satánico Dr.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5867280"/>
            <a:ext cx="2514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Tema de James B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Agente 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1371600" y="1143000"/>
            <a:ext cx="6477120" cy="4140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371600" y="1143000"/>
            <a:ext cx="6477120" cy="4125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1371600" y="1143000"/>
            <a:ext cx="6477120" cy="4114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1371600" y="1143000"/>
            <a:ext cx="64771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7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16" presetSubtype="2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1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500"/>
                            </p:stCondLst>
                            <p:childTnLst>
                              <p:par>
                                <p:cTn id="303" nodeType="afterEffect" fill="hold" presetClass="entr" presetID="16" presetSubtype="2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7" nodeType="afterEffect" fill="hold" presetClass="entr" presetID="16" presetSubtype="2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9500"/>
                            </p:stCondLst>
                            <p:childTnLst>
                              <p:par>
                                <p:cTn id="311" nodeType="afterEffect" fill="hold" presetClass="entr" presetID="16" presetSubtype="2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3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1371600" y="1219320"/>
            <a:ext cx="5486400" cy="4038480"/>
            <a:chOff x="1371600" y="1219320"/>
            <a:chExt cx="5486400" cy="403848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1371600" y="1219320"/>
              <a:ext cx="548640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1541160" y="1275120"/>
              <a:ext cx="1187640" cy="218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>
            <a:off x="380880" y="5410080"/>
            <a:ext cx="3353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Berlin Sans FB"/>
              </a:rPr>
              <a:t>Aventura en R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43600" y="5410080"/>
            <a:ext cx="129528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19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53360" y="6215040"/>
            <a:ext cx="1686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Al di l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Emilio Peri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400800" cy="4114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rId5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371600" y="1143000"/>
            <a:ext cx="6400800" cy="4114800"/>
            <a:chOff x="1371600" y="1143000"/>
            <a:chExt cx="6400800" cy="4114800"/>
          </a:xfrm>
        </p:grpSpPr>
        <p:pic>
          <p:nvPicPr>
            <p:cNvPr id="196" name="" descr=""/>
            <p:cNvPicPr/>
            <p:nvPr/>
          </p:nvPicPr>
          <p:blipFill>
            <a:blip r:embed="rId6"/>
            <a:stretch/>
          </p:blipFill>
          <p:spPr>
            <a:xfrm>
              <a:off x="1371600" y="1143000"/>
              <a:ext cx="312408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7"/>
            <a:stretch/>
          </p:blipFill>
          <p:spPr>
            <a:xfrm>
              <a:off x="4497480" y="1143000"/>
              <a:ext cx="3274920" cy="4114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0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5000" y="5410080"/>
            <a:ext cx="150984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2712960" cy="4114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5334120"/>
            <a:ext cx="4648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La pantera r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32760" y="6215040"/>
            <a:ext cx="1922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La pantera ro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Henry Manc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sp>
        <p:nvSpPr>
          <p:cNvPr id="204" name="">
            <a:hlinkClick r:id="rId4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5">
            <a:grayscl/>
            <a:lum contrast="30000"/>
          </a:blip>
          <a:stretch/>
        </p:blipFill>
        <p:spPr>
          <a:xfrm>
            <a:off x="1371600" y="1143000"/>
            <a:ext cx="6286680" cy="4114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1371600" y="1143000"/>
            <a:ext cx="6299280" cy="4114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1371600" y="1143000"/>
            <a:ext cx="6324480" cy="41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19560" y="5486400"/>
            <a:ext cx="150948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4257" t="2025" r="3683" b="6921"/>
          <a:stretch/>
        </p:blipFill>
        <p:spPr>
          <a:xfrm>
            <a:off x="1447920" y="1143000"/>
            <a:ext cx="2625480" cy="4114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5334120"/>
            <a:ext cx="312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Dr. Ziv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6216480"/>
            <a:ext cx="1904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Tema de L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 </a:t>
            </a: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Percy Fa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371600" y="1143000"/>
            <a:ext cx="6324480" cy="4116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1447920" y="1143000"/>
            <a:ext cx="6324480" cy="415908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>
            <a:grayscl/>
            <a:lum contrast="14000"/>
          </a:blip>
          <a:stretch/>
        </p:blipFill>
        <p:spPr>
          <a:xfrm>
            <a:off x="1371600" y="1181160"/>
            <a:ext cx="6397560" cy="4114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1371600" y="1143000"/>
            <a:ext cx="64008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8" nodeType="after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4" nodeType="after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7500"/>
                            </p:stCondLst>
                            <p:childTnLst>
                              <p:par>
                                <p:cTn id="400" nodeType="after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5000"/>
                            </p:stCondLst>
                            <p:childTnLst>
                              <p:par>
                                <p:cTn id="406" nodeType="after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438280" y="2209680"/>
            <a:ext cx="205740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Baskerville Old Face"/>
              </a:rPr>
              <a:t>S.Z. Sakall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adeleine LeBeau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Dooley Wilso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oy Pag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ohn Quale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Leonid Kinske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urt B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Baskerville Old Face"/>
              </a:rPr>
              <a:t>CASABLANCA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es-ES" sz="1200" spc="-1" strike="noStrike">
                <a:solidFill>
                  <a:srgbClr val="ffffff"/>
                </a:solidFill>
                <a:latin typeface="Baskerville Old Face"/>
              </a:rPr>
              <a:t>Título Original</a:t>
            </a:r>
            <a:r>
              <a:rPr b="0" lang="es-ES" sz="1200" spc="-1" strike="noStrike">
                <a:solidFill>
                  <a:srgbClr val="ffffff"/>
                </a:solidFill>
                <a:latin typeface="Baskerville Old Face"/>
              </a:rPr>
              <a:t>: Casablan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 Romanc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Origem/An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 EUA/1942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 Michael Curtiz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Humphrey Bogart..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Ingrid Bergman..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Paul Henreid..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laude Rains..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onrad Veidt..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ydney Greenstreet..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Baskerville Old Face"/>
              </a:rPr>
              <a:t>Peter Lorre..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Em plena Segunda Guerra Mundial, enquanto cidades são invadidas pelos alemães, duas pessoas conseguem viver um romance intenso e inesquecível em Paris. llsa, (lngrid Bergman), apaixona-se por Rick( Humphrey Bogart), mas, em vez de fugir com ele de Paris, manda-lhe um bilhete de despedida na estação de trem. Ele parte sem entender o que havia acontecido. Tudo isso é contado em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lashback.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Anos depois, já em Casablanca, na Marrocos francesa, ela aparece com seu marido, o herói Victor Laszlo( Paul Henreid), justamente no Rick's Bar, do qual o personagem de Bogart é dono. Eles estão à procura de um meio de fugir para a América. O sofrimento de Rick ao vê-la é inevitável e ela fica novamente dividida entre seus dois amores. O final é realmente surpreendente. Mas o sucesso do filme, que até hoje continua ganhando muitos fãs de todas gerações, explica-se pela fórmula bem-dosada de romance, humor, intriga e suspense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Premiaçõ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Oscar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de Melhor Filme, de Melhor Diretor e Melhor Roteiro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Indicações para Melhor Ator (Humphrey Bogart), Melhor Ator Coadjuvante (Claude Rains), Melhor Fotografia, Melhor Edição e Melhor Trilha Sonora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792468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A CANÇÃO INESQUECÍVEL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Night and Day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Dram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128 minutos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1946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stúdi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Warner Bros. Pictures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stribu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Warner Bros. Pictur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Michael Curtiz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ffffff"/>
                </a:solidFill>
                <a:uFillTx/>
                <a:latin typeface="Baskerville Old Face"/>
              </a:rPr>
              <a:t>Cary Grant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(Cole Porter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Alexis Smith (Linda Lee Porter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onty Woolley (Monty Woolley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Ginny Simms (Carole Hill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Baskerville Old Face"/>
              </a:rPr>
              <a:t>Jane Wyman (Gracie Harris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Baskerville Old Face"/>
              </a:rPr>
              <a:t>Eve Arden (Gabrielle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Victor Francen (Anatole Giro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Alan Hale (Leon Dowling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Biografia com muito de ficção sobre a vida do compositor Cole Porter.  durante os anos de 1912 a 1946. A história se inicia quando Porter era um estudante na Universidade de Yale, onde participou de teatro amador sob a tutela do rabugento professor Monty Woolley. Em razão da fortuna que herdou Porter poderia ter ficado de fora da 1ª Guerra Mundial, mas ele insistiu em se alistar e foi um motorista de ambulância. Nos anos pós-guerra escreve várias canções, que são um enorme sucesso em musicais da Broadway e em Londres. Mas não teria só bons momentos, pois uma fatalidade afeta sua vida para sempre. Como filme que se diz biográfico, "A Canção Inesquecível" peca por distorcer fortemente a vida do compositor, notoriamente conhecido como homossexual, além de fantasiar várias passagens como</a:t>
            </a: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a que cita sua participação na 1ª  Guerra Mundial.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Premiaçõ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Recebeu uma indicação ao Oscar de Melhor Trilha Sonora.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Curiosidad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Jane Wyman trabalhou simultaneamente em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Virtude Selvagem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(1946).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Monty Woolley e Mary Martin interpretam a si mesmos em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 Canção Inesquecível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22" name=""/>
          <p:cNvSpPr/>
          <p:nvPr/>
        </p:nvSpPr>
        <p:spPr>
          <a:xfrm>
            <a:off x="792468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457200"/>
            <a:ext cx="655308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Rotei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Charles Hoffman, William Bowers e Leo Townsend, baseado em adaptação de Jack Moffi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ffffff"/>
                </a:solidFill>
                <a:latin typeface="Baskerville Old Face"/>
              </a:rPr>
              <a:t>Produção:</a:t>
            </a:r>
            <a:r>
              <a:rPr b="0" lang="de-DE" sz="1200" spc="-1" strike="noStrike">
                <a:solidFill>
                  <a:srgbClr val="ffffff"/>
                </a:solidFill>
                <a:latin typeface="Baskerville Old Face"/>
              </a:rPr>
              <a:t> Arthur Schwart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ffffff"/>
                </a:solidFill>
                <a:latin typeface="Baskerville Old Face"/>
              </a:rPr>
              <a:t>Música:</a:t>
            </a:r>
            <a:r>
              <a:rPr b="0" lang="de-DE" sz="1200" spc="-1" strike="noStrike">
                <a:solidFill>
                  <a:srgbClr val="ffffff"/>
                </a:solidFill>
                <a:latin typeface="Baskerville Old Face"/>
              </a:rPr>
              <a:t> Max Stei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ffffff"/>
                </a:solidFill>
                <a:latin typeface="Baskerville Old Face"/>
              </a:rPr>
              <a:t>Fotografia:</a:t>
            </a:r>
            <a:r>
              <a:rPr b="0" lang="de-DE" sz="1200" spc="-1" strike="noStrike">
                <a:solidFill>
                  <a:srgbClr val="ffffff"/>
                </a:solidFill>
                <a:latin typeface="Baskerville Old Face"/>
              </a:rPr>
              <a:t> J. Peverell Marley e William V. Sk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esenho de 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Armor Marlow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Arte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John Hugh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igurin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ilo Anders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d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David Weisb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2438280"/>
            <a:ext cx="25909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Dorothy Malone (Na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Tom D'Andrea (Berni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elena Royle (Kate Por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Donald Woods (Ward Blackbur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Henry Stephenson (Omar C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Paul Cavanaugh (Bart McClell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ig Ruman (Wilowsk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ary Martin (Mary Mart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CANTANDO NA CHUVA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Singin'in the Rain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Musical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118 minuto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1952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stúdi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GM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stribu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GM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Gene Kelly  e Stanley Donen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Gene Kelly (Don Lockwood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Donald O'Connor (Cosmo Brow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Debbie Reynolds (Kathy Selde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ean Hagen (Lina Lamont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Gene Kelly protagoniza este que é um dos maiores clássicos entre os musicais produzidos por Hollywood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Don Lockwood (Gene Kelly) e Lina Lamont (Jean Hagen) são dois dos astros mais famosos da época do cinema mudo em Hollywood. Seus filmes são um verdadeiro sucesso de público e as revistas inclusive apostam num relacionamento mais íntimo entre os dois, o que não existe na realidade. Mas uma novidade no mundo do cinema chega para mudar totalmente a situação de ambos no mundo da fama: o cinema falado, que logo se torna a nova moda entre os espectadores. Decidido a produzir um filme falado com o casal mais famoso do momento, Don e Lina precisam entretanto superar as dificuldades do novo método de se fazer cinema, para conseguir manter a fama conquistada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Premiaçõ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Recebeu 2 indicações ao Oscar: Melhor Atriz Coadjuvante (Jean Hagen) e Melhor trilha Sonora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Ganhou o Globo de Ouro de Melhor Ator em Comédia/Musical (Donald O'Connor)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Curiosidad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-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O roteiro de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Cantando na Chuva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foi escrito apenas após a escolha das canções que fariam parte do filme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- Gene Kelly estava com febre durante as filmagens da famosa cena em que canta "Singin'in the rain. A chuva que aparece no filme enquanto ele canta na verdade não é apenas água, mas sim uma mistura de água com leite.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O primeiro ator cogitado para o papel de Cosmo Brown foi Oscar Levant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Algumas das roupas utilizadas em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Cantando na Chuva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foram utilizadas posteriormente em outro filme,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eep In My Heart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, de 1954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533520"/>
            <a:ext cx="32004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Roteir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Betty Comden e Adolph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Produçã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Arthur Fr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Músic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Nacio Herb Brown e Lennie Hay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Fotografi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Harold Ro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Arte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Randall Duell e Cedric Gibb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igurin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Walter Plunk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d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Adrienne Faz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2133720"/>
            <a:ext cx="2514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illard Mitchell (R.F. Simp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Cyd Charisse (Dançari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Douglas Fowley (Roscoe Dex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Rita Moreno (Zelda Zand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Madge Blake (Dora Bail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5328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10800"/>
                </a:moveTo>
                <a:lnTo>
                  <a:pt x="28586" y="3794"/>
                </a:lnTo>
                <a:lnTo>
                  <a:pt x="2858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2157" t="2083" r="2391" b="2083"/>
          <a:stretch/>
        </p:blipFill>
        <p:spPr>
          <a:xfrm>
            <a:off x="1390680" y="1219320"/>
            <a:ext cx="3429000" cy="4038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43600" y="5486400"/>
            <a:ext cx="1440000" cy="5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ookman Old Style"/>
              </a:rPr>
              <a:t>19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5410080"/>
            <a:ext cx="3387600" cy="520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Casablan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019920"/>
            <a:ext cx="165096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Berlin Sans FB"/>
              </a:rPr>
              <a:t>El tiempo pas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Berlin Sans FB"/>
              </a:rPr>
              <a:t>Louis Armstr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6324480" cy="4191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371600" y="1066680"/>
            <a:ext cx="6324480" cy="4194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371600" y="1066680"/>
            <a:ext cx="6324480" cy="419112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rId5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OS BRUTOS TAMBÉM AMAM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Shan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Faroest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118 minuto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1953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stúdi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Paramount Pictur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stribu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Paramount Pictur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</a:t>
            </a:r>
            <a:r>
              <a:rPr b="0" lang="pt-BR" sz="1200" spc="-1" strike="noStrike" u="sng">
                <a:solidFill>
                  <a:srgbClr val="ffffff"/>
                </a:solidFill>
                <a:uFillTx/>
                <a:latin typeface="Baskerville Old Face"/>
              </a:rPr>
              <a:t>George Steven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Alan Ladd (Shane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ean Arthur (Marian Starrett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Baskerville Old Face"/>
              </a:rPr>
              <a:t>Van Heflin (Joe Starrett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Baskerville Old Face"/>
              </a:rPr>
              <a:t>Brandon De Wilde (Joey Starrett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ack Palance (Jack Wilso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Ben Johnson (Chris Calloway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Edgar Buchanan (Fred Lewis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Após afugentar um grupo de desordeiros pagos para desocupar terras de uma cidade, um forasteiro solitário passa a ser idolatrado pelos fazendeiros da região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O filho de humildes rancheiros passa a idolatrar esse gentil mas muito hábil pistoleiro (Alan Ladd), que defende a propriedade dos seus pais de um grupo de capangas a serviço de um barão do gado.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10800"/>
                </a:moveTo>
                <a:lnTo>
                  <a:pt x="28586" y="3794"/>
                </a:lnTo>
                <a:lnTo>
                  <a:pt x="2858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685800"/>
            <a:ext cx="350532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Rotei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A.B. Guthrie Jr., baseado em estória de Jack Schae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George Stev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Músic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Victo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otografi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Loyal Gri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Arte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Hal Pereira e Walter H. Ty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Figurin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Edith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Ediçã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William Hornbeck e Tom McAd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3124080"/>
            <a:ext cx="304776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Emile Meyer (Rufus Ryk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Elisha Cook Jr. (Frank Torr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Douglas Spencer (Axel Shipst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ohn Dierkes (Morgan Ryk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Ellen Corby (Sra. Torr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Paul McVey (Sam Graf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ohn Miller (At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Edith Evanson (Sra. Shipst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FÉRIAS DE AMOR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ffffff"/>
                </a:solidFill>
                <a:latin typeface="Baskerville Old Face"/>
              </a:rPr>
              <a:t>Título Original</a:t>
            </a:r>
            <a:r>
              <a:rPr b="0" lang="es-ES" sz="1200" spc="-1" strike="noStrike">
                <a:solidFill>
                  <a:srgbClr val="ffffff"/>
                </a:solidFill>
                <a:latin typeface="Baskerville Old Face"/>
              </a:rPr>
              <a:t>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Picnic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enê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Drama, Romanc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tor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Joshua Logan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Origem/An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 EUA/1956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William Holden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Kim Novak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Rosalind Russell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Arthur O`Connell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Susan Strasberg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Nick Adam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Cliff Robertson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 É feriado e chega à cidade, recém saído de um trem de carga, o boa vida Hal Carter (William Holden), que tenha recomeçar sua vida. Com seu belo físico e muito charme Hal vem para o Kansas à procura de trabalho na empresa da família de Alan, seu antigo colega de faculdade. Apesar de suas esperanças e expectativas, os planos ambiciosos de Hal logo dão errado, quando seu magnetismo sexual atrai todas as mulheres da cidade, incluindo a beldade de 19 anos Madge Owens (Kim Novak) a sedutora rainha da beleza e namorada de Alan. Um drama comovente sobre a América das pequenas cidades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Premiaçõ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Oscars, nas categorias de Melhor Edição e Melhor Direção de Art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Indicações para Melhor Filme, Melhor Diretor, Melhor Ator Coadjuvante e Melhor Trilha Sonora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Ganhou o Globo de Ouro de Melhor Diretor.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Recebeu 4 indicações ao BAFTA, nas seguintes categorias: Melhor Filme, Melhor Ator Estrangeiro (William Holden), Melhor Atriz Estrangeira (Kim Novak) e Melhor Revelação (Susan Strasberg)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Curiosidad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Estréia de Cliff Robertson no cinema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A Columbia Pictures queria intensificar uma campanha para uma indicação de Rosalind Russell ao Oscar de melhor atriz coadjuvante, mas a atriz se recusou a ser inscrita na categoria de melhor coadjuvante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34" name=""/>
          <p:cNvSpPr/>
          <p:nvPr/>
        </p:nvSpPr>
        <p:spPr>
          <a:xfrm>
            <a:off x="815328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10800"/>
                </a:moveTo>
                <a:lnTo>
                  <a:pt x="28586" y="3794"/>
                </a:lnTo>
                <a:lnTo>
                  <a:pt x="2858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SUPLÍCIO DE UMA SAUDADE</a:t>
            </a: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 Love is a many splendored thing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 Drama, Romanc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uraçã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 102 min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Distribuidora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: Fox Film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Produtora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: Twentieth Century-Fox Film Corporation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Elenco: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William Holden (Mark Elliott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askerville Old Face"/>
              </a:rPr>
              <a:t>Jennifer Jones (Dr. Han Suyi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Torin Thatcher (Mr. Palmer-Jones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Isobel Elsom (Adeline P. Jones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urray Matheson (Dr. John Keith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Virginia Gregg (Ann Richards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Richard Loo (Robert Hung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oo Yong (Nora Hung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Philip Ahn (Third Uncle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Jorja Curtright (Suzanne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Donna Martel (Suche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Esta é uma das mais lindas e famosas histórias de amor das telas cinematográficas. Ambientado em Hong Kong durante a Guerra da Coréia, o filme narra a história de um correspondente de guerra americano (William Holden) e seu amor por uma linda médica eurasiana (Jennifer Jones). À medida que seu amor cresce, surgem problemas para atrapalhar sua felicidade. Ele deixou uma esposa em casa, e ela enfrenta a desaprovação de sua família e amigos. O destino também não parece querer ajudar. Todo o exótico esplendor de Hong Kong foi brilhantemente capturado pela magnífica fotografia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Premiaçõ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Vencedor de 3 Oscars:fotografia (Leon Shamro), Trilha sonora e Melhor canção original, a canção título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36" name=""/>
          <p:cNvSpPr/>
          <p:nvPr/>
        </p:nvSpPr>
        <p:spPr>
          <a:xfrm>
            <a:off x="815328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10800"/>
                </a:moveTo>
                <a:lnTo>
                  <a:pt x="28586" y="3794"/>
                </a:lnTo>
                <a:lnTo>
                  <a:pt x="2858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O HOMEM QUE SABIA DEMAIS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 The Man Who Knew Too Much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Suspens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120 minuto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1956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stúdi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Paramount Pictures / Filwite Production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stribu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Paramount Pictures / Universal Pictur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Alfred Hitchcock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lenc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ames Stewart (Dr. Ben McKenna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Doris Day(Jo McKenna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Brenda De Banzie (Lucy Drayto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Bernard Miles (Sr. Drayto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Ralph Truman (Buchana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Daniel Gélin (Louis Bernard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ogens Wieth (Embaixador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Durante suas férias no Marrocos, Ben McKenna (James Stewart), um médico, e sua família se envolvem acidentalmente em uma trama internacional de assassinato, quando um moribundo agente secreto francês conta a um médico americano sobre um plano para assassinar um diplomata durante um concerto. Para impedi-lo de denunciar a trama à polícia, os conspiradores resolvem então sequestrar seu filho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Premiaçõ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Ganhou o Oscar de Melhor Canção Original ("Que Sera, Sera")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Curiosidad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Em suas clássicas aparições, o diretor Alfred Hitchcock surge de costas para a câmera vendo acrobatas em um mercado marroquino, pouco antes do assassinato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O compositor Bernard Herrmann, responsável pela trilha sonora de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O Homem Que Sabia Demais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, aparece como regente da orquestra na sequência do Albert Hall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A sequência do Albert Hall dura 12 minutos e não possui uma única palavra de diálogo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O Homem Que Sabia Demais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esteve inacessível ao público durante décadas  porque Hitchcock comprou de volta os direitos de 5 de seus filmes e os deixou para sua filha. Eles apenas estiveram novamente ao alcance do público em 1984, quando foram relançados nos cinemas.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38" name=""/>
          <p:cNvSpPr/>
          <p:nvPr/>
        </p:nvSpPr>
        <p:spPr>
          <a:xfrm>
            <a:off x="8381880" y="65530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10800"/>
                </a:moveTo>
                <a:lnTo>
                  <a:pt x="33981" y="3794"/>
                </a:lnTo>
                <a:lnTo>
                  <a:pt x="339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457200"/>
            <a:ext cx="365760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Rotei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John Michael Hayes, baseado em estória de Charles Bennett e D.B. Wyndham-Lew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Alfred Hitchc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Músic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Bernard Herr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otografi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Robert Bu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Arte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Henry Bumstead e Hal Per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Figurin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Edith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Ediçã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George Tomas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2209680"/>
            <a:ext cx="2286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Alan Mowbray (Val Parn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Hillary Brooke (Jan Peter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hristopher Olsen (Hank McKen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Reggie Nalser (Assassi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Noel Willman (Wobur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Alix Talton (Helen Parn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arolyn Jones (Cindy Fonta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Alfred Hitchc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TARDE DEMAIS PARA ESQUECER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 An Affair to Remember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Romanc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115 minutos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1957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stúdi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20th Century Fox Film Corporation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Distribuiçã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20th Century Fox Film Corporation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Cary Grant (Nickie Ferrante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Deborah Kerr (Terry McKay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Richard Denning (Kenneth Bradley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Neva Patterson (Lois Clark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athleen Nesbitt (Vovó Janou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Nickie Ferrante (Cary Grant) é um playboy mulherengo, um homem que vive as custas de sua família e do dinheiro de sua futura esposa, Lois Clark (Neva Patterson), é considerado o solteiro mais cobiçado da atualidade e está para se casar. Terry McKay (Deborah Kerr) é uma ex-cantora que também está de casamento marcado, com Kenneth Bradley (Richard Denning). Ambos estão em um cruzeiro que parte da Europa rumo a Nova York, no qual se conhecem. Nickie e Terry se apaixonam mas, como ambos têm relacionamentos com outras pessoas, combinam de se encontrar 6 meses após a chegada da viagem, no alto do no Empire State Building , caso continuem sentindo o mesmo um pelo outro. Mas um trágico acidente impede tal encontro e seu futuro toma um rumo emocionante e incerto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Premiações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Recebeu 4 indicações ao Oscar, nas categorias de Melhor Fotografia, Melhor Figurino, Melhor Trilha Sonora e Melhor Canção Original ("An Affair to Remember")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Curiosidades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Ingrid Bergman era a 1ª escolha para a personagem Terry McKay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Os personagens Nickie e Terry fazem a promessa de se reencontrarem dentro de 6 meses exatamente na metade da duração do filme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Nas cenas de canto Deborah Kerr foi dublada por Marni Nixon, que já havia feito o mesmo com a participação da atriz em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O Rei e Eu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(1956)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O lançamento de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Sintonia de Amor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(1993), que possui referências a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arde Demais para Esquecer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, fez com que ressurgisse o interesse pelo filme nos Estados Unidos, resultando na venda de mais 2 milhões de fitas VHS do filme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42" name=""/>
          <p:cNvSpPr/>
          <p:nvPr/>
        </p:nvSpPr>
        <p:spPr>
          <a:xfrm>
            <a:off x="8381880" y="65530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10800"/>
                </a:moveTo>
                <a:lnTo>
                  <a:pt x="33981" y="3794"/>
                </a:lnTo>
                <a:lnTo>
                  <a:pt x="339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38480" y="152280"/>
            <a:ext cx="3505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 Leo McCa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Roteir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Delmer Daves, Donald Ogden Stewart e Leo McCa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Jerry Wald e Leo McCa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Músic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Hugo Friedhof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otografi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ilton R. Kras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esenho de 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Walter M. Scott e Paul S. Fo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Arte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Jack Martin Smith e Lyle R. Whee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igurin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Charles Le Mai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d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James B. Cl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2133720"/>
            <a:ext cx="3733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harles Watts (Ned Hath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Fortunio Bonanova (Courb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Geneviève Aumont (Gabriel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Marni Nixon (Terry McKay - voz de canto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Robert Q. Lew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CONFIDÊNCIAS À MEIA NOITE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Pillow Talk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Comédi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105 minuto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1959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stúdi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Universal International Pictures / Arwin Production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stribuição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Universal Pictur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Michael Gordon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Rock Hudson (Brad Alle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Doris Day (Jan Morrow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Tony Randall (Jonathan Forbes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Thelma Ritter (Alma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Nick Adams (Tony Walters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ulia Meade (Marie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Jan Morrow (Doris Day), uma decoradora, e Brad Allen (Rock Hudson), um compositor, são obrigados a compartilhar uma linha telefônica. Jan fica bastante irritada com o tempo com que Brad gasta conversando com namoradas, mas sem saber começa a sair com ele, que planeja conquistá-la fingindo ser outra pessoa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Premiaçõ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Ganhou o Oscar de Melhor Roteiro Original, além de ter sido indicado em outras 4 categorias: Melhor Atriz (Doris Day), Melhor Atriz Coadjuvante (Thelma Ritter), Melhor Direçã de Arte e Melhor Trilha Sonora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Recebeu 2 indicações ao Globo de Ouro, nas seguintes categorias: Melhor Atriz - Comédia/Musical (Doris Day) e Melhor Ator Coadjuvante (Tony Randall)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46" name=""/>
          <p:cNvSpPr/>
          <p:nvPr/>
        </p:nvSpPr>
        <p:spPr>
          <a:xfrm>
            <a:off x="4191120" y="533520"/>
            <a:ext cx="3809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Rotei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Russell Rouse, Maurice Richlin, Stanley Shapiro e Clarence Gree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Ross Hunter e Martin Mel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Músic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Frank De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otografi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Arthur E. Ar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Arte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Richard H. Rie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igurin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Jean Lou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d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ilton Car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2819520"/>
            <a:ext cx="312444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Allen Jenkins (Har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arcel Dalio (Pier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Lee Patrick (Sra. Wal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ary McCarty (Enfermeira Resn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Alex Gerry (Dr. Maxw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Hayden Rorke (Sr. Conr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Valerie Allen (Eile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acqueline Beer (Yvet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Arlen Stuart (Til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81880" y="65530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10800"/>
                </a:moveTo>
                <a:lnTo>
                  <a:pt x="33981" y="3794"/>
                </a:lnTo>
                <a:lnTo>
                  <a:pt x="339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BONEQUINHA DE LUXO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 Breakfast at Tiffany's 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 Drama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 115 minutos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1961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ffffff"/>
                </a:solidFill>
                <a:latin typeface="Baskerville Old Face"/>
              </a:rPr>
              <a:t>Estúdio:</a:t>
            </a: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 Paramount Pictures / Jurow-Shepherd 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ffffff"/>
                </a:solidFill>
                <a:latin typeface="Baskerville Old Face"/>
              </a:rPr>
              <a:t>Distribuição:</a:t>
            </a: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 Paramount Pictures 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 Blake Edwards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askerville Old Face"/>
              </a:rPr>
              <a:t>Audrey Hepburn (Holly Golightly)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askerville Old Face"/>
              </a:rPr>
              <a:t>George Peppard (Paul "Fred" Varjak)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askerville Old Face"/>
              </a:rPr>
              <a:t>Patricia Neal (Tooley)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askerville Old Face"/>
              </a:rPr>
              <a:t>Buddy Ebsen (Doc Golightly)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Martin Balsam (O.J. Berman)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José Luis de Villalonga (José da Silva Pereira)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Holly Golightly (Hepburn) é uma garota de programa de NY, decidida a casar-se com um milionário. Entre a inocência, ambição e futilidade, ela toma seus cafés da manhã em frente à famosa joalheria Tiffany`s, para fugir dos problemas. Os planos mudam quando conhece Paul Varjak (Peppard), um jovem escritor bancado pela amante , seu vizinho, com quem se envolve. Apesar do interesse em Paul, Holly reluta em se entregar a um amor que contraria seus objetivos de tornar-se rica. 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Baskerville Old Face"/>
              </a:rPr>
              <a:t>Premiações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- Ganhou 2 Oscars: Melhor Trilha Sonora e Melhor Canção Original ("Moon River"). Foi ainda indicado nas categorias de Melhor Atriz (Audrey Hepburn), Melhor Roteiro Adaptado e Melhor Direção de Arte. Ganhou o Grammy de Melhor Trilha Sonora 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Baskerville Old Face"/>
              </a:rPr>
              <a:t>Curiosidades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- Inicialmente o diretor seria John Frankenheimer e Marilyn Monroe a estrela. Após a substituição desta por Audrey Hepburn, ela declarou que jamais ouvira falar de Frankenheimer e pressionou para que outro diretor fosse contratado, exatamente o que aconteceu. Antes da contratação de Audrey seu papel foi oferecido a Kim Novak.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- Alguns elementos da personagem Holly no livro de Truman Capote, como sua suposta bissexualidade, foram omitidos no filme, na intenção de tornar a personagem mais adequada para Audrey Hepburn.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- O personagem Paul Varjak foi oferecido a Steve McQueen, que não pôde aceitá-lo devido ao seu compromisso com a série de TV "Wanted: Dead or Alive". 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- As filmagens de </a:t>
            </a:r>
            <a:r>
              <a:rPr b="0" i="1" lang="pt-BR" sz="1100" spc="-1" strike="noStrike">
                <a:solidFill>
                  <a:srgbClr val="ffffff"/>
                </a:solidFill>
                <a:latin typeface="Baskerville Old Face"/>
              </a:rPr>
              <a:t>Bonequinha de Luxo</a:t>
            </a: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 ocorreram apenas 3 meses após o nascimento do primeiro filho de Audrey Hepburn, Sean Ferrer.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- A canção "Moon River" foi escrita especialmente para Audrey Hepburn, considerando o fato de que a atriz não possuía na época treinamento para canto. 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- Na realização da cena em que a personagem de Audrey observava as vitrines da Tiffany's havia centenas de pessoas acompanhando as filmagens. Isso fez com que Hepburn ficasse nervosa e cometesse vários erros, o que obrigou a realização da cena várias vezes.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- O orçamento de </a:t>
            </a:r>
            <a:r>
              <a:rPr b="0" i="1" lang="pt-BR" sz="1100" spc="-1" strike="noStrike">
                <a:solidFill>
                  <a:srgbClr val="ffffff"/>
                </a:solidFill>
                <a:latin typeface="Baskerville Old Face"/>
              </a:rPr>
              <a:t>filme</a:t>
            </a: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 foi de US$ 2,5 milhões e Audrey Hepburn recebeu salário de US$ 750 mil, o que a tornou o 2º maior salário pago até então a uma atriz. O 1º era o de Elizabeth Taylor em </a:t>
            </a:r>
            <a:r>
              <a:rPr b="0" i="1" lang="pt-BR" sz="1100" spc="-1" strike="noStrike">
                <a:solidFill>
                  <a:srgbClr val="ffffff"/>
                </a:solidFill>
                <a:latin typeface="Baskerville Old Face"/>
              </a:rPr>
              <a:t>Cleópatra</a:t>
            </a:r>
            <a:r>
              <a:rPr b="0" lang="pt-BR" sz="1100" spc="-1" strike="noStrike">
                <a:solidFill>
                  <a:srgbClr val="ffffff"/>
                </a:solidFill>
                <a:latin typeface="Baskerville Old Face"/>
              </a:rPr>
              <a:t>, de US$ 1 milhão.</a:t>
            </a:r>
            <a:endParaRPr b="0" lang="en-US" sz="11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533520"/>
            <a:ext cx="4191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Rotei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George Axelrod, baseado em livro de Truman Capo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artin Jurow e Richard Shephe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Músic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Henry Manci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otografi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Franz Planer e Philip H. Lath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Arte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Roland Anderson e Hal Perei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igurin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Hubert de Givenchy e Pauline Trig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Ediçã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Howard A. Sm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198108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Alan Reed (Sally Toma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Dorothy Whitney (Mag Wildwo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tanely Adams (Rusty Traw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laude Stroud (Sid Arbu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ickey Rooney (Sr. Yuniosh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ohn McGiver (Vendedor da Tiffany'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1880" y="662940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32" h="21600">
                <a:moveTo>
                  <a:pt x="28960" y="10800"/>
                </a:moveTo>
                <a:lnTo>
                  <a:pt x="42973" y="3794"/>
                </a:lnTo>
                <a:lnTo>
                  <a:pt x="429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SUAVE É A NOITE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 Tender is the Night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Dram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146 minutos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1962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stúdi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20th Century Fox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Distribuiçã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20th Century Fox Film Corporation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Henry King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Jennifer Jones (Nicole Diver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ason Robards (Dr. Dick Diver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oan Fontaine (Baby Warre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Tom Ewell (Abe North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esare Danova (Tommy Barba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ill St. John (Rosemary Hoyt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Paul Lukas (Dr. F. Dohmler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A milionária americana Nicole Warren (Jennifer Jones) tinha graves problemas psíquicos, tanto que sua irmã, Baby Warren (Joan Fontaine), era sua tutora. Nicole foi internada numa clínica na Suíça e talvez passasse lá toda sua vida, se não fosse o profissionalismo de Dick Diver (Jason Robards), um psiquiatra que em tempo recorde acabou praticamente com todos os problemas de Nicole. Mas junto com isto aconteceu outra coisa: médico e paciente se apaixonaram e se casaram. Isto desagradou F. Dohmler (Paul Lukas), o diretor da clínica, que alertou Dick que Nicole o veria como um deus até descobrir que ele era humano. Para piorar, quanto mais ela se recuperava Dick se mantinha longe da profissão, tornando-se cada vez mais dependente dela emocionalmente e financeiramente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Premiaçõ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Recebeu uma indicação ao Oscar de Melhor Canção Original ("Tender is the Night").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Curiosidad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Último filme do diretor Henry King.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Os Divers foram baseados no casal verídico formado por Gerald e Sara Murphy, que eram amigos e patronos do escritor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F. Scott Fitzgerald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54" name=""/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29000" y="304920"/>
            <a:ext cx="3809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Rotei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Ivan Moffat, baseado em livro de F. Scott Fitzgera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Henry T. W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Músic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Bernard Herrman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otografi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Leon Shamro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esenho de 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Walter M. Scott e Paul S. Fo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Arte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alcolm Brown e Jack Martin Sm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ffffff"/>
                </a:solidFill>
                <a:latin typeface="Baskerville Old Face"/>
              </a:rPr>
              <a:t>Figurino:</a:t>
            </a:r>
            <a:r>
              <a:rPr b="0" lang="es-ES" sz="1200" spc="-1" strike="noStrike">
                <a:solidFill>
                  <a:srgbClr val="ffffff"/>
                </a:solidFill>
                <a:latin typeface="Baskerville Old Face"/>
              </a:rPr>
              <a:t> Pierre Balmain e Marjorie B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d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William Reyn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2362320"/>
            <a:ext cx="2895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Bea Benaderet (Sra. McKis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harles E. Fredericks (Sr. McKis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anford Meisner (Dr. Gregorovio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Mac McWhorter (Colis Cl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Baskerville Old Face"/>
              </a:rPr>
              <a:t>Albert Carrier (Lou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Baskerville Old Face"/>
              </a:rPr>
              <a:t>Richard De Combray (Francis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Carole Matthews (Sra. Hoy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Alan Napier (Par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007 CONTRA O SATÂNICO DR. NO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Dr. N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Aventur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111 minuto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1962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stúdi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Danjaq Productions / Eon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stribu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United Artist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Terence Young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ean Connery (James Bond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Ursula Andress (Honey Ryder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oseph Wiseman (Dr. No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Baskerville Old Face"/>
              </a:rPr>
              <a:t>Jack Lord (Felix Leiter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Baskerville Old Face"/>
              </a:rPr>
              <a:t>Bernard Lee (M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Anthony Dawson (Professor Dent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James Bond (Connery) investiga o desaparecimento de um agente britânico. Ao investigar estranhos acontecimentos na Jamaica, ele descobre o esconderijo do Dr. No (Wiseman), chefe de poderosa organização, gênio louco que pretende desviar o rumo dos foguetes americanos 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3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Curiosidad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Satânico Dr. N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é o primeiro filme da série James Bond.- Inicialmente estava previsto o filme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007 Contra a Chantagem Atômica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, mas problemas legais com o co-autor do livro fizeram com que os produtores optassem por filmar antes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007 Contra o Satânico Dr. N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A escolha inicial do autor( Fleming) era o ator Roger Moore, que apenas não aceitou o papel por já estar n a série televisiva "O Santo".  Contatou-se  Max Von Sydow, que recusou o papel. Além dele, outros foram cogitados : Cary Grant, David Niven, Trevor Howard e Rex Harrison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Sean Connery foi contratado após ter seu nome sugerido pela esposa do produtor Albert R. Broccoli, que o tinha visto atuar em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arby O'Gill and the Little People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Ian Fleming, criador do personagem, queria que seu sobrinho, o ator Christopher Lee, fosse o intérprete do Dr. No. Lee terminou não sendo contratado para o papel, mas atuou em outro filme da série James Bond,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007 Contra o Homem da Pistola de Our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Após não ter conseguido que  Lee interpretasse Dr. No, o autor convidou o ator Noel Coward para o papel, que respondeu dizendo: "Dr. No? No! No! - Todas as vozes femininas de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007 Contra o Satânico Dr. N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foram dubladas por atrizes inglesas não-creditadas no filme. A única exceção foi Lois Maxwell, que interpreta a personagem Miss Moneypenny e que teve sua voz mantida no filme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58" name=""/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152280"/>
            <a:ext cx="5486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Rotei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Richard Mailbaum e Johanna Harwood, baseado em livro de Ian Fle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Albert R. Broccoli e Harry Saltz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Músic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onty Nor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Fotografi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Ted Mo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esenho de 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Ken A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Arte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Syd C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igurin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Tessa Wel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d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Peter R. H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2057400"/>
            <a:ext cx="266724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Zena Marshall (Miss Ta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ohn Kitzmiller (Quarr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Eunice Gayson (Sylvia Tren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Lois Maxwell (Miss Moneypen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Peter Burton (Prefeito Boothroy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Monica van der Syl (Honey Ryder - vo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CANDELABRO ITALIANO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Angie Dickinson, Troy Donahue, Suzane Pleshtte, Rossano Brazzi, Chad Everett, Hampton Fancher, Al Hirt, Constance Ford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Rome adventure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Romanc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120 min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1962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stribu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Warner Bros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Delmer Dav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: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Cansada da monótona New England, a biblioteca Prudence Bell (Suzanne Pleshette, em seu primeiro grande papel no cinema) parte para Roma, em busca de aventura e romance. Uma vez lá, conhece um jovem e atraente estudante americano (Troy Donahue). Os dois se apaixonam e iniciam uma viagem pelas mais belas paisagens do norte da Itália até que Prudence descobre existir uma outra mulher na vida de seu novo amor. Desiludida, ela volta para casa e descobre que o destino sempre reserva uma última surpresa para um coração apaixonado. Uma história romântica que consegue retratar as alegrias e tristezas de se viver um grande amor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62" name=""/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365760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720" y="5410080"/>
            <a:ext cx="107964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19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348160"/>
            <a:ext cx="426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Canción inolvi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67840" y="6019920"/>
            <a:ext cx="14972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Berlin Sans FB"/>
              </a:rPr>
              <a:t>Noche y dí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Berlin Sans FB"/>
              </a:rPr>
              <a:t> </a:t>
            </a:r>
            <a:r>
              <a:rPr b="0" lang="pt-BR" sz="1600" spc="-1" strike="noStrike">
                <a:solidFill>
                  <a:srgbClr val="cc0000"/>
                </a:solidFill>
                <a:latin typeface="Berlin Sans FB"/>
              </a:rPr>
              <a:t>Frank Sina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447920" y="1066680"/>
            <a:ext cx="6248160" cy="4191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447920" y="990720"/>
            <a:ext cx="6248160" cy="426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1447920" y="990720"/>
            <a:ext cx="624816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296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A PANTERA COR-DE-ROSA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The Pink Panther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Comédi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113 minuto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1963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stúdi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irisch Company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stribu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United Artist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Blake Edward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Peter Sellers (Inspetor Clouseau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David Niven (Sir Charles Litto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Robert Wagner (George Litton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apucine (Simone Clouseau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Brenda De Branzie (Angela Dunning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Colin Gordon (Tucker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O hilariante Inspetor Clouseau (Peter Sellers), da polícia de Paris, precisa encontrar um ladrão de jóias que está mais perto do que ele imagina: o perigoso assaltante é amante de sua esposa, sem que ele nada perceba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Premiaçõ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Recebeu uma indicação ao Oscar, na categoria de Melhor Trilha Sonora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Recebeu uma indicação ao Globo de Ouro, na categoria de Melhor Ator em Comédia/Musical (Peter Sellers)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Curiosidad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Apesar da pantera cor-de-rosa do título se referir à uma jóia, nos créditos de abertura do filme há um desenho animado protagonizado pelo personagem Pantera Cor-de-Rosa. Esta introdução com um desenho do personagem tornou-se padrão nos demais filmes baseados no Inspetor Clouseau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O primeiro ator contactado para interpretar o Inspetor Clouseau foi Peter Ustinov, que recusou o papel. 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Para emagrecer o suficiente para interpretar o papel, Peter Seller tomou pílulas de dieta durante quase um ano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64" name=""/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457200"/>
            <a:ext cx="3505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Rotei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aurice Richlin e Blake Ed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artin Ju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Músic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Henry Manc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Fotografi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Philip H. Lath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Arte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Fernando Carr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igurin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Yves Saint-Lau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Edição: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Ralph E. W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2514600"/>
            <a:ext cx="259092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ames Lanphier (Salou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Michael Trubshawe (Novelis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Martin Miller (Fotógraf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Claudia Cardinale (Princesa Da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Fran Jeff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5228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askerville Old Face"/>
              </a:rPr>
              <a:t>DR. JIVAGO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Ficha Técnica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ítulo Original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Dr. Zhivag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Gêne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Épic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Tempo de Dura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201 minuto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Ano de Lançamento (EUA): 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1965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stúdi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GM / Sostar S.A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stribu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GM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 David Lean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Omar Sharif (Yuri Zhivago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Julie Christie (Lara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Geraldine Chaplin (Tonya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Rod Steiger (Victor Komarovsky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Alec Guiness (General Yevgraf Zhivago)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O filme conta sobre os anos que antecederam, durante e após a Revolução Russa pela ótica de Yuri Zhivago (Omar Sharif), um médico e poeta. Yuri fica órfão ainda criança e vai para Moscou, onde é criado. Já adulto se casa com a aristocrática Tonya (Geraldine Chaplin), mas tem um envolvimento com Lara (Julie Christie), uma enfermeira que se torna a grande paixão da sua vida. Lara antes da revolução tinha sido estuprada por Victor Komarovsky (Rod Steiger), um político sem escrúpulos que já tinha se envolvido com a mãe de Lara, e se casou com Pasha Strelnikoff (Tom Courtenay), que se torna um vingativo revolucionário. A história é narrada em </a:t>
            </a: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lashback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por Yevgraf de Zhivago (Alec Guiness), o meio-irmão de Yuri que procura a sua sobrinha, que seria filha de Jivago com Lara. Enquanto Strelnikoff representa o "mal", Yevgraf representa o "bom" elemento da Revolução Bolchevique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Baskerville Old Face"/>
              </a:rPr>
              <a:t>Premiações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Ganhou 5 Oscars: Melhor Roteiro Adaptado, Melhor Direção de Arte, Melhor Fotografia, Melhor Figurino - e Melhor Trilha Sonora. Foi ainda indicado em outras 5 categorias: Melhor Filme, Melhor Diretor, Melhor Ator Coadjuvante (Tom Courtenay), Melhor Edição e Melhor Som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Ganhou 5 Globos de Ouro, nas seguintes categorias: Melhor Filme - Drama, Melhor Diretor, Melhor Ator - Drama (Omar Sharif), Melhor Roteiro e Melhor Trilha Sonora. Recebeu ainda uma indicação na categoria de Melhor Revelação Feminina (Geraldine Chaplin)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Recebeu 3 indicações ao BAFTA, nas seguintes categorias: Melhor Filme, Melhor Ator Britânico (Ralph Richardson) e Melhor Atriz Britânica (Julie Christie)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- Ganhou o Grammy na categoria de Melhor Trilha Sonora Composta Para um Filme.</a:t>
            </a:r>
            <a:endParaRPr b="0" lang="en-US" sz="1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68" name=""/>
          <p:cNvSpPr/>
          <p:nvPr/>
        </p:nvSpPr>
        <p:spPr>
          <a:xfrm>
            <a:off x="2819520" y="380880"/>
            <a:ext cx="426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Roteir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Robert Bolt, baseado em livro de Boris Pastern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David Lean e Carlo Po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Músic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Maurice Ja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Fotografia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Freddie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esenho de Produ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John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Direção de Arte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Terence Marsh e Gil Parro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Figurin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Phyllis Da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ffffff"/>
                </a:solidFill>
                <a:latin typeface="Baskerville Old Face"/>
              </a:rPr>
              <a:t>Edição:</a:t>
            </a: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 Norman S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52680" y="2057400"/>
            <a:ext cx="266724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Baskerville Old Face"/>
              </a:rPr>
              <a:t>Tom Courtenay (Pasha Strelniko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Siobhan McKenna (An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Ralph Richardson (Alexander Gromek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Jeffrey Rockland (Sash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Tarek Sharif (Yuri - jov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Bernard Kay (Bolcheviq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Klaus Kin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Rita Tushingh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96080" y="6324480"/>
            <a:ext cx="990720" cy="38124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6099" h="21600">
                <a:moveTo>
                  <a:pt x="0" y="0"/>
                </a:moveTo>
                <a:lnTo>
                  <a:pt x="56099" y="0"/>
                </a:lnTo>
                <a:lnTo>
                  <a:pt x="56099" y="21600"/>
                </a:lnTo>
                <a:lnTo>
                  <a:pt x="0" y="21600"/>
                </a:lnTo>
                <a:close/>
              </a:path>
              <a:path fill="lightenLess" w="56099" h="21600">
                <a:moveTo>
                  <a:pt x="0" y="0"/>
                </a:moveTo>
                <a:lnTo>
                  <a:pt x="56099" y="0"/>
                </a:lnTo>
                <a:lnTo>
                  <a:pt x="54699" y="1400"/>
                </a:lnTo>
                <a:lnTo>
                  <a:pt x="1400" y="1400"/>
                </a:lnTo>
                <a:close/>
              </a:path>
              <a:path fill="darken" w="56099" h="21600">
                <a:moveTo>
                  <a:pt x="56099" y="0"/>
                </a:moveTo>
                <a:lnTo>
                  <a:pt x="56099" y="21600"/>
                </a:lnTo>
                <a:lnTo>
                  <a:pt x="54699" y="20200"/>
                </a:lnTo>
                <a:lnTo>
                  <a:pt x="54699" y="1400"/>
                </a:lnTo>
                <a:close/>
              </a:path>
              <a:path fill="darkenLess" w="56099" h="21600">
                <a:moveTo>
                  <a:pt x="56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99" y="20200"/>
                </a:lnTo>
                <a:close/>
              </a:path>
              <a:path fill="lighten" w="56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99" h="21600">
                <a:moveTo>
                  <a:pt x="31548" y="10800"/>
                </a:moveTo>
                <a:lnTo>
                  <a:pt x="21043" y="17806"/>
                </a:lnTo>
                <a:lnTo>
                  <a:pt x="21043" y="3794"/>
                </a:lnTo>
                <a:close/>
              </a:path>
              <a:path fill="darken" w="56099" h="21600">
                <a:moveTo>
                  <a:pt x="33394" y="3794"/>
                </a:moveTo>
                <a:lnTo>
                  <a:pt x="33394" y="17806"/>
                </a:lnTo>
                <a:lnTo>
                  <a:pt x="35056" y="17806"/>
                </a:lnTo>
                <a:lnTo>
                  <a:pt x="35056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14600" y="1143000"/>
            <a:ext cx="4219560" cy="4894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8120" rIns="78120" tIns="39240" bIns="39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pt-BR" sz="2200" spc="-1" strike="noStrike">
                <a:solidFill>
                  <a:srgbClr val="a50021"/>
                </a:solidFill>
                <a:latin typeface="Footlight MT Light"/>
              </a:rPr>
              <a:t>FILMES QUE MARCARAM ÉPO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pt-BR" sz="2200" spc="-1" strike="noStrike">
                <a:solidFill>
                  <a:srgbClr val="a50021"/>
                </a:solidFill>
                <a:latin typeface="Footlight MT Light"/>
              </a:rPr>
              <a:t>E SUAS CANÇÕES INESQUECÍV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pt-BR" sz="2000" spc="-1" strike="noStrike">
                <a:solidFill>
                  <a:srgbClr val="a50021"/>
                </a:solidFill>
                <a:latin typeface="Footlight MT Light"/>
              </a:rPr>
              <a:t>TEX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Baskerville Old Face"/>
              </a:rPr>
              <a:t>www.adorocinem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pt-BR" sz="2000" spc="-1" strike="noStrike">
                <a:solidFill>
                  <a:srgbClr val="a50021"/>
                </a:solidFill>
                <a:latin typeface="Footlight MT Light"/>
              </a:rPr>
              <a:t>FUNDO MU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pt-BR" sz="1700" spc="-1" strike="noStrike">
                <a:solidFill>
                  <a:srgbClr val="a50021"/>
                </a:solidFill>
                <a:latin typeface="Footlight MT Light"/>
              </a:rPr>
              <a:t>TEMAS DE FILM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pt-BR" sz="2000" spc="-1" strike="noStrike">
                <a:solidFill>
                  <a:srgbClr val="a50021"/>
                </a:solidFill>
                <a:latin typeface="Footlight MT Light"/>
              </a:rPr>
              <a:t>IM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pt-BR" sz="1700" spc="-1" strike="noStrike">
                <a:solidFill>
                  <a:srgbClr val="a50021"/>
                </a:solidFill>
                <a:latin typeface="Footlight MT Light"/>
              </a:rPr>
              <a:t>INTERN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pt-BR" sz="2000" spc="-1" strike="noStrike">
                <a:solidFill>
                  <a:srgbClr val="a50021"/>
                </a:solidFill>
                <a:latin typeface="Footlight MT Light"/>
              </a:rPr>
              <a:t>FORMATAÇÃO E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pt-BR" sz="1700" spc="-1" strike="noStrike">
                <a:solidFill>
                  <a:srgbClr val="a50021"/>
                </a:solidFill>
                <a:latin typeface="Footlight MT Light"/>
              </a:rPr>
              <a:t>ROSA MARIA FERRÃ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pt-BR" sz="2200" spc="-1" strike="noStrike">
                <a:solidFill>
                  <a:srgbClr val="a50021"/>
                </a:solidFill>
                <a:latin typeface="Footlight MT Light"/>
              </a:rPr>
              <a:t>DesignRMF Produ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pt-BR" sz="2200" spc="-1" strike="noStrike">
                <a:solidFill>
                  <a:srgbClr val="a50021"/>
                </a:solidFill>
                <a:latin typeface="Footlight MT Light"/>
              </a:rPr>
              <a:t>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7826" t="5555" r="8635" b="84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3429000" y="3124080"/>
            <a:ext cx="20574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a50021"/>
                    </a:gs>
                  </a:gsLst>
                  <a:path path="rect">
                    <a:fillToRect l="50000" t="50000" r="50000" b="50000"/>
                  </a:path>
                </a:gradFill>
                <a:latin typeface="Baskerville Old Face"/>
              </a:rPr>
              <a:t>FIM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a50021"/>
                  </a:gs>
                </a:gsLst>
                <a:path path="rect">
                  <a:fillToRect l="50000" t="50000" r="50000" b="50000"/>
                </a:path>
              </a:gradFill>
              <a:latin typeface="Baskerville Old Face"/>
              <a:ea typeface="Baskerville Old Face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495680" cy="4662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464832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00800" y="5486400"/>
            <a:ext cx="1450800" cy="50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270648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5334120"/>
            <a:ext cx="4038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Cantando bajo la llu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82040" y="6018120"/>
            <a:ext cx="268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Cantando bajo la llu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 </a:t>
            </a: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Gene Ke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447920" y="1143000"/>
            <a:ext cx="624816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rcRect l="0" t="7480" r="0" b="3276"/>
          <a:stretch/>
        </p:blipFill>
        <p:spPr>
          <a:xfrm>
            <a:off x="1447920" y="1143000"/>
            <a:ext cx="6259320" cy="4113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rcRect l="1240" t="3307" r="1240" b="6669"/>
          <a:stretch/>
        </p:blipFill>
        <p:spPr>
          <a:xfrm>
            <a:off x="1447920" y="1141560"/>
            <a:ext cx="6248160" cy="4116240"/>
          </a:xfrm>
          <a:prstGeom prst="rect">
            <a:avLst/>
          </a:prstGeom>
          <a:ln w="0">
            <a:noFill/>
          </a:ln>
        </p:spPr>
      </p:pic>
      <p:sp>
        <p:nvSpPr>
          <p:cNvPr id="108" name="">
            <a:hlinkClick r:id="rId6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5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502920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05720" y="5486040"/>
            <a:ext cx="121896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334120"/>
            <a:ext cx="4724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Los tontos también a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4320" y="6170760"/>
            <a:ext cx="1760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Tema de Sh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1447920" y="1143000"/>
            <a:ext cx="632448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447920" y="1143000"/>
            <a:ext cx="63244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4724280" cy="4113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77120" y="5486400"/>
            <a:ext cx="1296720" cy="4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960" y="5410080"/>
            <a:ext cx="1218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Berlin Sans FB"/>
              </a:rPr>
              <a:t>Pic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5667480"/>
            <a:ext cx="2057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Luna brillante (Monng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 </a:t>
            </a: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The Mills Br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1371600" y="1143000"/>
            <a:ext cx="6324480" cy="4146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2819520" y="1143000"/>
            <a:ext cx="34909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0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6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7500"/>
                            </p:stCondLst>
                            <p:childTnLst>
                              <p:par>
                                <p:cTn id="1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00800" y="5486400"/>
            <a:ext cx="1512720" cy="4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410080"/>
            <a:ext cx="4419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Suplício de un recue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318276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581280" y="5942160"/>
            <a:ext cx="2133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El amor es una cosa explendoros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Los 4 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371600" y="990720"/>
            <a:ext cx="6324480" cy="429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371600" y="990720"/>
            <a:ext cx="6324480" cy="426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371600" y="990720"/>
            <a:ext cx="6400800" cy="426708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rId5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77120" y="5486040"/>
            <a:ext cx="1295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2950920" cy="4191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5486400"/>
            <a:ext cx="4952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Berlin Sans FB"/>
              </a:rPr>
              <a:t>El hombre que sabía dem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93880" y="6215040"/>
            <a:ext cx="1793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Que sera, s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 </a:t>
            </a: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Dori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6400800" cy="4191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371600" y="1066680"/>
            <a:ext cx="6400800" cy="419112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1371600" y="1066680"/>
            <a:ext cx="6400800" cy="421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2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6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5562720" cy="4127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00800" y="5410080"/>
            <a:ext cx="129528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Berlin Sans FB"/>
              </a:rPr>
              <a:t>19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2578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Berlin Sans FB"/>
              </a:rPr>
              <a:t>Demasiado tarde para olvi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6172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Algo para recor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 </a:t>
            </a:r>
            <a:r>
              <a:rPr b="0" lang="pt-BR" sz="1800" spc="-1" strike="noStrike">
                <a:solidFill>
                  <a:srgbClr val="cc0000"/>
                </a:solidFill>
                <a:latin typeface="Berlin Sans FB"/>
              </a:rPr>
              <a:t>Nat King 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1371600" y="1143000"/>
            <a:ext cx="6324480" cy="4130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5" action="ppaction://hlinksldjump"/>
          </p:cNvPr>
          <p:cNvSpPr/>
          <p:nvPr/>
        </p:nvSpPr>
        <p:spPr>
          <a:xfrm>
            <a:off x="8077320" y="5562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ELEN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Baskerville Old Face"/>
              </a:rPr>
              <a:t>SINO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371600" y="1143000"/>
            <a:ext cx="63244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5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7500"/>
                            </p:stCondLst>
                            <p:childTnLst>
                              <p:par>
                                <p:cTn id="209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ingrosaferrao@yahoo.com.br</dc:creator>
  <dc:description>Copyright© 2009
Todos os Direitos Reservados
DesignRMF Produções</dc:description>
  <dc:language>en-US</dc:language>
  <cp:lastModifiedBy>RODOLFO</cp:lastModifiedBy>
  <dcterms:modified xsi:type="dcterms:W3CDTF">2009-07-15T15:55:59Z</dcterms:modified>
  <cp:revision>41</cp:revision>
  <dc:subject>música de cinema</dc:subject>
  <dc:title>Cinema &amp; mús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