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AF7-1A4A-4C27-9364-03B2C9D4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E71-B2E8-48E5-B0B3-232C7D29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188-BA48-42D4-A0B8-C4C5C568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009-E604-4FFC-8104-03AF1AD5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9411-2400-413E-8C34-5245632D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F1E-EB49-4E7B-AFC3-7A02124E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9BE-44CA-4C6E-BBFE-38853CC4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807-6243-4D9E-BD61-7E812877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D68-2E1A-4169-AC12-E3F3C60D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52C-9595-4D80-88D9-DAE9117B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85C-CE33-4AB9-83DD-C60EB990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7CB-FF27-4418-8D33-D31BB43A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6492-F14F-47DA-A243-9C9E1953A85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l retorno de </a:t>
            </a:r>
            <a:r>
              <a:rPr b="0" i="1" lang="es-MX" sz="4400" spc="-1" strike="noStrike">
                <a:solidFill>
                  <a:srgbClr val="000000"/>
                </a:solidFill>
                <a:latin typeface="Calibri"/>
              </a:rPr>
              <a:t>Dav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00" y="2214360"/>
            <a:ext cx="4714920" cy="35715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Después de dos años de ser exhibido con enorme éxito en varias ciudades de los Estados Unidos, el célebre </a:t>
            </a:r>
            <a:r>
              <a:rPr b="0" i="1" lang="es-MX" sz="3200" spc="-1" strike="noStrike">
                <a:solidFill>
                  <a:srgbClr val="898989"/>
                </a:solidFill>
                <a:latin typeface="Calibri"/>
              </a:rPr>
              <a:t>David</a:t>
            </a: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 de Miguel Ángel será finalmente devuelto a Ita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127080" y="-1515960"/>
            <a:ext cx="24192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27080" y="-1515960"/>
            <a:ext cx="24192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6 Imagen" descr="david1.jpg"/>
          <p:cNvPicPr/>
          <p:nvPr/>
        </p:nvPicPr>
        <p:blipFill>
          <a:blip r:embed="rId1"/>
          <a:stretch/>
        </p:blipFill>
        <p:spPr>
          <a:xfrm>
            <a:off x="5357880" y="1143000"/>
            <a:ext cx="35938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Se enorgullecieron en auspiciar la gira norteamericana del monumento las siguientes empresa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Marcador de contenido" descr="mcd.jpg"/>
          <p:cNvPicPr/>
          <p:nvPr/>
        </p:nvPicPr>
        <p:blipFill>
          <a:blip r:embed="rId1"/>
          <a:stretch/>
        </p:blipFill>
        <p:spPr>
          <a:xfrm>
            <a:off x="4786200" y="3571920"/>
            <a:ext cx="127008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4 Imagen" descr="star.jpg"/>
          <p:cNvPicPr/>
          <p:nvPr/>
        </p:nvPicPr>
        <p:blipFill>
          <a:blip r:embed="rId2"/>
          <a:stretch/>
        </p:blipFill>
        <p:spPr>
          <a:xfrm>
            <a:off x="6572160" y="3500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49" name="5 Imagen" descr="bk.jpg"/>
          <p:cNvPicPr/>
          <p:nvPr/>
        </p:nvPicPr>
        <p:blipFill>
          <a:blip r:embed="rId3"/>
          <a:stretch/>
        </p:blipFill>
        <p:spPr>
          <a:xfrm>
            <a:off x="2928960" y="34290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50" name="6 Imagen" descr="kfc.jpg"/>
          <p:cNvPicPr/>
          <p:nvPr/>
        </p:nvPicPr>
        <p:blipFill>
          <a:blip r:embed="rId4"/>
          <a:stretch/>
        </p:blipFill>
        <p:spPr>
          <a:xfrm>
            <a:off x="1143000" y="3286080"/>
            <a:ext cx="12700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Y allá va de regres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Marcador de contenido" descr="david2.jpg"/>
          <p:cNvPicPr/>
          <p:nvPr/>
        </p:nvPicPr>
        <p:blipFill>
          <a:blip r:embed="rId1"/>
          <a:stretch/>
        </p:blipFill>
        <p:spPr>
          <a:xfrm>
            <a:off x="2428920" y="1600200"/>
            <a:ext cx="428616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7799040" y="648828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monum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1:37:43Z</dcterms:created>
  <dc:creator>N</dc:creator>
  <dc:description/>
  <dc:language>en-US</dc:language>
  <cp:lastModifiedBy>N</cp:lastModifiedBy>
  <dcterms:modified xsi:type="dcterms:W3CDTF">2008-09-08T01:45:41Z</dcterms:modified>
  <cp:revision>1</cp:revision>
  <dc:subject/>
  <dc:title>El retorno de David</dc:title>
</cp:coreProperties>
</file>