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112-CDE0-44D0-ACF3-B306E53E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9D8E-C9B2-4A7F-963D-B6021B6C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3DF-A476-4AA7-846F-BFD3237D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256-E68A-426E-9662-35775A95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BF1-D432-40D4-A5A7-E0C4A848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43F0-4A11-44F5-B61A-0D957704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667-5DCE-46FF-9B85-642642A3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CB6-FC4D-46CE-9B90-C6931C18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112-FF89-4AC5-B848-060B3F80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40F-9F9F-48F0-AEF1-6782F01B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5EB-4375-4BC3-8AA0-94FEC8D1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74A-6353-460B-9442-D807ABFE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E053-595F-40EC-8AB7-7288B00F8D6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48578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l retorno de </a:t>
            </a:r>
            <a:r>
              <a:rPr b="0" i="1" lang="es-MX" sz="4400" spc="-1" strike="noStrike">
                <a:solidFill>
                  <a:srgbClr val="000000"/>
                </a:solidFill>
                <a:latin typeface="Calibri"/>
              </a:rPr>
              <a:t>Dav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400" y="2214360"/>
            <a:ext cx="4714920" cy="35715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Después de dos años de ser exhibido con enorme éxito en varias ciudades de los Estados Unidos, el célebre </a:t>
            </a:r>
            <a:r>
              <a:rPr b="0" i="1" lang="es-MX" sz="3200" spc="-1" strike="noStrike">
                <a:solidFill>
                  <a:srgbClr val="898989"/>
                </a:solidFill>
                <a:latin typeface="Calibri"/>
              </a:rPr>
              <a:t>David</a:t>
            </a: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 de Miguel Ángel será finalmente devuelto a Ita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127080" y="-1515960"/>
            <a:ext cx="24192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27080" y="-1515960"/>
            <a:ext cx="24192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6 Imagen" descr="david1.jpg"/>
          <p:cNvPicPr/>
          <p:nvPr/>
        </p:nvPicPr>
        <p:blipFill>
          <a:blip r:embed="rId1"/>
          <a:stretch/>
        </p:blipFill>
        <p:spPr>
          <a:xfrm>
            <a:off x="5357880" y="1143000"/>
            <a:ext cx="35938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680" y="85680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Se enorgullecieron en auspiciar la gira norteamericana del monumento las siguientes empresa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3 Marcador de contenido" descr="mcd.jpg"/>
          <p:cNvPicPr/>
          <p:nvPr/>
        </p:nvPicPr>
        <p:blipFill>
          <a:blip r:embed="rId1"/>
          <a:stretch/>
        </p:blipFill>
        <p:spPr>
          <a:xfrm>
            <a:off x="4786200" y="3571920"/>
            <a:ext cx="127008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4 Imagen" descr="star.jpg"/>
          <p:cNvPicPr/>
          <p:nvPr/>
        </p:nvPicPr>
        <p:blipFill>
          <a:blip r:embed="rId2"/>
          <a:stretch/>
        </p:blipFill>
        <p:spPr>
          <a:xfrm>
            <a:off x="6572160" y="350028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49" name="5 Imagen" descr="bk.jpg"/>
          <p:cNvPicPr/>
          <p:nvPr/>
        </p:nvPicPr>
        <p:blipFill>
          <a:blip r:embed="rId3"/>
          <a:stretch/>
        </p:blipFill>
        <p:spPr>
          <a:xfrm>
            <a:off x="2928960" y="342900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50" name="6 Imagen" descr="kfc.jpg"/>
          <p:cNvPicPr/>
          <p:nvPr/>
        </p:nvPicPr>
        <p:blipFill>
          <a:blip r:embed="rId4"/>
          <a:stretch/>
        </p:blipFill>
        <p:spPr>
          <a:xfrm>
            <a:off x="1143000" y="3286080"/>
            <a:ext cx="12700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Y allá va de regres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3 Marcador de contenido" descr="david2.jpg"/>
          <p:cNvPicPr/>
          <p:nvPr/>
        </p:nvPicPr>
        <p:blipFill>
          <a:blip r:embed="rId1"/>
          <a:stretch/>
        </p:blipFill>
        <p:spPr>
          <a:xfrm>
            <a:off x="2428920" y="1600200"/>
            <a:ext cx="428616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4 CuadroTexto"/>
          <p:cNvSpPr/>
          <p:nvPr/>
        </p:nvSpPr>
        <p:spPr>
          <a:xfrm>
            <a:off x="7799040" y="648828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monum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01:37:43Z</dcterms:created>
  <dc:creator>N</dc:creator>
  <dc:description/>
  <dc:language>en-US</dc:language>
  <cp:lastModifiedBy>N</cp:lastModifiedBy>
  <dcterms:modified xsi:type="dcterms:W3CDTF">2008-09-08T01:45:41Z</dcterms:modified>
  <cp:revision>1</cp:revision>
  <dc:subject/>
  <dc:title>El retorno de David</dc:title>
</cp:coreProperties>
</file>