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17E-9D2E-404C-ABFC-A2AA83F9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3C7-85A6-475F-9B95-AB10DDA6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35B-2094-4A4F-B666-D67D32FE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A6E-8E4B-4035-85D4-917F7AA7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F99-B9B2-4778-98F2-A58D06DC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575-FE33-4E92-B0B1-9BDBC2DE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4FF-1EE4-4E09-8B14-CE3DFB71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13C-7FE1-482A-A3C5-8A08F9AA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832-5169-470B-9BD2-050E8890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07E-B4A8-4CB2-A064-0A60FBC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1BC-F63A-4E13-9123-4886432F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8B6-80DB-4BAA-9268-9272717A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2D35-456C-4884-8677-975820FC095C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0" y="1928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TRANSPORTE ESCOLAR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EN LA REPÚBLICA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DEMOCRÁTICA DE JAPÓ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"/>
          <p:cNvPicPr/>
          <p:nvPr/>
        </p:nvPicPr>
        <p:blipFill>
          <a:blip r:embed="rId2"/>
          <a:stretch/>
        </p:blipFill>
        <p:spPr>
          <a:xfrm>
            <a:off x="642960" y="0"/>
            <a:ext cx="8001000" cy="5929200"/>
          </a:xfrm>
          <a:prstGeom prst="rect">
            <a:avLst/>
          </a:prstGeom>
          <a:ln w="0">
            <a:noFill/>
          </a:ln>
        </p:spPr>
      </p:pic>
      <p:sp>
        <p:nvSpPr>
          <p:cNvPr id="43" name="2 CuadroTexto"/>
          <p:cNvSpPr/>
          <p:nvPr/>
        </p:nvSpPr>
        <p:spPr>
          <a:xfrm>
            <a:off x="642960" y="5500800"/>
            <a:ext cx="8001000" cy="369720"/>
          </a:xfrm>
          <a:prstGeom prst="rect">
            <a:avLst/>
          </a:prstGeom>
          <a:solidFill>
            <a:srgbClr val="3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214200" y="5429160"/>
            <a:ext cx="842976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"/>
          <p:cNvPicPr/>
          <p:nvPr/>
        </p:nvPicPr>
        <p:blipFill>
          <a:blip r:embed="rId2"/>
          <a:stretch/>
        </p:blipFill>
        <p:spPr>
          <a:xfrm>
            <a:off x="642960" y="0"/>
            <a:ext cx="7786800" cy="6643800"/>
          </a:xfrm>
          <a:prstGeom prst="rect">
            <a:avLst/>
          </a:prstGeom>
          <a:ln w="0">
            <a:noFill/>
          </a:ln>
        </p:spPr>
      </p:pic>
      <p:sp>
        <p:nvSpPr>
          <p:cNvPr id="47" name="2 CuadroTexto"/>
          <p:cNvSpPr/>
          <p:nvPr/>
        </p:nvSpPr>
        <p:spPr>
          <a:xfrm>
            <a:off x="642960" y="6286680"/>
            <a:ext cx="778680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0" y="2357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Calibri"/>
              </a:rPr>
              <a:t>TRANSPORTE ESCOLAR EN LA REPÚBLIC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Calibri"/>
              </a:rPr>
              <a:t>BOLIVARIANA DE VENEZUE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2 CuadroTexto"/>
          <p:cNvSpPr/>
          <p:nvPr/>
        </p:nvSpPr>
        <p:spPr>
          <a:xfrm>
            <a:off x="0" y="1285920"/>
            <a:ext cx="42876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0" y="2428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 u="sng">
                <a:solidFill>
                  <a:srgbClr val="ff0000"/>
                </a:solidFill>
                <a:uFillTx/>
                <a:latin typeface="Calibri"/>
              </a:rPr>
              <a:t>¡¡ ..VIVA EL SOCIALISMO DEL SIGLO XXI..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3:26:12Z</dcterms:created>
  <dc:creator>User</dc:creator>
  <dc:description/>
  <dc:language>en-US</dc:language>
  <cp:lastModifiedBy>isuare_mecon</cp:lastModifiedBy>
  <dcterms:modified xsi:type="dcterms:W3CDTF">2009-08-21T14:10:39Z</dcterms:modified>
  <cp:revision>2</cp:revision>
  <dc:subject/>
  <dc:title>Diapositiva 1</dc:title>
</cp:coreProperties>
</file>