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0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pista%2012%20poema2%20music%20romantic%20yazgyi81.wav" ContentType="audio/x-wav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665-96EA-4AB9-A9FF-F1952BCB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4A2-E722-446E-82B2-75521CF2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239-2B6E-4954-86BF-3BB9AA0D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2BB-D578-482B-9EC3-34C04E0F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FD9-2DBF-4E94-A7D1-15AA9102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9B8-4488-4E63-A6BB-2899A25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614-67CB-4B7C-BBBF-667DE740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248-00A8-4AE3-9E65-9812781A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CB5-2575-46EC-A900-79F9945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699-19B0-494E-A0EE-BD980304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73B-490F-4E2E-9298-E566D590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B79-96BF-4272-BFB1-DBFB8729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0065-8EE1-4C48-ABF3-00D09BE196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ista%2012%20poema2%20music%20romantic%20yazgyi8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981000"/>
            <a:ext cx="632628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IGNIFICADO RE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3429000"/>
            <a:ext cx="604872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E LAS PALABRA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6000">
    <p:cover dir="u"/>
    <p:sndAc>
      <p:stSnd>
        <p:snd r:embed="rId1" name="pista%2012%20poema2%20music%20romantic%20yazgyi8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821720" cy="574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69960" y="-72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a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4349520" cy="602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2880" y="1879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ist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611600" cy="5877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70280" y="-72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ús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749040" y="259560"/>
            <a:ext cx="23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Esperanza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53440" cy="547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21880" y="187920"/>
            <a:ext cx="23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urios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09040" cy="5472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16560" y="187920"/>
            <a:ext cx="45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ntido de humanid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794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94280" y="-72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añeris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73880" cy="5511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34640" y="25956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o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09520" y="1371600"/>
          <a:ext cx="184320" cy="641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09520" y="1628640"/>
          <a:ext cx="8724960" cy="4106880"/>
        </p:xfrm>
        <a:graphic>
          <a:graphicData uri="http://schemas.openxmlformats.org/drawingml/2006/table">
            <a:tbl>
              <a:tblPr/>
              <a:tblGrid>
                <a:gridCol w="8724960"/>
              </a:tblGrid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"La vida no es esperar a que pase la tormenta,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 aprender a bailar bajo la lluvia..."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nca digas que hay días feos cuando la lluvia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á muy fuerte, cuando los vientos tiran los árboles,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uando hace mucho frío y no sale el sol.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8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SABES REALMENTE CUÁNDO SON DÍAS FEOS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ANDO TU MEJOR AMIGO FALLE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ando el s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que más amas: SE VA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ando te han dicho que tie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a enfermedad terminal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nunca te la detectaron a tiemp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sólo te queda poco tiempo de vida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NO SON ESOS REALMENTE LOS DÍAS MÁS FE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37160" cy="554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51280" y="2595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m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65520" y="686520"/>
            <a:ext cx="7265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NI ESOS, pues como quiera que s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n algún mo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am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tenido un hijo, UN GRAN AMIGO COMO Y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TÚ,  o como el que está lejos y nunca olvidas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 HAS VIVIDO... Y AH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HÍ NO HAY DÍAS FE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2680" y="1125000"/>
            <a:ext cx="8249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 VIDA es una obra de teat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e no permite ensay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or eso, Canta, Ríe, Bail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MA y VIVE Intensamen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ada momento de tu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es de que el telón baj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la obra termine sin aplausos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3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2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83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011480" cy="526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56120" y="25956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ses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4491000" cy="554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12760" y="259560"/>
            <a:ext cx="20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oc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532560" cy="525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5320" y="332640"/>
            <a:ext cx="17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rist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908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24160" y="3326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681800" cy="555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78360" y="1879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900760" cy="585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68800" y="-720"/>
            <a:ext cx="25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sla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249800" cy="594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91160" y="-720"/>
            <a:ext cx="18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pe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1:25:03Z</dcterms:created>
  <dc:creator>Inspectoría Salesiana San José Valencia</dc:creator>
  <dc:description/>
  <dc:language>en-US</dc:language>
  <cp:lastModifiedBy>Inspectoría Salesiana San José Valencia</cp:lastModifiedBy>
  <dcterms:modified xsi:type="dcterms:W3CDTF">2011-04-11T15:50:35Z</dcterms:modified>
  <cp:revision>3</cp:revision>
  <dc:subject/>
  <dc:title>Diapositiva 1</dc:title>
</cp:coreProperties>
</file>