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Pie%20Jesuw.wav" ContentType="audio/x-wav"/>
  <Override PartName="/ppt/media/image5.jpeg" ContentType="image/jpeg"/>
  <Override PartName="/ppt/media/image10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8F77-E960-46B1-BBF7-8E3A8DAE3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8C0C-F3A5-4293-8FB8-2C823F6C7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1F9-E64D-4820-8DCD-D98EA7A0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730-C4D7-461D-B20A-13AD8603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EAE-1C38-40F0-BAD3-50196FCA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D6F-C859-416C-844B-F3527FEA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47EA-9CF5-4DDF-86A1-DC678C46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1D7-DD2E-4CD6-ADD6-7EE64361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9D8-C300-4195-A4F7-6D72799E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246-9752-4A19-A053-57B153C7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B4B-3002-440C-972E-FFD6A4B9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3F0-4640-4B7A-B55B-A35CB32D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4DA-8A34-40BA-9226-1CA87F7B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561-2493-4BCE-87D8-F864F0A0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AE25-D90A-4D37-BEE3-5AC080E15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ie%20Jesu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5" descr="Bettempiowt"/>
          <p:cNvPicPr/>
          <p:nvPr/>
        </p:nvPicPr>
        <p:blipFill>
          <a:blip r:embed="rId2"/>
          <a:stretch/>
        </p:blipFill>
        <p:spPr>
          <a:xfrm>
            <a:off x="468360" y="0"/>
            <a:ext cx="831672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395280" y="981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DOMING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51" name="WordArt 10"/>
          <p:cNvSpPr txBox="1"/>
          <p:nvPr/>
        </p:nvSpPr>
        <p:spPr>
          <a:xfrm>
            <a:off x="1258920" y="5877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e0000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e0000"/>
              </a:solidFill>
              <a:latin typeface="Arial Black"/>
              <a:ea typeface="Arial Black"/>
            </a:endParaRPr>
          </a:p>
        </p:txBody>
      </p:sp>
      <p:sp>
        <p:nvSpPr>
          <p:cNvPr id="52" name="WordArt 12"/>
          <p:cNvSpPr txBox="1"/>
          <p:nvPr/>
        </p:nvSpPr>
        <p:spPr>
          <a:xfrm>
            <a:off x="1187280" y="105264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b2591"/>
                </a:solidFill>
                <a:latin typeface="Arial Black"/>
              </a:rPr>
              <a:t>CUARESMA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b2591"/>
              </a:solidFill>
              <a:latin typeface="Arial Black"/>
              <a:ea typeface="Arial Black"/>
            </a:endParaRPr>
          </a:p>
        </p:txBody>
      </p:sp>
      <p:sp>
        <p:nvSpPr>
          <p:cNvPr id="53" name="WordArt 16"/>
          <p:cNvSpPr txBox="1"/>
          <p:nvPr/>
        </p:nvSpPr>
        <p:spPr>
          <a:xfrm>
            <a:off x="900000" y="5832360"/>
            <a:ext cx="744408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61c5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d61c5"/>
              </a:solidFill>
              <a:latin typeface="Arial Black"/>
              <a:ea typeface="Arial Black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7035480" y="214200"/>
            <a:ext cx="1988280" cy="627480"/>
          </a:xfrm>
          <a:prstGeom prst="rect">
            <a:avLst/>
          </a:prstGeom>
          <a:solidFill>
            <a:srgbClr val="ff5925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AMIN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8"/>
          <p:cNvSpPr/>
          <p:nvPr/>
        </p:nvSpPr>
        <p:spPr>
          <a:xfrm>
            <a:off x="194400" y="2565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9"/>
          <p:cNvSpPr/>
          <p:nvPr/>
        </p:nvSpPr>
        <p:spPr>
          <a:xfrm>
            <a:off x="3960" y="263700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30"/>
          <p:cNvSpPr txBox="1"/>
          <p:nvPr/>
        </p:nvSpPr>
        <p:spPr>
          <a:xfrm>
            <a:off x="0" y="328464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1f7b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1f7b"/>
              </a:solidFill>
              <a:latin typeface="Arial Black"/>
              <a:ea typeface="Arial Black"/>
            </a:endParaRPr>
          </a:p>
        </p:txBody>
      </p:sp>
      <p:sp>
        <p:nvSpPr>
          <p:cNvPr id="58" name="WordArt 31"/>
          <p:cNvSpPr txBox="1"/>
          <p:nvPr/>
        </p:nvSpPr>
        <p:spPr>
          <a:xfrm>
            <a:off x="216000" y="3500280"/>
            <a:ext cx="82436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23600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23600"/>
              </a:solidFill>
              <a:latin typeface="Arial Black"/>
              <a:ea typeface="Arial Black"/>
            </a:endParaRPr>
          </a:p>
        </p:txBody>
      </p:sp>
      <p:sp>
        <p:nvSpPr>
          <p:cNvPr id="59" name="Text Box 32"/>
          <p:cNvSpPr/>
          <p:nvPr/>
        </p:nvSpPr>
        <p:spPr>
          <a:xfrm>
            <a:off x="0" y="4941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911f7b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0" y="501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38120" y="0"/>
            <a:ext cx="59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vangelio de Lu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0" y="71280"/>
            <a:ext cx="6500880" cy="855720"/>
          </a:xfrm>
          <a:prstGeom prst="rect">
            <a:avLst/>
          </a:prstGeom>
          <a:solidFill>
            <a:srgbClr val="c7c7c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Pongamos el “Pie Jesu” de Fauré en la voz de la adúltera y todos los pecad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Pie%20Jesu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0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24" dur="8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29" dur="1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546E-006 L -0.72292 0.00786 E">
                                      <p:cBhvr>
                                        <p:cTn id="40" dur="10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5 Imagen" descr="perla.jpg"/>
          <p:cNvPicPr/>
          <p:nvPr/>
        </p:nvPicPr>
        <p:blipFill>
          <a:blip r:embed="rId2"/>
          <a:stretch/>
        </p:blipFill>
        <p:spPr>
          <a:xfrm>
            <a:off x="839880" y="1643040"/>
            <a:ext cx="7518240" cy="4116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14240" y="214200"/>
            <a:ext cx="8286840" cy="1312920"/>
          </a:xfrm>
          <a:prstGeom prst="rect">
            <a:avLst/>
          </a:prstGeom>
          <a:gradFill rotWithShape="0">
            <a:gsLst>
              <a:gs pos="0">
                <a:srgbClr val="730e03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os dictadores acusan y matan, porqué se detienen en la cásc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1280" y="5857920"/>
            <a:ext cx="8358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Tu ves el interior de la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00040" y="642960"/>
            <a:ext cx="807264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  <a:ea typeface="Arial"/>
              </a:rPr>
              <a:t>Le preguntaban esto para comprometerlo y poder acusarlo. Pero Jesús, inclinándose, escribía con el dedo en el suelo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5 Imagen" descr="resized_omararbresew.jpg"/>
          <p:cNvPicPr/>
          <p:nvPr/>
        </p:nvPicPr>
        <p:blipFill>
          <a:blip r:embed="rId2"/>
          <a:stretch/>
        </p:blipFill>
        <p:spPr>
          <a:xfrm>
            <a:off x="714240" y="-19080"/>
            <a:ext cx="4786560" cy="6877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5143680" y="5357880"/>
            <a:ext cx="36432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No te dejas manip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1857240" y="285840"/>
            <a:ext cx="72867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Incluso inclinándote hacia el suelo muestras tu dign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500040" y="357120"/>
            <a:ext cx="7858080" cy="585468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  <a:ea typeface="Arial"/>
              </a:rPr>
              <a:t>Como insistían en preguntarle, se incorporó y les dijo: "El que esté sin pecado, que le tire la primera piedra." E inclinándose otra vez, siguió escribiendo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6 Imagen" descr="resized_aina2tw.jpg"/>
          <p:cNvPicPr/>
          <p:nvPr/>
        </p:nvPicPr>
        <p:blipFill>
          <a:blip r:embed="rId2"/>
          <a:stretch/>
        </p:blipFill>
        <p:spPr>
          <a:xfrm>
            <a:off x="3502080" y="0"/>
            <a:ext cx="5141880" cy="6859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214200" y="5319720"/>
            <a:ext cx="53578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Por qué tirar piedras a los demá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6"/>
          <p:cNvSpPr/>
          <p:nvPr/>
        </p:nvSpPr>
        <p:spPr>
          <a:xfrm>
            <a:off x="428760" y="2517840"/>
            <a:ext cx="2714400" cy="253188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pecado está en  nuestros oj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28760" y="428760"/>
            <a:ext cx="8286480" cy="596052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500" spc="-1" strike="noStrike">
                <a:solidFill>
                  <a:srgbClr val="ffffff"/>
                </a:solidFill>
                <a:latin typeface="Arial"/>
                <a:ea typeface="Arial Unicode MS"/>
              </a:rPr>
              <a:t>Ellos, al oírlo, se fueron escabullendo uno a uno, empezando por los más viejos. Y quedó sólo Jesús, con la mujer, en medio, que seguía allí delante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-36360" y="0"/>
            <a:ext cx="91803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5 Imagen" descr="adulteraminiXtc.jpg"/>
          <p:cNvPicPr/>
          <p:nvPr/>
        </p:nvPicPr>
        <p:blipFill>
          <a:blip r:embed="rId2"/>
          <a:stretch/>
        </p:blipFill>
        <p:spPr>
          <a:xfrm>
            <a:off x="285840" y="0"/>
            <a:ext cx="4773600" cy="6831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5214960" y="714240"/>
            <a:ext cx="3786120" cy="314136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Os encontrasteis las dos víctimas cara a c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214960" y="4071960"/>
            <a:ext cx="38577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 magnífico lo que el Señor hace a favor nuestro </a:t>
            </a:r>
            <a:r>
              <a:rPr b="1" lang="es-ES" sz="3000" spc="-1" strike="noStrike">
                <a:solidFill>
                  <a:srgbClr val="ff0000"/>
                </a:solidFill>
                <a:latin typeface="Arial"/>
              </a:rPr>
              <a:t>(Salm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14200" y="214200"/>
            <a:ext cx="8786880" cy="61880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ffffff"/>
                </a:solidFill>
                <a:latin typeface="Arial"/>
                <a:ea typeface="Arial"/>
              </a:rPr>
              <a:t>Jesús se incorporó y le preguntó: "Mujer, ¿dónde están tus acusadores?; ¿ninguno te ha condenado?" Ella contestó: "Ninguno, Señor." Jesús dijo: "Tampoco yo te condeno. Anda, y en adelante no peques más."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4 Imagen" descr="cristRupnik11w.jpg"/>
          <p:cNvPicPr/>
          <p:nvPr/>
        </p:nvPicPr>
        <p:blipFill>
          <a:blip r:embed="rId2"/>
          <a:stretch/>
        </p:blipFill>
        <p:spPr>
          <a:xfrm>
            <a:off x="133200" y="71280"/>
            <a:ext cx="7510680" cy="6185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4143240" y="5319720"/>
            <a:ext cx="48578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corazón de la mujer volvió a lat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u liberas de opresiones </a:t>
            </a:r>
            <a:r>
              <a:rPr b="1" lang="ca-ES" sz="3500" spc="-1" strike="noStrike">
                <a:solidFill>
                  <a:srgbClr val="ff0000"/>
                </a:solidFill>
                <a:latin typeface="Arial"/>
              </a:rPr>
              <a:t>(1a lectura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214280" y="1143000"/>
            <a:ext cx="6858000" cy="44528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3413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Danos,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Arial"/>
              </a:rPr>
              <a:t>Señor,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Arial"/>
              </a:rPr>
              <a:t> la fuerza de AMAR,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Arial"/>
              </a:rPr>
              <a:t>viendo lo que hay más allá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Arial"/>
              </a:rPr>
              <a:t> de las  apari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0" y="417600"/>
            <a:ext cx="9144000" cy="1068840"/>
          </a:xfrm>
          <a:prstGeom prst="rect">
            <a:avLst/>
          </a:prstGeom>
          <a:solidFill>
            <a:srgbClr val="ab25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UARESMA ciclo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bdbff"/>
                </a:solidFill>
                <a:latin typeface="Arial"/>
                <a:ea typeface="Times New Roman"/>
              </a:rPr>
              <a:t>CAMINO hacia la VID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79280" y="1989000"/>
            <a:ext cx="8964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d2d2f4"/>
                </a:solidFill>
                <a:latin typeface="Arial"/>
                <a:ea typeface="Times New Roman"/>
              </a:rPr>
              <a:t>Dom1- Jesús es tentado como nosotros</a:t>
            </a:r>
            <a:br>
              <a:rPr sz="3000"/>
            </a:br>
            <a:r>
              <a:rPr b="1" lang="es-ES" sz="3000" spc="-1" strike="noStrike">
                <a:solidFill>
                  <a:srgbClr val="d2d2f4"/>
                </a:solidFill>
                <a:latin typeface="Arial"/>
                <a:ea typeface="Times New Roman"/>
              </a:rPr>
              <a:t>Dom2- Jesús Transfigurado es la nueva Alianza</a:t>
            </a:r>
            <a:br>
              <a:rPr sz="3000"/>
            </a:br>
            <a:r>
              <a:rPr b="1" lang="es-ES" sz="3000" spc="-1" strike="noStrike">
                <a:solidFill>
                  <a:srgbClr val="d2d2f4"/>
                </a:solidFill>
                <a:latin typeface="Arial"/>
                <a:ea typeface="Times New Roman"/>
              </a:rPr>
              <a:t>Dom3- Camino de conversión (dar frut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d2d2f4"/>
                </a:solidFill>
                <a:latin typeface="Arial"/>
                <a:ea typeface="Times New Roman"/>
              </a:rPr>
              <a:t>Dom4- El Padre nos espera (hijo pródig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Dom5- Dios nos Perdona (como a la adúltera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357120" y="4857840"/>
            <a:ext cx="8572680" cy="1191240"/>
          </a:xfrm>
          <a:prstGeom prst="rect">
            <a:avLst/>
          </a:prstGeom>
          <a:solidFill>
            <a:srgbClr val="c00000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Quinto paso del Camino</a:t>
            </a:r>
            <a:br>
              <a:rPr sz="3600"/>
            </a:br>
            <a:r>
              <a:rPr b="1" lang="es-ES" sz="3600" spc="-1" strike="noStrike">
                <a:solidFill>
                  <a:srgbClr val="ed912b"/>
                </a:solidFill>
                <a:latin typeface="Arial"/>
                <a:ea typeface="Times New Roman"/>
              </a:rPr>
              <a:t>Vivir el perd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571680" y="585936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785880" y="785880"/>
            <a:ext cx="7715160" cy="4894560"/>
          </a:xfrm>
          <a:prstGeom prst="rect">
            <a:avLst/>
          </a:prstGeom>
          <a:solidFill>
            <a:srgbClr val="6e533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"/>
              </a:rPr>
              <a:t>Este evangelio es tan “escandaloso”, que a los mismos primeros cristianos les costó incluirlo en sus escritos. Pero el valor histórico está fuera de duda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5 Imagen" descr="Imagen24t.jpg"/>
          <p:cNvPicPr/>
          <p:nvPr/>
        </p:nvPicPr>
        <p:blipFill>
          <a:blip r:embed="rId2"/>
          <a:stretch/>
        </p:blipFill>
        <p:spPr>
          <a:xfrm>
            <a:off x="-1071720" y="0"/>
            <a:ext cx="112874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357720" y="214200"/>
            <a:ext cx="5429160" cy="947160"/>
          </a:xfrm>
          <a:prstGeom prst="rect">
            <a:avLst/>
          </a:prstGeom>
          <a:solidFill>
            <a:srgbClr val="6e533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uros del Templo, de la parte  del atrio de las muj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14240" y="6119640"/>
            <a:ext cx="7215480" cy="520560"/>
          </a:xfrm>
          <a:prstGeom prst="rect">
            <a:avLst/>
          </a:prstGeom>
          <a:solidFill>
            <a:srgbClr val="0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1a275"/>
                </a:solidFill>
                <a:latin typeface="Arial"/>
              </a:rPr>
              <a:t>El regalo de la cuaresma es el PERD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0 L -0.40156 0 E">
                                      <p:cBhvr>
                                        <p:cTn id="56" dur="1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0"/>
          <p:cNvSpPr/>
          <p:nvPr/>
        </p:nvSpPr>
        <p:spPr>
          <a:xfrm>
            <a:off x="428760" y="428760"/>
            <a:ext cx="8429400" cy="542628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ffffff"/>
                </a:solidFill>
                <a:latin typeface="Arial"/>
                <a:ea typeface="Arial Unicode MS"/>
              </a:rPr>
              <a:t>Jn 8, 1-11 En aquel tiempo, Jesús se retiró al monte de los Olivos. Al amanecer se presentó de nuevo en el templo, y todo el pueblo acudía a él, y, sentándose, les enseñaba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8"/>
          <p:cNvSpPr/>
          <p:nvPr/>
        </p:nvSpPr>
        <p:spPr>
          <a:xfrm>
            <a:off x="838080" y="6072120"/>
            <a:ext cx="7981920" cy="550800"/>
          </a:xfrm>
          <a:prstGeom prst="rect">
            <a:avLst/>
          </a:prstGeom>
          <a:solidFill>
            <a:srgbClr val="c1a2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uz matutina en el lugar del Temp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7 Imagen" descr="ESCALESt.jpg"/>
          <p:cNvPicPr/>
          <p:nvPr/>
        </p:nvPicPr>
        <p:blipFill>
          <a:blip r:embed="rId2"/>
          <a:stretch/>
        </p:blipFill>
        <p:spPr>
          <a:xfrm>
            <a:off x="1908000" y="1857240"/>
            <a:ext cx="7236000" cy="5315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14200" y="2214720"/>
            <a:ext cx="3000600" cy="359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Ante los enemigos “haces una creación nueva” </a:t>
            </a:r>
            <a:br>
              <a:rPr sz="4000"/>
            </a:br>
            <a:r>
              <a:rPr b="1" lang="ca-ES" sz="3000" spc="-1" strike="noStrike">
                <a:solidFill>
                  <a:srgbClr val="ff0000"/>
                </a:solidFill>
                <a:latin typeface="Arial"/>
              </a:rPr>
              <a:t>(2a lectura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42920" y="142920"/>
            <a:ext cx="7072200" cy="1922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eñor, cuando tu vida se acaba, subes al templo para dar las grandes lec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000080" y="714240"/>
            <a:ext cx="6643800" cy="54255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0" spc="-1" strike="noStrike">
                <a:solidFill>
                  <a:srgbClr val="ffffff"/>
                </a:solidFill>
                <a:latin typeface="Arial"/>
                <a:ea typeface="Arial Unicode MS"/>
              </a:rPr>
              <a:t>Los escribas y los fariseos le traen una mujer sorprendida en adulterio,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6 Imagen" descr="omardonaw.jpg"/>
          <p:cNvPicPr/>
          <p:nvPr/>
        </p:nvPicPr>
        <p:blipFill>
          <a:blip r:embed="rId2"/>
          <a:stretch/>
        </p:blipFill>
        <p:spPr>
          <a:xfrm>
            <a:off x="4071960" y="0"/>
            <a:ext cx="47941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9"/>
          <p:cNvSpPr/>
          <p:nvPr/>
        </p:nvSpPr>
        <p:spPr>
          <a:xfrm>
            <a:off x="285840" y="214200"/>
            <a:ext cx="39290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mujer sirve de excu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857160" y="1714680"/>
            <a:ext cx="3000600" cy="241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La condena siempre cae sobre los indefens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506520" y="593640"/>
            <a:ext cx="8280360" cy="542628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ffffff"/>
                </a:solidFill>
                <a:latin typeface="Arial"/>
                <a:ea typeface="Arial"/>
              </a:rPr>
              <a:t>y, colocándola en medio, le dijeron: "Maestro, esta mujer ha sido sorprendida en flagrante adulterio. La ley de Moisés nos manda apedrear a las adúlteras; tú, ¿qué dices?"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10-03-16T18:32:48Z</dcterms:modified>
  <cp:revision>496</cp:revision>
  <dc:subject>stbenet@benedictinescat.com</dc:subject>
  <dc:title>evangeli</dc:title>
</cp:coreProperties>
</file>