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Pie%20Jesuw.wav" ContentType="audio/x-wav"/>
  <Override PartName="/ppt/media/image5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BA8-4D51-4A24-A362-0B6B7360F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055A-A283-4A35-B3F6-E0C98622F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AE9-BCC8-42E5-9ACA-A4672F86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2EF-04A5-48F8-980C-43F63394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700-D6BE-4E82-AF8F-61EB8E13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6E8-72A6-462F-88BB-7D2747B9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476-7A83-44A7-8597-F199453F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D3C-A12F-4503-BE59-A0D66C53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809-739F-4906-87E9-4E7400E3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916-C891-4CA9-A627-720F00EE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3D9-DDFB-485F-92DC-B1B0B2BD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2EF-EDE0-4AC4-AF02-39CDC5D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43C-A31B-48BE-8499-36628644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470-3D09-4E52-B7A8-5E138E9B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C74A-4347-4EA4-941E-4E94FCA7C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ie%20Jesu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5" descr="Bettempiowt"/>
          <p:cNvPicPr/>
          <p:nvPr/>
        </p:nvPicPr>
        <p:blipFill>
          <a:blip r:embed="rId2"/>
          <a:stretch/>
        </p:blipFill>
        <p:spPr>
          <a:xfrm>
            <a:off x="468360" y="0"/>
            <a:ext cx="83167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DOMIN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e0000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e00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12"/>
          <p:cNvSpPr txBox="1"/>
          <p:nvPr/>
        </p:nvSpPr>
        <p:spPr>
          <a:xfrm>
            <a:off x="1187280" y="105264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b2591"/>
                </a:solidFill>
                <a:latin typeface="Arial Black"/>
              </a:rPr>
              <a:t>CUARESMA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b2591"/>
              </a:solidFill>
              <a:latin typeface="Arial Black"/>
              <a:ea typeface="Arial Black"/>
            </a:endParaRPr>
          </a:p>
        </p:txBody>
      </p:sp>
      <p:sp>
        <p:nvSpPr>
          <p:cNvPr id="53" name="WordArt 16"/>
          <p:cNvSpPr txBox="1"/>
          <p:nvPr/>
        </p:nvSpPr>
        <p:spPr>
          <a:xfrm>
            <a:off x="900000" y="5832360"/>
            <a:ext cx="744408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61c5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61c5"/>
              </a:solidFill>
              <a:latin typeface="Arial Black"/>
              <a:ea typeface="Arial Black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7035480" y="214200"/>
            <a:ext cx="1988280" cy="627480"/>
          </a:xfrm>
          <a:prstGeom prst="rect">
            <a:avLst/>
          </a:prstGeom>
          <a:solidFill>
            <a:srgbClr val="ff5925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AMIN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194400" y="2565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3960" y="263700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30"/>
          <p:cNvSpPr txBox="1"/>
          <p:nvPr/>
        </p:nvSpPr>
        <p:spPr>
          <a:xfrm>
            <a:off x="0" y="328464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1f7b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1f7b"/>
              </a:solidFill>
              <a:latin typeface="Arial Black"/>
              <a:ea typeface="Arial Black"/>
            </a:endParaRPr>
          </a:p>
        </p:txBody>
      </p:sp>
      <p:sp>
        <p:nvSpPr>
          <p:cNvPr id="58" name="WordArt 31"/>
          <p:cNvSpPr txBox="1"/>
          <p:nvPr/>
        </p:nvSpPr>
        <p:spPr>
          <a:xfrm>
            <a:off x="216000" y="3500280"/>
            <a:ext cx="8243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23600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23600"/>
              </a:solidFill>
              <a:latin typeface="Arial Black"/>
              <a:ea typeface="Arial Black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0" y="4941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911f7b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0" y="501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38120" y="0"/>
            <a:ext cx="59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vangelio de Lu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0" y="71280"/>
            <a:ext cx="6500880" cy="855720"/>
          </a:xfrm>
          <a:prstGeom prst="rect">
            <a:avLst/>
          </a:prstGeom>
          <a:solidFill>
            <a:srgbClr val="c7c7c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Pongamos el “Pie Jesu” de Fauré en la voz de la adúltera y todos los pecad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Pie%20Jesu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0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24" dur="8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29" dur="1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546E-006 L -0.72292 0.00786 E">
                                      <p:cBhvr>
                                        <p:cTn id="40" dur="10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5 Imagen" descr="perla.jpg"/>
          <p:cNvPicPr/>
          <p:nvPr/>
        </p:nvPicPr>
        <p:blipFill>
          <a:blip r:embed="rId2"/>
          <a:stretch/>
        </p:blipFill>
        <p:spPr>
          <a:xfrm>
            <a:off x="839880" y="1643040"/>
            <a:ext cx="7518240" cy="4116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14240" y="214200"/>
            <a:ext cx="8286840" cy="1312920"/>
          </a:xfrm>
          <a:prstGeom prst="rect">
            <a:avLst/>
          </a:prstGeom>
          <a:gradFill rotWithShape="0">
            <a:gsLst>
              <a:gs pos="0">
                <a:srgbClr val="730e03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s dictadores acusan y matan, porqué se detienen en la cásc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1280" y="5857920"/>
            <a:ext cx="8358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Tu ves el interior de la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00040" y="642960"/>
            <a:ext cx="807264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  <a:ea typeface="Arial"/>
              </a:rPr>
              <a:t>Le preguntaban esto para comprometerlo y poder acusarlo. Pero Jesús, inclinándose, escribía con el dedo en el suelo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5 Imagen" descr="resized_omararbresew.jpg"/>
          <p:cNvPicPr/>
          <p:nvPr/>
        </p:nvPicPr>
        <p:blipFill>
          <a:blip r:embed="rId2"/>
          <a:stretch/>
        </p:blipFill>
        <p:spPr>
          <a:xfrm>
            <a:off x="714240" y="-19080"/>
            <a:ext cx="4786560" cy="6877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5143680" y="5357880"/>
            <a:ext cx="36432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No te dejas manip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1857240" y="285840"/>
            <a:ext cx="72867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Incluso inclinándote hacia el suelo muestras tu dign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00040" y="357120"/>
            <a:ext cx="7858080" cy="58546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  <a:ea typeface="Arial"/>
              </a:rPr>
              <a:t>Como insistían en preguntarle, se incorporó y les dijo: "El que esté sin pecado, que le tire la primera piedra." E inclinándose otra vez, siguió escribiendo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6 Imagen" descr="resized_aina2tw.jpg"/>
          <p:cNvPicPr/>
          <p:nvPr/>
        </p:nvPicPr>
        <p:blipFill>
          <a:blip r:embed="rId2"/>
          <a:stretch/>
        </p:blipFill>
        <p:spPr>
          <a:xfrm>
            <a:off x="3502080" y="0"/>
            <a:ext cx="514188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14200" y="5319720"/>
            <a:ext cx="53578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Por qué tirar piedras a los demá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6"/>
          <p:cNvSpPr/>
          <p:nvPr/>
        </p:nvSpPr>
        <p:spPr>
          <a:xfrm>
            <a:off x="428760" y="2517840"/>
            <a:ext cx="2714400" cy="253188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ecado está en  nuestros o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28760" y="428760"/>
            <a:ext cx="8286480" cy="59605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fffff"/>
                </a:solidFill>
                <a:latin typeface="Arial"/>
                <a:ea typeface="Arial Unicode MS"/>
              </a:rPr>
              <a:t>Ellos, al oírlo, se fueron escabullendo uno a uno, empezando por los más viejos. Y quedó sólo Jesús, con la mujer, en medio, que seguía allí delante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-36360" y="0"/>
            <a:ext cx="9180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5 Imagen" descr="adulteraminiXtc.jpg"/>
          <p:cNvPicPr/>
          <p:nvPr/>
        </p:nvPicPr>
        <p:blipFill>
          <a:blip r:embed="rId2"/>
          <a:stretch/>
        </p:blipFill>
        <p:spPr>
          <a:xfrm>
            <a:off x="285840" y="0"/>
            <a:ext cx="4773600" cy="6831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5214960" y="714240"/>
            <a:ext cx="3786120" cy="3141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s encontrasteis las dos víctimas cara a c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214960" y="4071960"/>
            <a:ext cx="38577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 magnífico lo que el Señor hace a favor nuestro </a:t>
            </a: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(Salm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4200" y="214200"/>
            <a:ext cx="8786880" cy="61880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  <a:ea typeface="Arial"/>
              </a:rPr>
              <a:t>Jesús se incorporó y le preguntó: "Mujer, ¿dónde están tus acusadores?; ¿ninguno te ha condenado?" Ella contestó: "Ninguno, Señor." Jesús dijo: "Tampoco yo te condeno. Anda, y en adelante no peques más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4 Imagen" descr="cristRupnik11w.jpg"/>
          <p:cNvPicPr/>
          <p:nvPr/>
        </p:nvPicPr>
        <p:blipFill>
          <a:blip r:embed="rId2"/>
          <a:stretch/>
        </p:blipFill>
        <p:spPr>
          <a:xfrm>
            <a:off x="133200" y="71280"/>
            <a:ext cx="7510680" cy="618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143240" y="5319720"/>
            <a:ext cx="48578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corazón de la mujer volvió a lat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u liberas de opresiones </a:t>
            </a:r>
            <a:r>
              <a:rPr b="1" lang="ca-ES" sz="3500" spc="-1" strike="noStrike">
                <a:solidFill>
                  <a:srgbClr val="ff0000"/>
                </a:solidFill>
                <a:latin typeface="Arial"/>
              </a:rPr>
              <a:t>(1a lectura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214280" y="1143000"/>
            <a:ext cx="6858000" cy="44528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3413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Danos,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Señor,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 la fuerza de AMAR,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viendo lo que hay más allá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 de las  apari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417600"/>
            <a:ext cx="9144000" cy="1068840"/>
          </a:xfrm>
          <a:prstGeom prst="rect">
            <a:avLst/>
          </a:prstGeom>
          <a:solidFill>
            <a:srgbClr val="ab2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UARESMA ciclo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bdbff"/>
                </a:solidFill>
                <a:latin typeface="Arial"/>
                <a:ea typeface="Times New Roman"/>
              </a:rPr>
              <a:t>CAMINO hacia la VID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79280" y="1989000"/>
            <a:ext cx="8964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d2d2f4"/>
                </a:solidFill>
                <a:latin typeface="Arial"/>
                <a:ea typeface="Times New Roman"/>
              </a:rPr>
              <a:t>Dom1- Jesús es tentado como nosotros</a:t>
            </a:r>
            <a:br>
              <a:rPr sz="3000"/>
            </a:br>
            <a:r>
              <a:rPr b="1" lang="es-ES" sz="3000" spc="-1" strike="noStrike">
                <a:solidFill>
                  <a:srgbClr val="d2d2f4"/>
                </a:solidFill>
                <a:latin typeface="Arial"/>
                <a:ea typeface="Times New Roman"/>
              </a:rPr>
              <a:t>Dom2- Jesús Transfigurado es la nueva Alianza</a:t>
            </a:r>
            <a:br>
              <a:rPr sz="3000"/>
            </a:br>
            <a:r>
              <a:rPr b="1" lang="es-ES" sz="3000" spc="-1" strike="noStrike">
                <a:solidFill>
                  <a:srgbClr val="d2d2f4"/>
                </a:solidFill>
                <a:latin typeface="Arial"/>
                <a:ea typeface="Times New Roman"/>
              </a:rPr>
              <a:t>Dom3- Camino de conversión (dar frut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d2d2f4"/>
                </a:solidFill>
                <a:latin typeface="Arial"/>
                <a:ea typeface="Times New Roman"/>
              </a:rPr>
              <a:t>Dom4- El Padre nos espera (hijo pródig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Dom5- Dios nos Perdona (como a la adúltera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57120" y="4857840"/>
            <a:ext cx="8572680" cy="1191240"/>
          </a:xfrm>
          <a:prstGeom prst="rect">
            <a:avLst/>
          </a:prstGeom>
          <a:solidFill>
            <a:srgbClr val="c00000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Quinto paso del Camino</a:t>
            </a:r>
            <a:br>
              <a:rPr sz="3600"/>
            </a:br>
            <a:r>
              <a:rPr b="1" lang="es-ES" sz="3600" spc="-1" strike="noStrike">
                <a:solidFill>
                  <a:srgbClr val="ed912b"/>
                </a:solidFill>
                <a:latin typeface="Arial"/>
                <a:ea typeface="Times New Roman"/>
              </a:rPr>
              <a:t>Vivir el perd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571680" y="585936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785880" y="785880"/>
            <a:ext cx="7715160" cy="4894560"/>
          </a:xfrm>
          <a:prstGeom prst="rect">
            <a:avLst/>
          </a:prstGeom>
          <a:solidFill>
            <a:srgbClr val="6e533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Este evangelio es tan “escandaloso”, que a los mismos primeros cristianos les costó incluirlo en sus escritos. Pero el valor histórico está fuera de duda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5 Imagen" descr="Imagen24t.jpg"/>
          <p:cNvPicPr/>
          <p:nvPr/>
        </p:nvPicPr>
        <p:blipFill>
          <a:blip r:embed="rId2"/>
          <a:stretch/>
        </p:blipFill>
        <p:spPr>
          <a:xfrm>
            <a:off x="-1071720" y="0"/>
            <a:ext cx="112874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357720" y="214200"/>
            <a:ext cx="5429160" cy="947160"/>
          </a:xfrm>
          <a:prstGeom prst="rect">
            <a:avLst/>
          </a:prstGeom>
          <a:solidFill>
            <a:srgbClr val="6e533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ros del Templo, de la parte  del atrio d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14240" y="6119640"/>
            <a:ext cx="7215480" cy="520560"/>
          </a:xfrm>
          <a:prstGeom prst="rect">
            <a:avLst/>
          </a:prstGeom>
          <a:solidFill>
            <a:srgbClr val="0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1a275"/>
                </a:solidFill>
                <a:latin typeface="Arial"/>
              </a:rPr>
              <a:t>El regalo de la cuaresma es el PERD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 L -0.40156 0 E">
                                      <p:cBhvr>
                                        <p:cTn id="56" dur="1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0"/>
          <p:cNvSpPr/>
          <p:nvPr/>
        </p:nvSpPr>
        <p:spPr>
          <a:xfrm>
            <a:off x="428760" y="428760"/>
            <a:ext cx="8429400" cy="542628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  <a:ea typeface="Arial Unicode MS"/>
              </a:rPr>
              <a:t>Jn 8, 1-11 En aquel tiempo, Jesús se retiró al monte de los Olivos. Al amanecer se presentó de nuevo en el templo, y todo el pueblo acudía a él, y, sentándose, les enseñab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838080" y="6072120"/>
            <a:ext cx="7981920" cy="550800"/>
          </a:xfrm>
          <a:prstGeom prst="rect">
            <a:avLst/>
          </a:prstGeom>
          <a:solidFill>
            <a:srgbClr val="c1a2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uz matutina en el lugar del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7 Imagen" descr="ESCALESt.jpg"/>
          <p:cNvPicPr/>
          <p:nvPr/>
        </p:nvPicPr>
        <p:blipFill>
          <a:blip r:embed="rId2"/>
          <a:stretch/>
        </p:blipFill>
        <p:spPr>
          <a:xfrm>
            <a:off x="1908000" y="1857240"/>
            <a:ext cx="7236000" cy="5315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14200" y="2214720"/>
            <a:ext cx="3000600" cy="35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Ante los enemigos “haces una creación nueva” </a:t>
            </a:r>
            <a:br>
              <a:rPr sz="4000"/>
            </a:br>
            <a:r>
              <a:rPr b="1" lang="ca-ES" sz="3000" spc="-1" strike="noStrike">
                <a:solidFill>
                  <a:srgbClr val="ff0000"/>
                </a:solidFill>
                <a:latin typeface="Arial"/>
              </a:rPr>
              <a:t>(2a lectura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42920" y="142920"/>
            <a:ext cx="707220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, cuando tu vida se acaba, subes al templo para dar las grandes lec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000080" y="714240"/>
            <a:ext cx="6643800" cy="5425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0" spc="-1" strike="noStrike">
                <a:solidFill>
                  <a:srgbClr val="ffffff"/>
                </a:solidFill>
                <a:latin typeface="Arial"/>
                <a:ea typeface="Arial Unicode MS"/>
              </a:rPr>
              <a:t>Los escribas y los fariseos le traen una mujer sorprendida en adulterio,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6 Imagen" descr="omardonaw.jpg"/>
          <p:cNvPicPr/>
          <p:nvPr/>
        </p:nvPicPr>
        <p:blipFill>
          <a:blip r:embed="rId2"/>
          <a:stretch/>
        </p:blipFill>
        <p:spPr>
          <a:xfrm>
            <a:off x="4071960" y="0"/>
            <a:ext cx="4794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9"/>
          <p:cNvSpPr/>
          <p:nvPr/>
        </p:nvSpPr>
        <p:spPr>
          <a:xfrm>
            <a:off x="285840" y="214200"/>
            <a:ext cx="39290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mujer sirve de excu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857160" y="1714680"/>
            <a:ext cx="3000600" cy="24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La condena siempre cae sobre los indefens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06520" y="593640"/>
            <a:ext cx="8280360" cy="54262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  <a:ea typeface="Arial"/>
              </a:rPr>
              <a:t>y, colocándola en medio, le dijeron: "Maestro, esta mujer ha sido sorprendida en flagrante adulterio. La ley de Moisés nos manda apedrear a las adúlteras; tú, ¿qué dices?"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10-03-16T18:32:48Z</dcterms:modified>
  <cp:revision>496</cp:revision>
  <dc:subject>stbenet@benedictinescat.com</dc:subject>
  <dc:title>evangeli</dc:title>
</cp:coreProperties>
</file>