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Oh%20dol%C3%A7%20Jes%C3%BAs09%20%20ADVEN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047-EFF0-4EB3-851E-51AAFB9B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FFB-655C-4723-8356-AF390DBA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FAA-B76D-4891-9B95-DA3D6462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C27-E5B7-488A-93BA-6C466FD7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BC4-86AE-424F-86FA-A06BC2C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56D-75A2-45C0-BE70-DFE670E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588-649C-4BC2-BAB2-BA37A128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479-0FE5-4F17-AD8C-DC762BD3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D78-34C5-4ECC-9801-3E973AD0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DCF-E1CC-4B0E-9326-BE81F15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27F-F923-49A9-A13B-C4814F7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B56-8C95-47A7-8F95-BAC098F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CB14-0F28-42A8-91A5-A32888DC8C3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h%20dol&#231;%20Jes&#250;s09%20%20ADVENT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77080" y="26028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a-ES" sz="3200" spc="-1" strike="noStrike">
                <a:solidFill>
                  <a:srgbClr val="ffffff"/>
                </a:solidFill>
                <a:latin typeface="Comic Sans MS"/>
              </a:rPr>
              <a:t>Ciclo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565360"/>
            <a:ext cx="790416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ffff"/>
                </a:solidFill>
                <a:latin typeface="Comic Sans MS"/>
              </a:rPr>
              <a:t>4 Domingo de Adv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87960"/>
            <a:ext cx="579132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ORATORIO DE NAVIDAD de J.S B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413000"/>
            <a:ext cx="691200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2156ff"/>
                </a:solidFill>
                <a:latin typeface="Comic Sans MS"/>
              </a:rPr>
              <a:t>20 diciembre 200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Oh%20dol%C3%A7%20Jes%C3%BAs09%20%20ADVEN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ermat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457200"/>
            <a:ext cx="8839080" cy="5762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de la profecía de Mique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cuanto a ti, Belén Efrata, la más pequeña entre los clanes de Judá, se ti sacaré al que ha de ser soberano de Israel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 orígenes se remontan a los tiemp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guos,a los días de antaño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 el Señor abandonará a los suyos hasta el tiempo en que dé a luz la que ha de dar a luz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los que aún queden volverán a reunirse con sus hermanos israelita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mantendrá firme y pastoreará con la fuerza del Señor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con la majestad del nombre del Señor su Di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los vivirán seguros, porque extenderá su poder hasta los confines de la tierr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l mismo será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9000" y="0"/>
            <a:ext cx="3838320" cy="1465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cf1e"/>
                </a:solidFill>
                <a:latin typeface="Comic Sans MS"/>
              </a:rPr>
              <a:t> </a:t>
            </a:r>
            <a:r>
              <a:rPr b="1" i="1" lang="ca-ES" sz="6600" spc="-1" strike="noStrike">
                <a:solidFill>
                  <a:srgbClr val="0033cc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0033cc"/>
                </a:solidFill>
                <a:latin typeface="Comic Sans MS"/>
              </a:rPr>
              <a:t> 79</a:t>
            </a:r>
            <a:r>
              <a:rPr b="0" lang="ca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00" y="1446120"/>
            <a:ext cx="7881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11ff2d"/>
                </a:solidFill>
                <a:latin typeface="Comic Sans MS"/>
              </a:rPr>
              <a:t>  </a:t>
            </a: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Oh Dios, restáuranos, que brille tu rostro</a:t>
            </a:r>
            <a:br>
              <a:rPr sz="3100"/>
            </a:b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y nos sal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91120"/>
            <a:ext cx="861048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ffcf1e"/>
                </a:solidFill>
                <a:latin typeface="Comic Sans MS"/>
              </a:rPr>
              <a:t>  </a:t>
            </a:r>
            <a:r>
              <a:rPr b="0" i="1" lang="es-ES" sz="3200" spc="-1" strike="noStrike">
                <a:solidFill>
                  <a:srgbClr val="0c1dff"/>
                </a:solidFill>
                <a:latin typeface="Comic Sans MS"/>
                <a:ea typeface="Times New Roman"/>
              </a:rPr>
              <a:t>Pastor de Israel, escucha, tú que te sientas sobre los querubines, resplandece.</a:t>
            </a:r>
            <a:br>
              <a:rPr sz="3200"/>
            </a:br>
            <a:r>
              <a:rPr b="0" i="1" lang="es-ES" sz="3200" spc="-1" strike="noStrike">
                <a:solidFill>
                  <a:srgbClr val="0c1dff"/>
                </a:solidFill>
                <a:latin typeface="Comic Sans MS"/>
                <a:ea typeface="Times New Roman"/>
              </a:rPr>
              <a:t>Despierta tu poder y ven a salvarnos.</a:t>
            </a:r>
            <a:r>
              <a:rPr b="0" i="1" lang="es-ES" sz="3200" spc="-1" strike="noStrike">
                <a:solidFill>
                  <a:srgbClr val="0c1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" y="1066680"/>
            <a:ext cx="7881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ffbd07"/>
                </a:solidFill>
                <a:latin typeface="Comic Sans MS"/>
              </a:rPr>
              <a:t>  </a:t>
            </a: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Oh Dios, restáuranos, que brille tu rostro</a:t>
            </a:r>
            <a:br>
              <a:rPr sz="3100"/>
            </a:b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y nos sal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733920"/>
            <a:ext cx="8686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11ff2d"/>
                </a:solidFill>
                <a:latin typeface="Comic Sans MS"/>
              </a:rPr>
              <a:t> </a:t>
            </a:r>
            <a:r>
              <a:rPr b="1" i="1" lang="es-ES" sz="3200" spc="-1" strike="noStrike">
                <a:solidFill>
                  <a:srgbClr val="82c7cc"/>
                </a:solidFill>
                <a:latin typeface="Comic Sans MS"/>
                <a:ea typeface="Times New Roman"/>
              </a:rPr>
              <a:t>¡Dios todopoderoso, vuélvete ya,</a:t>
            </a:r>
            <a:br>
              <a:rPr sz="3200"/>
            </a:br>
            <a:r>
              <a:rPr b="1" i="1" lang="es-ES" sz="3200" spc="-1" strike="noStrike">
                <a:solidFill>
                  <a:srgbClr val="82c7cc"/>
                </a:solidFill>
                <a:latin typeface="Comic Sans MS"/>
                <a:ea typeface="Times New Roman"/>
              </a:rPr>
              <a:t>mira desde el cielo, fíjate, ven a visitar tu vid,la cepa que tu diestra plantó,</a:t>
            </a:r>
            <a:br>
              <a:rPr sz="3200"/>
            </a:br>
            <a:r>
              <a:rPr b="1" i="1" lang="es-ES" sz="3200" spc="-1" strike="noStrike">
                <a:solidFill>
                  <a:srgbClr val="82c7cc"/>
                </a:solidFill>
                <a:latin typeface="Comic Sans MS"/>
                <a:ea typeface="Times New Roman"/>
              </a:rPr>
              <a:t> el retoño que hiciste vigoroso.</a:t>
            </a:r>
            <a:r>
              <a:rPr b="1" i="1" lang="es-ES" sz="3200" spc="-1" strike="noStrike">
                <a:solidFill>
                  <a:srgbClr val="82c7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9920" y="838080"/>
            <a:ext cx="78418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ffbd07"/>
                </a:solidFill>
                <a:latin typeface="Comic Sans MS"/>
              </a:rPr>
              <a:t> </a:t>
            </a: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Oh Dios, restáuranos, que brille tu rostro</a:t>
            </a:r>
            <a:br>
              <a:rPr sz="3100"/>
            </a:b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y nos sal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657600"/>
            <a:ext cx="86104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1ff2d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Que tu mano proteja a tu elegido, 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al hombre que tú fortaleciste.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Ya nunca nos apartaremos de ti: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devuélvenos la vida para que invoquemos 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tu nombre.</a:t>
            </a:r>
            <a:r>
              <a:rPr b="0" i="1" lang="es-E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neu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0"/>
            <a:ext cx="8839080" cy="667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Lectura de la carta a los Hebr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, al entrar en este mundo, dice Cristo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has querido sacrificio ni ofrenda, pero me has formado un cuerpo; no has aceptado holocaust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 sacrificios expiatorio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yo dije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quí vengo, oh Dios, para hacer tu voluntad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í está escrito de mí en un capítulo del libro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primer lugar dice: No has querido ni te agradan los sacrificios, ofrendas, holocaustos ni víctimas por el pecado, que se ofrecen según la ley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pués añade: Aquí vengo para hacer tu voluntad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este modo anula la primera disposición y establece la segunda. Por haber cumplido la voluntad de Dios, y gracias a la ofrenda que Jesucristo ha hecho de su cuerpo una vez para siempre, nosotros hemos quedado consagrados a Dio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9880" y="2943360"/>
            <a:ext cx="7084800" cy="173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Comic Sans MS"/>
              </a:rPr>
              <a:t>Aquí está la sierva del Señor,</a:t>
            </a:r>
            <a:br>
              <a:rPr sz="2800"/>
            </a:br>
            <a:r>
              <a:rPr b="1" lang="ca-ES" sz="2800" spc="-1" strike="noStrike">
                <a:solidFill>
                  <a:srgbClr val="ffffff"/>
                </a:solidFill>
                <a:latin typeface="Comic Sans MS"/>
              </a:rPr>
              <a:t>hágase en mí según tu palabra.</a:t>
            </a: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Lc 1,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476280"/>
            <a:ext cx="8381880" cy="509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b18dc"/>
                </a:solidFill>
                <a:latin typeface="Comic Sans MS"/>
              </a:rPr>
              <a:t>Evangelio según san Lucas  1, 39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b18dc"/>
                </a:solidFill>
                <a:latin typeface="Comic Sans MS"/>
              </a:rPr>
              <a:t>   </a:t>
            </a:r>
            <a:r>
              <a:rPr b="1" i="1" lang="es-ES" sz="2400" spc="-1" strike="noStrike">
                <a:solidFill>
                  <a:srgbClr val="0b18dc"/>
                </a:solidFill>
                <a:latin typeface="Comic Sans MS"/>
                <a:ea typeface="Times New Roman"/>
              </a:rPr>
              <a:t>Por aquellos días, María se puso en camino y se fue de prisa a la montaña, a una ciudad de Judá. Entró en casa de Zacarías y saludó a Isabel. Y cuando Isabel oyó el saludo de María, el niño empezó a dar saltos en su seno. Entonces Isabel, llena del Espíritu Santo, exclamó a grandes voces:</a:t>
            </a:r>
            <a:br>
              <a:rPr sz="2400"/>
            </a:br>
            <a:r>
              <a:rPr b="1" i="1" lang="es-ES" sz="2400" spc="-1" strike="noStrike">
                <a:solidFill>
                  <a:srgbClr val="0b18dc"/>
                </a:solidFill>
                <a:latin typeface="Comic Sans MS"/>
                <a:ea typeface="Times New Roman"/>
              </a:rPr>
              <a:t>-Bendita tú entre las mujeres y bendito el fruto de tu vientre. Pero ¿cómo es posible que la madre de mi Señor venga a visitarme? Porque en cuanto oí tu saludo, el niño empezó a dar saltos de alegría en mi seno. ¡Dichosa tú que has creído! Porque lo que te ha dicho el Señor se cumpli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6211800"/>
            <a:ext cx="788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Ein Karem. En la fachada,escena de la visitación de María a su prima Isab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9:41:35Z</dcterms:created>
  <dc:creator>JOAN RAMIREZ</dc:creator>
  <dc:description/>
  <dc:language>en-US</dc:language>
  <cp:lastModifiedBy>Usuario</cp:lastModifiedBy>
  <dcterms:modified xsi:type="dcterms:W3CDTF">2009-12-16T17:45:18Z</dcterms:modified>
  <cp:revision>19</cp:revision>
  <dc:subject/>
  <dc:title>Presentación de PowerPoint</dc:title>
</cp:coreProperties>
</file>