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Oh%20dol%C3%A7%20Jes%C3%BAs09%20%20ADVENT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7B0-9D3B-4F6C-8E01-A34C732B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A55-8E37-4773-AA51-5A2F3919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661-208B-4B22-B46E-BCD19845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D84-9008-4844-9DDD-57B4471C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AFE-3F12-4E2A-ACBC-C0AF3973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4E0-4403-41AA-9F7C-FB397900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891-F6E5-4383-A078-37DFDB89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2D0-1477-4E0D-BD97-A79941EF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A15-8EE5-42F2-9BF2-16B20F69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ACF-0092-4527-86D8-FA479A3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C46-A3DB-4E1A-816B-C0B41196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96A-91D9-49EF-85A2-54403041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78F7-C836-4C71-82CB-C46E6B4B43F8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Oh%20dol&#231;%20Jes&#250;s09%20%20ADVENT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77080" y="26028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ca-ES" sz="3200" spc="-1" strike="noStrike">
                <a:solidFill>
                  <a:srgbClr val="ffffff"/>
                </a:solidFill>
                <a:latin typeface="Comic Sans MS"/>
              </a:rPr>
              <a:t>Ciclo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2565360"/>
            <a:ext cx="790416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ffff"/>
                </a:solidFill>
                <a:latin typeface="Comic Sans MS"/>
              </a:rPr>
              <a:t>4 Domingo de Adv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87960"/>
            <a:ext cx="579132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ORATORIO DE NAVIDAD de J.S B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413000"/>
            <a:ext cx="691200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2156ff"/>
                </a:solidFill>
                <a:latin typeface="Comic Sans MS"/>
              </a:rPr>
              <a:t>20 diciembre 200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Oh%20dol%C3%A7%20Jes%C3%BAs09%20%20ADVEN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Zermat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457200"/>
            <a:ext cx="8839080" cy="5762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de la profecía de Mique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cuanto a ti, Belén Efrata, la más pequeña entre los clanes de Judá, se ti sacaré al que ha de ser soberano de Israel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s orígenes se remontan a los tiemp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iguos,a los días de antaño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o el Señor abandonará a los suyos hasta el tiempo en que dé a luz la que ha de dar a luz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los que aún queden volverán a reunirse con sus hermanos israelita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mantendrá firme y pastoreará con la fuerza del Señor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con la majestad del nombre del Señor su Dio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los vivirán seguros, porque extenderá su poder hasta los confines de la tierr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l mismo será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9000" y="0"/>
            <a:ext cx="3838320" cy="1465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ffcf1e"/>
                </a:solidFill>
                <a:latin typeface="Comic Sans MS"/>
              </a:rPr>
              <a:t> </a:t>
            </a:r>
            <a:r>
              <a:rPr b="1" i="1" lang="ca-ES" sz="6600" spc="-1" strike="noStrike">
                <a:solidFill>
                  <a:srgbClr val="0033cc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0033cc"/>
                </a:solidFill>
                <a:latin typeface="Comic Sans MS"/>
              </a:rPr>
              <a:t> 79</a:t>
            </a:r>
            <a:r>
              <a:rPr b="0" lang="ca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200" y="1446120"/>
            <a:ext cx="788148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11ff2d"/>
                </a:solidFill>
                <a:latin typeface="Comic Sans MS"/>
              </a:rPr>
              <a:t>  </a:t>
            </a: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Oh Dios, restáuranos, que brille tu rostro</a:t>
            </a:r>
            <a:br>
              <a:rPr sz="3100"/>
            </a:b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y nos salv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91120"/>
            <a:ext cx="861048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ffcf1e"/>
                </a:solidFill>
                <a:latin typeface="Comic Sans MS"/>
              </a:rPr>
              <a:t>  </a:t>
            </a:r>
            <a:r>
              <a:rPr b="0" i="1" lang="es-ES" sz="3200" spc="-1" strike="noStrike">
                <a:solidFill>
                  <a:srgbClr val="0c1dff"/>
                </a:solidFill>
                <a:latin typeface="Comic Sans MS"/>
                <a:ea typeface="Times New Roman"/>
              </a:rPr>
              <a:t>Pastor de Israel, escucha, tú que te sientas sobre los querubines, resplandece.</a:t>
            </a:r>
            <a:br>
              <a:rPr sz="3200"/>
            </a:br>
            <a:r>
              <a:rPr b="0" i="1" lang="es-ES" sz="3200" spc="-1" strike="noStrike">
                <a:solidFill>
                  <a:srgbClr val="0c1dff"/>
                </a:solidFill>
                <a:latin typeface="Comic Sans MS"/>
                <a:ea typeface="Times New Roman"/>
              </a:rPr>
              <a:t>Despierta tu poder y ven a salvarnos.</a:t>
            </a:r>
            <a:r>
              <a:rPr b="0" i="1" lang="es-ES" sz="3200" spc="-1" strike="noStrike">
                <a:solidFill>
                  <a:srgbClr val="0c1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7200" y="1066680"/>
            <a:ext cx="788148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ffbd07"/>
                </a:solidFill>
                <a:latin typeface="Comic Sans MS"/>
              </a:rPr>
              <a:t>  </a:t>
            </a: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Oh Dios, restáuranos, que brille tu rostro</a:t>
            </a:r>
            <a:br>
              <a:rPr sz="3100"/>
            </a:b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y nos salv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733920"/>
            <a:ext cx="86868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11ff2d"/>
                </a:solidFill>
                <a:latin typeface="Comic Sans MS"/>
              </a:rPr>
              <a:t> </a:t>
            </a:r>
            <a:r>
              <a:rPr b="1" i="1" lang="es-ES" sz="3200" spc="-1" strike="noStrike">
                <a:solidFill>
                  <a:srgbClr val="82c7cc"/>
                </a:solidFill>
                <a:latin typeface="Comic Sans MS"/>
                <a:ea typeface="Times New Roman"/>
              </a:rPr>
              <a:t>¡Dios todopoderoso, vuélvete ya,</a:t>
            </a:r>
            <a:br>
              <a:rPr sz="3200"/>
            </a:br>
            <a:r>
              <a:rPr b="1" i="1" lang="es-ES" sz="3200" spc="-1" strike="noStrike">
                <a:solidFill>
                  <a:srgbClr val="82c7cc"/>
                </a:solidFill>
                <a:latin typeface="Comic Sans MS"/>
                <a:ea typeface="Times New Roman"/>
              </a:rPr>
              <a:t>mira desde el cielo, fíjate, ven a visitar tu vid,la cepa que tu diestra plantó,</a:t>
            </a:r>
            <a:br>
              <a:rPr sz="3200"/>
            </a:br>
            <a:r>
              <a:rPr b="1" i="1" lang="es-ES" sz="3200" spc="-1" strike="noStrike">
                <a:solidFill>
                  <a:srgbClr val="82c7cc"/>
                </a:solidFill>
                <a:latin typeface="Comic Sans MS"/>
                <a:ea typeface="Times New Roman"/>
              </a:rPr>
              <a:t> el retoño que hiciste vigoroso.</a:t>
            </a:r>
            <a:r>
              <a:rPr b="1" i="1" lang="es-ES" sz="3200" spc="-1" strike="noStrike">
                <a:solidFill>
                  <a:srgbClr val="82c7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9920" y="838080"/>
            <a:ext cx="7841880" cy="103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ffbd07"/>
                </a:solidFill>
                <a:latin typeface="Comic Sans MS"/>
              </a:rPr>
              <a:t> </a:t>
            </a: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Oh Dios, restáuranos, que brille tu rostro</a:t>
            </a:r>
            <a:br>
              <a:rPr sz="3100"/>
            </a:br>
            <a:r>
              <a:rPr b="1" i="1" lang="ca-ES" sz="3100" spc="-1" strike="noStrike">
                <a:solidFill>
                  <a:srgbClr val="ffffff"/>
                </a:solidFill>
                <a:latin typeface="Comic Sans MS"/>
              </a:rPr>
              <a:t>y nos salv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657600"/>
            <a:ext cx="86104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11ff2d"/>
                </a:solidFill>
                <a:latin typeface="Comic Sans MS"/>
              </a:rPr>
              <a:t> </a:t>
            </a:r>
            <a:r>
              <a:rPr b="0" i="1" lang="es-ES" sz="3200" spc="-1" strike="noStrike">
                <a:solidFill>
                  <a:srgbClr val="bbe0e3"/>
                </a:solidFill>
                <a:latin typeface="Comic Sans MS"/>
                <a:ea typeface="Times New Roman"/>
              </a:rPr>
              <a:t>Que tu mano proteja a tu elegido, </a:t>
            </a:r>
            <a:br>
              <a:rPr sz="3200"/>
            </a:br>
            <a:r>
              <a:rPr b="0" i="1" lang="es-ES" sz="3200" spc="-1" strike="noStrike">
                <a:solidFill>
                  <a:srgbClr val="bbe0e3"/>
                </a:solidFill>
                <a:latin typeface="Comic Sans MS"/>
                <a:ea typeface="Times New Roman"/>
              </a:rPr>
              <a:t>al hombre que tú fortaleciste.</a:t>
            </a:r>
            <a:br>
              <a:rPr sz="3200"/>
            </a:br>
            <a:r>
              <a:rPr b="0" i="1" lang="es-ES" sz="3200" spc="-1" strike="noStrike">
                <a:solidFill>
                  <a:srgbClr val="bbe0e3"/>
                </a:solidFill>
                <a:latin typeface="Comic Sans MS"/>
                <a:ea typeface="Times New Roman"/>
              </a:rPr>
              <a:t>Ya nunca nos apartaremos de ti:</a:t>
            </a:r>
            <a:br>
              <a:rPr sz="3200"/>
            </a:br>
            <a:r>
              <a:rPr b="0" i="1" lang="es-ES" sz="3200" spc="-1" strike="noStrike">
                <a:solidFill>
                  <a:srgbClr val="bbe0e3"/>
                </a:solidFill>
                <a:latin typeface="Comic Sans MS"/>
                <a:ea typeface="Times New Roman"/>
              </a:rPr>
              <a:t>devuélvenos la vida para que invoquemos </a:t>
            </a:r>
            <a:br>
              <a:rPr sz="3200"/>
            </a:br>
            <a:r>
              <a:rPr b="0" i="1" lang="es-ES" sz="3200" spc="-1" strike="noStrike">
                <a:solidFill>
                  <a:srgbClr val="bbe0e3"/>
                </a:solidFill>
                <a:latin typeface="Comic Sans MS"/>
                <a:ea typeface="Times New Roman"/>
              </a:rPr>
              <a:t>tu nombre.</a:t>
            </a:r>
            <a:r>
              <a:rPr b="0" i="1" lang="es-ES" sz="32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olneu9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0"/>
            <a:ext cx="8839080" cy="667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Lectura de la carta a los Hebr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o, al entrar en este mundo, dice Cristo: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has querido sacrificio ni ofrenda, pero me has formado un cuerpo; no has aceptado holocaustos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 sacrificios expiatorios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yo dije: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quí vengo, oh Dios, para hacer tu voluntad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í está escrito de mí en un capítulo del libro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primer lugar dice: No has querido ni te agradan los sacrificios, ofrendas, holocaustos ni víctimas por el pecado, que se ofrecen según la ley.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pués añade: Aquí vengo para hacer tu voluntad.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este modo anula la primera disposición y establece la segunda. Por haber cumplido la voluntad de Dios, y gracias a la ofrenda que Jesucristo ha hecho de su cuerpo una vez para siempre, nosotros hemos quedado consagrados a Dios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9880" y="2943360"/>
            <a:ext cx="7084800" cy="1739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Comic Sans MS"/>
              </a:rPr>
              <a:t>Aquí está la sierva del Señor,</a:t>
            </a:r>
            <a:br>
              <a:rPr sz="2800"/>
            </a:br>
            <a:r>
              <a:rPr b="1" lang="ca-ES" sz="2800" spc="-1" strike="noStrike">
                <a:solidFill>
                  <a:srgbClr val="ffffff"/>
                </a:solidFill>
                <a:latin typeface="Comic Sans MS"/>
              </a:rPr>
              <a:t>hágase en mí según tu palabra.</a:t>
            </a: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Lc 1,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476280"/>
            <a:ext cx="8381880" cy="5092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b18dc"/>
                </a:solidFill>
                <a:latin typeface="Comic Sans MS"/>
              </a:rPr>
              <a:t>Evangelio según san Lucas  1, 39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b18dc"/>
                </a:solidFill>
                <a:latin typeface="Comic Sans MS"/>
              </a:rPr>
              <a:t>   </a:t>
            </a:r>
            <a:r>
              <a:rPr b="1" i="1" lang="es-ES" sz="2400" spc="-1" strike="noStrike">
                <a:solidFill>
                  <a:srgbClr val="0b18dc"/>
                </a:solidFill>
                <a:latin typeface="Comic Sans MS"/>
                <a:ea typeface="Times New Roman"/>
              </a:rPr>
              <a:t>Por aquellos días, María se puso en camino y se fue de prisa a la montaña, a una ciudad de Judá. Entró en casa de Zacarías y saludó a Isabel. Y cuando Isabel oyó el saludo de María, el niño empezó a dar saltos en su seno. Entonces Isabel, llena del Espíritu Santo, exclamó a grandes voces:</a:t>
            </a:r>
            <a:br>
              <a:rPr sz="2400"/>
            </a:br>
            <a:r>
              <a:rPr b="1" i="1" lang="es-ES" sz="2400" spc="-1" strike="noStrike">
                <a:solidFill>
                  <a:srgbClr val="0b18dc"/>
                </a:solidFill>
                <a:latin typeface="Comic Sans MS"/>
                <a:ea typeface="Times New Roman"/>
              </a:rPr>
              <a:t>-Bendita tú entre las mujeres y bendito el fruto de tu vientre. Pero ¿cómo es posible que la madre de mi Señor venga a visitarme? Porque en cuanto oí tu saludo, el niño empezó a dar saltos de alegría en mi seno. ¡Dichosa tú que has creído! Porque lo que te ha dicho el Señor se cumpli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6211800"/>
            <a:ext cx="788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omic Sans MS"/>
              </a:rPr>
              <a:t>Ein Karem. En la fachada,escena de la visitación de María a su prima Isab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9:41:35Z</dcterms:created>
  <dc:creator>JOAN RAMIREZ</dc:creator>
  <dc:description/>
  <dc:language>en-US</dc:language>
  <cp:lastModifiedBy>Usuario</cp:lastModifiedBy>
  <dcterms:modified xsi:type="dcterms:W3CDTF">2009-12-16T17:45:18Z</dcterms:modified>
  <cp:revision>19</cp:revision>
  <dc:subject/>
  <dc:title>Presentación de PowerPoint</dc:title>
</cp:coreProperties>
</file>