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88B-9FB7-442F-993E-0AC9BEBE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454-502A-4497-AC6B-A0F2981B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6D2-DDF4-4FFA-B3FC-522BBBF4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89D-3970-424D-BBBF-277D21EB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701-310B-486D-9B02-796AA712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74E-0EB2-478B-BB55-DB40786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DEF-A25B-4F85-B42B-067A3086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308-8CFA-4F83-B1BB-C27A803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21B-8384-4C50-A71C-BD1B5E5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C80-7A4B-4305-AB96-E0B3991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F9F-9BDE-4361-BA2E-71C0126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FC7-3F07-44A2-A106-A9C6CCB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F1D-2D84-4EDE-B059-E37398DEA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3f4f"/>
            </a:gs>
            <a:gs pos="100000">
              <a:srgbClr val="ff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219320"/>
            <a:ext cx="914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lack Chancery"/>
              </a:rPr>
              <a:t>Viviendo sob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lack Chancery"/>
              </a:rPr>
              <a:t>u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lack Chancery"/>
              </a:rPr>
              <a:t>precipici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Eliza\Escritorio\3022310235_da1865989d_b.jpg"/>
          <p:cNvPicPr/>
          <p:nvPr/>
        </p:nvPicPr>
        <p:blipFill>
          <a:blip r:embed="rId1"/>
          <a:stretch/>
        </p:blipFill>
        <p:spPr>
          <a:xfrm>
            <a:off x="47520" y="404640"/>
            <a:ext cx="9048960" cy="6048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Eliza\Escritorio\3022313257_271838a385_b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Eliza\Escritorio\3023128684_5137e4f96c_b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Eliza\Escritorio\Bonifacio.jpg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Eliza\Escritorio\bonifacio-corceg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685800" y="2362320"/>
            <a:ext cx="7467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stelfollit de la Ro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133720" y="4495680"/>
            <a:ext cx="4572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aluny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Eliza\Escritorio\cast-de-la-roca.jpg"/>
          <p:cNvPicPr/>
          <p:nvPr/>
        </p:nvPicPr>
        <p:blipFill>
          <a:blip r:embed="rId1"/>
          <a:stretch/>
        </p:blipFill>
        <p:spPr>
          <a:xfrm>
            <a:off x="47520" y="28440"/>
            <a:ext cx="904896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Eliza\Escritorio\cast-de-las-rocass.jpg"/>
          <p:cNvPicPr/>
          <p:nvPr/>
        </p:nvPicPr>
        <p:blipFill>
          <a:blip r:embed="rId1"/>
          <a:stretch/>
        </p:blipFill>
        <p:spPr>
          <a:xfrm>
            <a:off x="-1523880" y="3657600"/>
            <a:ext cx="1143000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Eliza\Escritorio\panoramica-casti-de-l-roca.jpg"/>
          <p:cNvPicPr/>
          <p:nvPr/>
        </p:nvPicPr>
        <p:blipFill>
          <a:blip r:embed="rId2"/>
          <a:stretch/>
        </p:blipFill>
        <p:spPr>
          <a:xfrm>
            <a:off x="-1752480" y="0"/>
            <a:ext cx="1143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Eliza\Escritorio\cas-tde-la-rocass.jpg"/>
          <p:cNvPicPr/>
          <p:nvPr/>
        </p:nvPicPr>
        <p:blipFill>
          <a:blip r:embed="rId1"/>
          <a:stretch/>
        </p:blipFill>
        <p:spPr>
          <a:xfrm>
            <a:off x="-1143000" y="847800"/>
            <a:ext cx="11430000" cy="5162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Eliza\Escritorio\2635060792_2158d504ff_o.jpg"/>
          <p:cNvPicPr/>
          <p:nvPr/>
        </p:nvPicPr>
        <p:blipFill>
          <a:blip r:embed="rId1"/>
          <a:stretch/>
        </p:blipFill>
        <p:spPr>
          <a:xfrm>
            <a:off x="1047600" y="-1138320"/>
            <a:ext cx="7048800" cy="9134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447920" y="2209680"/>
            <a:ext cx="647676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enca-Españ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Eliza\Escritorio\castellfollit-024.jpg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Eliza\Escritorio\Castellfollit_de_la_Roca_-_.jpg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Eliza\Escritorio\dsc007460zp28gi.jpg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3"/>
          <p:cNvSpPr txBox="1"/>
          <p:nvPr/>
        </p:nvSpPr>
        <p:spPr>
          <a:xfrm>
            <a:off x="1447920" y="2209680"/>
            <a:ext cx="640080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nda-Españ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Eliza\Escritorio\panoramica_ronda.jpg"/>
          <p:cNvPicPr/>
          <p:nvPr/>
        </p:nvPicPr>
        <p:blipFill>
          <a:blip r:embed="rId1"/>
          <a:stretch/>
        </p:blipFill>
        <p:spPr>
          <a:xfrm>
            <a:off x="-304920" y="790560"/>
            <a:ext cx="9753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Eliza\Escritorio\MG_3480-PANO.jpg"/>
          <p:cNvPicPr/>
          <p:nvPr/>
        </p:nvPicPr>
        <p:blipFill>
          <a:blip r:embed="rId1"/>
          <a:stretch/>
        </p:blipFill>
        <p:spPr>
          <a:xfrm>
            <a:off x="-304920" y="757080"/>
            <a:ext cx="9753840" cy="5343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Eliza\Escritorio\2633235349_8e25a433e8_o.jpg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Eliza\Escritorio\pppppp.jpg"/>
          <p:cNvPicPr/>
          <p:nvPr/>
        </p:nvPicPr>
        <p:blipFill>
          <a:blip r:embed="rId1"/>
          <a:stretch/>
        </p:blipFill>
        <p:spPr>
          <a:xfrm>
            <a:off x="285840" y="210960"/>
            <a:ext cx="8572320" cy="6436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Eliza\Escritorio\ronda-1c.jp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6000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Eliza\Escritorio\ronda.jpg"/>
          <p:cNvPicPr/>
          <p:nvPr/>
        </p:nvPicPr>
        <p:blipFill>
          <a:blip r:embed="rId1"/>
          <a:stretch/>
        </p:blipFill>
        <p:spPr>
          <a:xfrm>
            <a:off x="1647720" y="-228600"/>
            <a:ext cx="5848560" cy="7315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Eliza\Escritorio\684416063_f234ef7721_b.jpg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Eliza\Escritorio\ronda_h_01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Eliza\Escritorio\800px-Casa_del_Rey_Mo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1447920" y="27432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rola -Ital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Eliza\Escritorio\800px-Manarol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Eliza\Escritorio\esta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Eliza\Escritorio\interior-ESTA-TAMBIENly-thr.jpg"/>
          <p:cNvPicPr/>
          <p:nvPr/>
        </p:nvPicPr>
        <p:blipFill>
          <a:blip r:embed="rId1"/>
          <a:stretch/>
        </p:blipFill>
        <p:spPr>
          <a:xfrm>
            <a:off x="47520" y="-181080"/>
            <a:ext cx="904896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Eliza\Escritorio\italia-manarol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Eliza\Escritorio\Manarola,est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295280" y="2781360"/>
            <a:ext cx="6248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ntorini-Grec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Eliza\Escritorio\santorini1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Eliza\Escritorio\1232135230_427ed02b55_b.jpg"/>
          <p:cNvPicPr/>
          <p:nvPr/>
        </p:nvPicPr>
        <p:blipFill>
          <a:blip r:embed="rId1"/>
          <a:stretch/>
        </p:blipFill>
        <p:spPr>
          <a:xfrm>
            <a:off x="2190600" y="-123840"/>
            <a:ext cx="4762800" cy="7105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Eliza\Escritorio\santorini-799155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Eliza\Escritorio\santorini.jpg"/>
          <p:cNvPicPr/>
          <p:nvPr/>
        </p:nvPicPr>
        <p:blipFill>
          <a:blip r:embed="rId1"/>
          <a:stretch/>
        </p:blipFill>
        <p:spPr>
          <a:xfrm>
            <a:off x="47520" y="-1095480"/>
            <a:ext cx="9048960" cy="90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Eliza\Escritorio\santorini-aerial.jpg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Eliza\Escritorio\800px-Fira_at_Santorini_(fr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Eliza\Escritorio\Wallpapers_Moonrise_Over_S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7086600" y="5562720"/>
            <a:ext cx="8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Eliza\Escritorio\2067236952_9e41e647c2_o.jpg"/>
          <p:cNvPicPr/>
          <p:nvPr/>
        </p:nvPicPr>
        <p:blipFill>
          <a:blip r:embed="rId1"/>
          <a:stretch/>
        </p:blipFill>
        <p:spPr>
          <a:xfrm>
            <a:off x="47520" y="414360"/>
            <a:ext cx="9048960" cy="60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Eliza\Escritorio\2286070771_d398e30246_o.jpg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Eliza\Escritorio\2364788084_c667365256_b.jpg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762120" y="2514600"/>
            <a:ext cx="74674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nifacio-Córceg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Eliza\Escritorio\3022307449_1ae5000230_b.jpg"/>
          <p:cNvPicPr/>
          <p:nvPr/>
        </p:nvPicPr>
        <p:blipFill>
          <a:blip r:embed="rId1"/>
          <a:stretch/>
        </p:blipFill>
        <p:spPr>
          <a:xfrm>
            <a:off x="47520" y="404640"/>
            <a:ext cx="9048960" cy="6048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1:28:00Z</dcterms:created>
  <dc:creator/>
  <dc:description/>
  <dc:language>en-US</dc:language>
  <cp:lastModifiedBy>Fernando</cp:lastModifiedBy>
  <dcterms:modified xsi:type="dcterms:W3CDTF">2010-02-09T20:22:39Z</dcterms:modified>
  <cp:revision>7</cp:revision>
  <dc:subject/>
  <dc:title>Viviendo sobre un precipicio</dc:title>
</cp:coreProperties>
</file>