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2EF-469F-4051-BA4C-87DC7A05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AFC-E04B-411A-BF94-DDE9C067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272-C94F-47DE-9C2D-E036BAFB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6BB-7B4F-4577-8FE3-89CF1D81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D41-D1E3-4C49-B1DE-CDABAE28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24E6-38FF-4674-8E3B-FEA6140C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379-1133-49D6-B832-B677A9EB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37A-6AAE-42D1-9FF0-5F0D0D5D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668-178F-4E0F-A957-DBE650F1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316-0B61-4B95-8C1D-B95835BB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5A2-CF58-4C29-8865-875994E8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E90-1485-4BB4-9353-A7B007C0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DB43-9AFE-4B86-AE14-0BB30581F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3f4f"/>
            </a:gs>
            <a:gs pos="100000">
              <a:srgbClr val="ff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219320"/>
            <a:ext cx="91440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Black Chancery"/>
              </a:rPr>
              <a:t>Viviendo sob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Black Chancery"/>
              </a:rPr>
              <a:t>u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Black Chancery"/>
              </a:rPr>
              <a:t>precipici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Eliza\Escritorio\3022310235_da1865989d_b.jpg"/>
          <p:cNvPicPr/>
          <p:nvPr/>
        </p:nvPicPr>
        <p:blipFill>
          <a:blip r:embed="rId1"/>
          <a:stretch/>
        </p:blipFill>
        <p:spPr>
          <a:xfrm>
            <a:off x="47520" y="404640"/>
            <a:ext cx="9048960" cy="6048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Eliza\Escritorio\3022313257_271838a385_b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Eliza\Escritorio\3023128684_5137e4f96c_b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Eliza\Escritorio\Bonifacio.jpg"/>
          <p:cNvPicPr/>
          <p:nvPr/>
        </p:nvPicPr>
        <p:blipFill>
          <a:blip r:embed="rId1"/>
          <a:stretch/>
        </p:blipFill>
        <p:spPr>
          <a:xfrm>
            <a:off x="47520" y="38160"/>
            <a:ext cx="90489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Eliza\Escritorio\bonifacio-corcega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685800" y="2362320"/>
            <a:ext cx="74674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stelfollit de la Ro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2133720" y="4495680"/>
            <a:ext cx="4572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taluny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Eliza\Escritorio\cast-de-la-roca.jpg"/>
          <p:cNvPicPr/>
          <p:nvPr/>
        </p:nvPicPr>
        <p:blipFill>
          <a:blip r:embed="rId1"/>
          <a:stretch/>
        </p:blipFill>
        <p:spPr>
          <a:xfrm>
            <a:off x="47520" y="28440"/>
            <a:ext cx="904896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Documents and Settings\Eliza\Escritorio\cast-de-las-rocass.jpg"/>
          <p:cNvPicPr/>
          <p:nvPr/>
        </p:nvPicPr>
        <p:blipFill>
          <a:blip r:embed="rId1"/>
          <a:stretch/>
        </p:blipFill>
        <p:spPr>
          <a:xfrm>
            <a:off x="-1523880" y="3657600"/>
            <a:ext cx="11430000" cy="3200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Eliza\Escritorio\panoramica-casti-de-l-roca.jpg"/>
          <p:cNvPicPr/>
          <p:nvPr/>
        </p:nvPicPr>
        <p:blipFill>
          <a:blip r:embed="rId2"/>
          <a:stretch/>
        </p:blipFill>
        <p:spPr>
          <a:xfrm>
            <a:off x="-1752480" y="0"/>
            <a:ext cx="11430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Eliza\Escritorio\cas-tde-la-rocass.jpg"/>
          <p:cNvPicPr/>
          <p:nvPr/>
        </p:nvPicPr>
        <p:blipFill>
          <a:blip r:embed="rId1"/>
          <a:stretch/>
        </p:blipFill>
        <p:spPr>
          <a:xfrm>
            <a:off x="-1143000" y="847800"/>
            <a:ext cx="11430000" cy="5162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Eliza\Escritorio\2635060792_2158d504ff_o.jpg"/>
          <p:cNvPicPr/>
          <p:nvPr/>
        </p:nvPicPr>
        <p:blipFill>
          <a:blip r:embed="rId1"/>
          <a:stretch/>
        </p:blipFill>
        <p:spPr>
          <a:xfrm>
            <a:off x="1047600" y="-1138320"/>
            <a:ext cx="7048800" cy="91346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3"/>
          <p:cNvSpPr txBox="1"/>
          <p:nvPr/>
        </p:nvSpPr>
        <p:spPr>
          <a:xfrm>
            <a:off x="1447920" y="2209680"/>
            <a:ext cx="647676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enca-Españ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Eliza\Escritorio\castellfollit-024.jpg"/>
          <p:cNvPicPr/>
          <p:nvPr/>
        </p:nvPicPr>
        <p:blipFill>
          <a:blip r:embed="rId1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Eliza\Escritorio\Castellfollit_de_la_Roca_-_.jpg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Eliza\Escritorio\dsc007460zp28gi.jpg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3"/>
          <p:cNvSpPr txBox="1"/>
          <p:nvPr/>
        </p:nvSpPr>
        <p:spPr>
          <a:xfrm>
            <a:off x="1447920" y="2209680"/>
            <a:ext cx="640080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onda-Españ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Eliza\Escritorio\panoramica_ronda.jpg"/>
          <p:cNvPicPr/>
          <p:nvPr/>
        </p:nvPicPr>
        <p:blipFill>
          <a:blip r:embed="rId1"/>
          <a:stretch/>
        </p:blipFill>
        <p:spPr>
          <a:xfrm>
            <a:off x="-304920" y="790560"/>
            <a:ext cx="9753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Eliza\Escritorio\MG_3480-PANO.jpg"/>
          <p:cNvPicPr/>
          <p:nvPr/>
        </p:nvPicPr>
        <p:blipFill>
          <a:blip r:embed="rId1"/>
          <a:stretch/>
        </p:blipFill>
        <p:spPr>
          <a:xfrm>
            <a:off x="-304920" y="757080"/>
            <a:ext cx="9753840" cy="5343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Eliza\Escritorio\2633235349_8e25a433e8_o.jpg"/>
          <p:cNvPicPr/>
          <p:nvPr/>
        </p:nvPicPr>
        <p:blipFill>
          <a:blip r:embed="rId1"/>
          <a:stretch/>
        </p:blipFill>
        <p:spPr>
          <a:xfrm>
            <a:off x="2093760" y="0"/>
            <a:ext cx="4956480" cy="6858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Eliza\Escritorio\pppppp.jpg"/>
          <p:cNvPicPr/>
          <p:nvPr/>
        </p:nvPicPr>
        <p:blipFill>
          <a:blip r:embed="rId1"/>
          <a:stretch/>
        </p:blipFill>
        <p:spPr>
          <a:xfrm>
            <a:off x="285840" y="210960"/>
            <a:ext cx="8572320" cy="6436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Eliza\Escritorio\ronda-1c.jpg"/>
          <p:cNvPicPr/>
          <p:nvPr/>
        </p:nvPicPr>
        <p:blipFill>
          <a:blip r:embed="rId1"/>
          <a:stretch/>
        </p:blipFill>
        <p:spPr>
          <a:xfrm>
            <a:off x="571680" y="428760"/>
            <a:ext cx="8001000" cy="60004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Eliza\Escritorio\ronda.jpg"/>
          <p:cNvPicPr/>
          <p:nvPr/>
        </p:nvPicPr>
        <p:blipFill>
          <a:blip r:embed="rId1"/>
          <a:stretch/>
        </p:blipFill>
        <p:spPr>
          <a:xfrm>
            <a:off x="1647720" y="-228600"/>
            <a:ext cx="5848560" cy="7315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Eliza\Escritorio\684416063_f234ef7721_b.jpg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Eliza\Escritorio\ronda_h_01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Eliza\Escritorio\800px-Casa_del_Rey_Mor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3"/>
          <p:cNvSpPr txBox="1"/>
          <p:nvPr/>
        </p:nvSpPr>
        <p:spPr>
          <a:xfrm>
            <a:off x="1447920" y="2743200"/>
            <a:ext cx="6172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arola -Ital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Eliza\Escritorio\800px-Manarola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Eliza\Escritorio\esta.jpg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Eliza\Escritorio\interior-ESTA-TAMBIENly-thr.jpg"/>
          <p:cNvPicPr/>
          <p:nvPr/>
        </p:nvPicPr>
        <p:blipFill>
          <a:blip r:embed="rId1"/>
          <a:stretch/>
        </p:blipFill>
        <p:spPr>
          <a:xfrm>
            <a:off x="47520" y="-181080"/>
            <a:ext cx="9048960" cy="722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Eliza\Escritorio\italia-manarola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Eliza\Escritorio\Manarola,esta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1295280" y="2781360"/>
            <a:ext cx="6248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antorini-Grec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Eliza\Escritorio\santorini1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Eliza\Escritorio\1232135230_427ed02b55_b.jpg"/>
          <p:cNvPicPr/>
          <p:nvPr/>
        </p:nvPicPr>
        <p:blipFill>
          <a:blip r:embed="rId1"/>
          <a:stretch/>
        </p:blipFill>
        <p:spPr>
          <a:xfrm>
            <a:off x="2190600" y="-123840"/>
            <a:ext cx="4762800" cy="7105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Eliza\Escritorio\santorini-799155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Eliza\Escritorio\santorini.jpg"/>
          <p:cNvPicPr/>
          <p:nvPr/>
        </p:nvPicPr>
        <p:blipFill>
          <a:blip r:embed="rId1"/>
          <a:stretch/>
        </p:blipFill>
        <p:spPr>
          <a:xfrm>
            <a:off x="47520" y="-1095480"/>
            <a:ext cx="9048960" cy="904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Eliza\Escritorio\santorini-aerial.jpg"/>
          <p:cNvPicPr/>
          <p:nvPr/>
        </p:nvPicPr>
        <p:blipFill>
          <a:blip r:embed="rId1"/>
          <a:stretch/>
        </p:blipFill>
        <p:spPr>
          <a:xfrm>
            <a:off x="152280" y="1144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Eliza\Escritorio\800px-Fira_at_Santorini_(fr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Eliza\Escritorio\Wallpapers_Moonrise_Over_Sa.jpg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7086600" y="5562720"/>
            <a:ext cx="8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Eliza\Escritorio\2067236952_9e41e647c2_o.jpg"/>
          <p:cNvPicPr/>
          <p:nvPr/>
        </p:nvPicPr>
        <p:blipFill>
          <a:blip r:embed="rId1"/>
          <a:stretch/>
        </p:blipFill>
        <p:spPr>
          <a:xfrm>
            <a:off x="47520" y="414360"/>
            <a:ext cx="9048960" cy="602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Eliza\Escritorio\2286070771_d398e30246_o.jpg"/>
          <p:cNvPicPr/>
          <p:nvPr/>
        </p:nvPicPr>
        <p:blipFill>
          <a:blip r:embed="rId1"/>
          <a:stretch/>
        </p:blipFill>
        <p:spPr>
          <a:xfrm>
            <a:off x="47520" y="38160"/>
            <a:ext cx="90489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Eliza\Escritorio\2364788084_c667365256_b.jpg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762120" y="2514600"/>
            <a:ext cx="74674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onifacio-Córceg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Eliza\Escritorio\3022307449_1ae5000230_b.jpg"/>
          <p:cNvPicPr/>
          <p:nvPr/>
        </p:nvPicPr>
        <p:blipFill>
          <a:blip r:embed="rId1"/>
          <a:stretch/>
        </p:blipFill>
        <p:spPr>
          <a:xfrm>
            <a:off x="47520" y="404640"/>
            <a:ext cx="9048960" cy="6048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1:28:00Z</dcterms:created>
  <dc:creator/>
  <dc:description/>
  <dc:language>en-US</dc:language>
  <cp:lastModifiedBy>Fernando</cp:lastModifiedBy>
  <dcterms:modified xsi:type="dcterms:W3CDTF">2010-02-09T20:22:39Z</dcterms:modified>
  <cp:revision>7</cp:revision>
  <dc:subject/>
  <dc:title>Viviendo sobre un precipicio</dc:title>
</cp:coreProperties>
</file>