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sabelle%20Boulay%20-%20Jamais%20assez%20loin.wav" ContentType="audio/x-wav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1B0-E11A-4FBB-B013-C915B419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002-35C3-4E2C-AD16-04DC90C6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F4F6-4625-450C-A3DD-693F2043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836-6B28-4C59-846E-2D6ADB9D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1D5-1691-4E05-B1EA-8D160059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567-8741-463E-B7DB-8D8CEC27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086-A3D2-4B8D-B02A-866FFB98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5AD-9F67-455F-911F-A40D8A58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734-60B9-4D72-A609-0BBF1BBE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71C-41B4-42C9-BCA2-4626C977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3EE-29CB-4E88-BAB1-D6ADA6EF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CBD-0736-4CB2-A36D-024F2EC1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E6CB-AD19-4B05-B664-CDFD15290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sabelle%20Boulay%20-%20Jamais%20assez%20loi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79640" y="1916280"/>
            <a:ext cx="3635280" cy="37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adley Hand ITC"/>
              </a:rPr>
              <a:t>Bienvenue à Bord.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adley Hand ITC"/>
              </a:rPr>
              <a:t>Lors de votre dernier voyage 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adley Hand ITC"/>
              </a:rPr>
              <a:t>peut-être n'avez-vous pas fait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adley Hand ITC"/>
              </a:rPr>
              <a:t>le bon choix de votre compagnie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adley Hand ITC"/>
              </a:rPr>
              <a:t>et de votre siège?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adley Hand ITC"/>
              </a:rPr>
              <a:t>À vous d'en juger...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57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65120" y="12600"/>
            <a:ext cx="6413760" cy="683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24000" y="549360"/>
            <a:ext cx="86007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Vous avez vue les intérieurs et leur confor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88000" y="4437000"/>
            <a:ext cx="23922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ner Hand ITC"/>
              </a:rPr>
              <a:t>Cécilia</a:t>
            </a:r>
            <a:endParaRPr b="1" i="1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ner Hand ITC"/>
              </a:rPr>
              <a:t>2009</a:t>
            </a:r>
            <a:endParaRPr b="1" i="1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ner Hand ITC"/>
              <a:ea typeface="Viner Hand ITC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6093000"/>
            <a:ext cx="2324160" cy="24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"/>
              </a:rPr>
              <a:t>Photos de Airliners</a:t>
            </a:r>
            <a:endParaRPr b="0" i="1" lang="en-US" sz="1800" spc="1" strike="noStrike">
              <a:ln w="0">
                <a:noFill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911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8:19:04Z</dcterms:created>
  <dc:creator>Cecile</dc:creator>
  <dc:description/>
  <dc:language>en-US</dc:language>
  <cp:lastModifiedBy>Cecile</cp:lastModifiedBy>
  <dcterms:modified xsi:type="dcterms:W3CDTF">2009-05-07T21:37:32Z</dcterms:modified>
  <cp:revision>9</cp:revision>
  <dc:subject/>
  <dc:title>Diapositive 1</dc:title>
</cp:coreProperties>
</file>