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sabelle%20Boulay%20-%20Jamais%20assez%20loin.wav" ContentType="audio/x-wav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7283-30D6-492E-A3EE-43E2F9CAF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A55A-2A6A-4C43-BA4F-92C722F1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1B79-CE31-4807-A843-FB51493E5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5D61-8486-4D7C-B9E2-721F5BA7F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48BD-5BA9-42BB-922D-292F4A79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A066-2521-4692-83C1-1EB6BB3F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3F3F-5AB1-459F-B64F-98CED76F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4CF6-75A0-4970-9CFB-9F6C661D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713A-4C58-4B18-ACFA-7626A525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532C-58A7-465F-9E26-48B21A13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B8A5-313F-446B-96D1-19FDD05F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AFBD-63BC-4544-A8DD-02114B56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0B43-ABBE-4CCB-8067-1A4F65AC9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Isabelle%20Boulay%20-%20Jamais%20assez%20loin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461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979640" y="1916280"/>
            <a:ext cx="3635280" cy="37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radley Hand ITC"/>
              </a:rPr>
              <a:t>Bienvenue à Bord.</a:t>
            </a:r>
            <a:endParaRPr b="0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radley Hand ITC"/>
              <a:ea typeface="Bradley Han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radley Hand ITC"/>
              </a:rPr>
              <a:t>Lors de votre dernier voyage </a:t>
            </a:r>
            <a:endParaRPr b="0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radley Hand ITC"/>
              <a:ea typeface="Bradley Han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radley Hand ITC"/>
              </a:rPr>
              <a:t>peut-être n'avez-vous pas fait</a:t>
            </a:r>
            <a:endParaRPr b="0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radley Hand ITC"/>
              <a:ea typeface="Bradley Han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radley Hand ITC"/>
              </a:rPr>
              <a:t>le bon choix de votre compagnie</a:t>
            </a:r>
            <a:endParaRPr b="0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radley Hand ITC"/>
              <a:ea typeface="Bradley Han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radley Hand ITC"/>
              </a:rPr>
              <a:t>et de votre siège?</a:t>
            </a:r>
            <a:endParaRPr b="0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radley Hand ITC"/>
              <a:ea typeface="Bradley Han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radley Hand ITC"/>
              </a:rPr>
              <a:t>À vous d'en juger...</a:t>
            </a:r>
            <a:endParaRPr b="0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radley Hand ITC"/>
              <a:ea typeface="Bradley Hand IT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89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4576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365120" y="12600"/>
            <a:ext cx="6413760" cy="683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324000" y="549360"/>
            <a:ext cx="86007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Vous avez vue les intérieurs et leur confor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788000" y="4437000"/>
            <a:ext cx="23922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Viner Hand ITC"/>
              </a:rPr>
              <a:t>Cécilia</a:t>
            </a:r>
            <a:endParaRPr b="1" i="1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Viner Hand ITC"/>
              <a:ea typeface="Viner Han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Viner Hand ITC"/>
              </a:rPr>
              <a:t>2009</a:t>
            </a:r>
            <a:endParaRPr b="1" i="1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Viner Hand ITC"/>
              <a:ea typeface="Viner Hand ITC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0920" y="6093000"/>
            <a:ext cx="2324160" cy="24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"/>
              </a:rPr>
              <a:t>Photos de Airliners</a:t>
            </a:r>
            <a:endParaRPr b="0" i="1" lang="en-US" sz="1800" spc="1" strike="noStrike">
              <a:ln w="0">
                <a:noFill/>
              </a:ln>
              <a:solidFill>
                <a:srgbClr val="bbe0e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"/>
              <a:ea typeface="com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911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8:19:04Z</dcterms:created>
  <dc:creator>Cecile</dc:creator>
  <dc:description/>
  <dc:language>en-US</dc:language>
  <cp:lastModifiedBy>Cecile</cp:lastModifiedBy>
  <dcterms:modified xsi:type="dcterms:W3CDTF">2009-05-07T21:37:32Z</dcterms:modified>
  <cp:revision>9</cp:revision>
  <dc:subject/>
  <dc:title>Diapositive 1</dc:title>
</cp:coreProperties>
</file>