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MOUR%20VIOLINO.wav" ContentType="audio/x-wav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17C-CB13-45BD-96A9-C87E459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7D9-DDC5-4D3E-8053-DB295546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E6E-0F91-4E81-B020-9DB93E35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B7E-3C90-45B6-9A89-82CD0DCA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1D8-E102-4F9D-BB80-9FF52CA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7AD-F65C-4923-840E-8A806BE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160-D05B-4E51-BB24-9D0A6DB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3BE-F853-463D-B94E-8F6464D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882-5C51-420E-BB14-85A56DB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F92-D45D-4283-9C3B-6BD2D69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344-4A40-4827-A20F-8235DC65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963-AC55-4DCB-9D60-A726A43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066-6514-4088-A118-B80865164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6360" y="-200160"/>
            <a:ext cx="9251640" cy="722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OUR%20VIOLIN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333360"/>
            <a:ext cx="6858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Arial"/>
              </a:rPr>
              <a:t>Para evitar tener hijos…. Haz el amor con la cuña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Arial"/>
              </a:rPr>
              <a:t>así tendrás solo sobri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2920" y="260280"/>
            <a:ext cx="900108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os hombres mentirían mucho menos si las mujeres no hiciesen pregunt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2602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ban dos amigos por la calle y uno le dice al otr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Tengo ganas de hacerle el amor a Inés Sastre otra vez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¿Cómo que otra vez? - le pregunta sorprendido el amigo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Es que ayer también tuve gan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632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amón está hablando con su mejor amigo y éste nota que el otro tiene cara de preocupación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¿Qué pasa, Joaquín? ¿Tienes algún problema?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Tengo una frustración del carajo, Ramón. Yo estaba orgulloso de cómo ponía a mi mujer. Cuando ella llegaba al orgasmo era una cosa tremenda: cómo se estremecía, brincaba, soltaba quejidos, ponía los ojos en blanco..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¿Y descubriste que todo era fingido?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No, ¡descubrí que es epiléptica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lega un tipo a su casa, de madrugada, cayéndose de puro borracho, y le dice a su mujer con voz estropajosa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erta... ¡Voy a amarte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¡Si quieres vete a Júpiter, cabrón, pero a mí déjame dormi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Se encuentran dos chinos: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Pues el otlo día me complé un coche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¿Ah sí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Sí, mila, es ese de ahí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- ¿Y qué malca es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Un Alfa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¿Lomeo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¡Lo meas y te cago a tlompada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¡Alto! Se ha saltado un semáforo en rojo. Tengo que ponerle una multa. Dígame su nombre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Josetxu Aristeguicorteneindiaguirre de Urrutxomengasalaberría y Mendiagorrialbizu de Gurruchagagoitiaga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 Bueno, rojo.... lo que se dice rojo.. no era: era ámbar intenso, más bien. Siga, por favor..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Mamá ¿quien es mi papi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No lo sé hijo, eres un bebé probeta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¿Qué es eso?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-PROBE TAntos hombres, que no sé quién es tu papá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Lobo, ¿por qué tienes esa frente tan sudada, esos ojos tan hinchados y  esos dientes tan apretados?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¡Coño Caperucita, déjame cagar tranquilo...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Un tipo llega a su casa inesperadamente y encuentra a su mujer en la cama, desnuda y toda transpirad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Mujer, ¿qué te pasa?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Tengo un ataque al corazón, dice ella con voz entrecortad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Quédate tranquila, mujer, que voy a llamar a un médico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l salir de la habitación para ir al salón a llamar por teléfono, se tropieza con su hijito de 3 años que lo mira y balbucea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¡Mostro, papá! ¡Mostro en armario!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El tipo regresa al dormitorio, abre el armario y se encuentra con su mejor amigo, totalmente desnudo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- ¡Eres un hijo de puta sin sentimientos! Mi mujer con un ataque al corazón y tú andas asustando al niñ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328000" cy="532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48400" y="1844640"/>
            <a:ext cx="113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Mistr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9000"/>
            <a:ext cx="86756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ed gentiles con vuestros hijo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llos son los que un día escogerán vuestro geríatr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5920"/>
            <a:ext cx="87138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Bookman Old Style"/>
                <a:ea typeface="Arial"/>
              </a:rPr>
              <a:t>Los amigos van y viene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Bookman Old Style"/>
                <a:ea typeface="Arial"/>
              </a:rPr>
              <a:t>Pero los enemigos se acumul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0"/>
            <a:ext cx="87138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Peor que una piedra en el zapa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Un granito de arena en el preservativ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89000"/>
            <a:ext cx="8964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Si un dia te sientes inútil y deprimido, recuerda que tú fuíste el espermatozoide más veloz de tod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89000"/>
            <a:ext cx="84978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Los jefes son como las nub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Arial"/>
              </a:rPr>
              <a:t>Cuando desaparecen, el día se arreg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5690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 jerarquía es como los estant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ientras más altos, menos sir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00"/>
            <a:ext cx="903600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Tu futuro depende de tus sueñ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o pierdas más tiempo y vuelve a dorm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15920"/>
            <a:ext cx="820872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El amor es como la gripe, la pescas en la calle pero te curas en la c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2:55:51Z</dcterms:created>
  <dc:creator>WinuE</dc:creator>
  <dc:description/>
  <dc:language>en-US</dc:language>
  <cp:lastModifiedBy>WinuE</cp:lastModifiedBy>
  <dcterms:modified xsi:type="dcterms:W3CDTF">2009-08-06T12:58:25Z</dcterms:modified>
  <cp:revision>1</cp:revision>
  <dc:subject>Paris es otro viaje</dc:subject>
  <dc:title>Diapositiva 1</dc:title>
</cp:coreProperties>
</file>