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B58E-5B48-480B-B0BB-905B1D861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A341-029E-48E3-84FB-49A8F077A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9A88-D55F-47C0-9B4A-D34AF037D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E693-DC7A-454C-9261-F037F184A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52BB-D871-4537-8A01-6EBFA6316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388F-B150-43D3-B517-17DDCFDF0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02CA-4C1C-4B3C-B144-DB5849E5C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F35C-D8BC-4354-88A0-574ECCE3B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68A7-58E4-4393-89FF-C5C8E2C05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A7A1-CFA3-461D-8AA5-D5008FA18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9EA9-2753-4AB4-918B-C19F61EA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D9F2-F640-4BF0-911A-7D21D8A51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G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G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6C580-A295-4292-BB55-5B675AEEF2C6}" type="slidenum">
              <a:rPr b="0" lang="es-G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Tavo\Desktop\Escritorio Papa\filosofando\381604_266572576743301_100001716827503_785250_1470677984_n.jpg"/>
          <p:cNvPicPr/>
          <p:nvPr/>
        </p:nvPicPr>
        <p:blipFill>
          <a:blip r:embed="rId1"/>
          <a:stretch/>
        </p:blipFill>
        <p:spPr>
          <a:xfrm>
            <a:off x="2000160" y="68400"/>
            <a:ext cx="5092920" cy="67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Users\Tavo\Desktop\Escritorio Papa\filosofando\430909_292853880781837_100001716827503_851537_267236766_n.jpg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Users\Tavo\Desktop\Escritorio Papa\filosofando\523031_333161486751076_100001716827503_966341_1900870432_n.jpg"/>
          <p:cNvPicPr/>
          <p:nvPr/>
        </p:nvPicPr>
        <p:blipFill>
          <a:blip r:embed="rId1"/>
          <a:stretch/>
        </p:blipFill>
        <p:spPr>
          <a:xfrm>
            <a:off x="1876320" y="131760"/>
            <a:ext cx="5288040" cy="67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Users\Tavo\Desktop\Escritorio Papa\filosofando\524424_321228627944362_100001716827503_934057_1589428467_n.jpg"/>
          <p:cNvPicPr/>
          <p:nvPr/>
        </p:nvPicPr>
        <p:blipFill>
          <a:blip r:embed="rId1"/>
          <a:stretch/>
        </p:blipFill>
        <p:spPr>
          <a:xfrm>
            <a:off x="27000" y="1268280"/>
            <a:ext cx="909000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Users\Tavo\Desktop\Escritorio Papa\filosofando\525619_332030283530863_100001716827503_965080_933609143_n.jpg"/>
          <p:cNvPicPr/>
          <p:nvPr/>
        </p:nvPicPr>
        <p:blipFill>
          <a:blip r:embed="rId1"/>
          <a:stretch/>
        </p:blipFill>
        <p:spPr>
          <a:xfrm>
            <a:off x="115920" y="1065240"/>
            <a:ext cx="902808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Users\Tavo\Desktop\Escritorio Papa\filosofando\535794_327319904001901_100001716827503_953605_1181704062_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Users\Tavo\Desktop\Escritorio Papa\filosofando\536191_320011068066118_100001716827503_929474_1939448570_n.jpg"/>
          <p:cNvPicPr/>
          <p:nvPr/>
        </p:nvPicPr>
        <p:blipFill>
          <a:blip r:embed="rId1"/>
          <a:stretch/>
        </p:blipFill>
        <p:spPr>
          <a:xfrm>
            <a:off x="84240" y="655560"/>
            <a:ext cx="8808840" cy="56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Users\Tavo\Desktop\Escritorio Papa\filosofando\536768_322532514480640_100001716827503_938584_948376635_n.jpg"/>
          <p:cNvPicPr/>
          <p:nvPr/>
        </p:nvPicPr>
        <p:blipFill>
          <a:blip r:embed="rId1"/>
          <a:stretch/>
        </p:blipFill>
        <p:spPr>
          <a:xfrm>
            <a:off x="347760" y="243000"/>
            <a:ext cx="8472240" cy="63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Users\Tavo\Desktop\Escritorio Papa\filosofando\540038_324242944309597_100001716827503_943227_823840580_n.jpg"/>
          <p:cNvPicPr/>
          <p:nvPr/>
        </p:nvPicPr>
        <p:blipFill>
          <a:blip r:embed="rId1"/>
          <a:stretch/>
        </p:blipFill>
        <p:spPr>
          <a:xfrm>
            <a:off x="147600" y="549360"/>
            <a:ext cx="884880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Users\Tavo\Desktop\Escritorio Papa\filosofando\543217_334741629926395_100001716827503_970262_973540909_n.jpg"/>
          <p:cNvPicPr/>
          <p:nvPr/>
        </p:nvPicPr>
        <p:blipFill>
          <a:blip r:embed="rId1"/>
          <a:stretch/>
        </p:blipFill>
        <p:spPr>
          <a:xfrm>
            <a:off x="250920" y="404640"/>
            <a:ext cx="854064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Users\Tavo\Desktop\Escritorio Papa\filosofando\545746_333132743420617_100001716827503_966321_1837824584_n.jpg"/>
          <p:cNvPicPr/>
          <p:nvPr/>
        </p:nvPicPr>
        <p:blipFill>
          <a:blip r:embed="rId1"/>
          <a:stretch/>
        </p:blipFill>
        <p:spPr>
          <a:xfrm>
            <a:off x="1111320" y="4680"/>
            <a:ext cx="691668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Users\Tavo\Desktop\Escritorio Papa\filosofando\386016_267416763325549_100001716827503_787595_1031570598_n.jpg"/>
          <p:cNvPicPr/>
          <p:nvPr/>
        </p:nvPicPr>
        <p:blipFill>
          <a:blip r:embed="rId1"/>
          <a:stretch/>
        </p:blipFill>
        <p:spPr>
          <a:xfrm>
            <a:off x="1012680" y="0"/>
            <a:ext cx="7118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Users\Tavo\Desktop\Escritorio Papa\filosofando\546228_335011156566109_100001716827503_970744_1016916715_n.jpg"/>
          <p:cNvPicPr/>
          <p:nvPr/>
        </p:nvPicPr>
        <p:blipFill>
          <a:blip r:embed="rId1"/>
          <a:stretch/>
        </p:blipFill>
        <p:spPr>
          <a:xfrm>
            <a:off x="642960" y="119160"/>
            <a:ext cx="8032680" cy="64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Users\Tavo\Desktop\Escritorio Papa\filosofando\547122_318080148259210_100001716827503_924927_973562820_n.jpg"/>
          <p:cNvPicPr/>
          <p:nvPr/>
        </p:nvPicPr>
        <p:blipFill>
          <a:blip r:embed="rId1"/>
          <a:stretch/>
        </p:blipFill>
        <p:spPr>
          <a:xfrm>
            <a:off x="187200" y="378000"/>
            <a:ext cx="8705880" cy="61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Users\Tavo\Desktop\Escritorio Papa\filosofando\562912_329878983745993_100001716827503_960621_675747828_n.jpg"/>
          <p:cNvPicPr/>
          <p:nvPr/>
        </p:nvPicPr>
        <p:blipFill>
          <a:blip r:embed="rId1"/>
          <a:stretch/>
        </p:blipFill>
        <p:spPr>
          <a:xfrm>
            <a:off x="1092240" y="0"/>
            <a:ext cx="6959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Users\Tavo\Desktop\Escritorio Papa\filosofando\562949_332675080133050_100001716827503_965915_501818894_n.jpg"/>
          <p:cNvPicPr/>
          <p:nvPr/>
        </p:nvPicPr>
        <p:blipFill>
          <a:blip r:embed="rId1"/>
          <a:stretch/>
        </p:blipFill>
        <p:spPr>
          <a:xfrm>
            <a:off x="2050920" y="-41400"/>
            <a:ext cx="5042160" cy="694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Users\Tavo\Desktop\Escritorio Papa\filosofando\574477_331965140204044_100001716827503_965016_1763720433_n.jpg"/>
          <p:cNvPicPr/>
          <p:nvPr/>
        </p:nvPicPr>
        <p:blipFill>
          <a:blip r:embed="rId1"/>
          <a:stretch/>
        </p:blipFill>
        <p:spPr>
          <a:xfrm>
            <a:off x="264960" y="404640"/>
            <a:ext cx="861408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Users\Tavo\Desktop\Escritorio Papa\filosofando\292267_313510908716134_100001716827503_910086_592153561_n.jpg"/>
          <p:cNvPicPr/>
          <p:nvPr/>
        </p:nvPicPr>
        <p:blipFill>
          <a:blip r:embed="rId1"/>
          <a:stretch/>
        </p:blipFill>
        <p:spPr>
          <a:xfrm>
            <a:off x="112680" y="771480"/>
            <a:ext cx="903132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C:\Users\Tavo\Desktop\PACHITA Y A DORMIR.jpg"/>
          <p:cNvPicPr/>
          <p:nvPr/>
        </p:nvPicPr>
        <p:blipFill>
          <a:blip r:embed="rId1"/>
          <a:stretch/>
        </p:blipFill>
        <p:spPr>
          <a:xfrm>
            <a:off x="1692360" y="1006560"/>
            <a:ext cx="5851440" cy="5851440"/>
          </a:xfrm>
          <a:prstGeom prst="rect">
            <a:avLst/>
          </a:prstGeom>
          <a:ln w="0">
            <a:noFill/>
          </a:ln>
        </p:spPr>
      </p:pic>
      <p:sp>
        <p:nvSpPr>
          <p:cNvPr id="67" name="2 CuadroTexto"/>
          <p:cNvSpPr/>
          <p:nvPr/>
        </p:nvSpPr>
        <p:spPr>
          <a:xfrm>
            <a:off x="0" y="333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GT" sz="3600" spc="-1" strike="noStrike">
                <a:solidFill>
                  <a:srgbClr val="000000"/>
                </a:solidFill>
                <a:latin typeface="Calibri"/>
              </a:rPr>
              <a:t>¡PACHITA Y A DORMIR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Users\Tavo\Desktop\Escritorio Papa\filosofando\390888_268228693244356_100001716827503_789475_1082677916_n.jpg"/>
          <p:cNvPicPr/>
          <p:nvPr/>
        </p:nvPicPr>
        <p:blipFill>
          <a:blip r:embed="rId1"/>
          <a:stretch/>
        </p:blipFill>
        <p:spPr>
          <a:xfrm>
            <a:off x="223920" y="476280"/>
            <a:ext cx="859320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Users\Tavo\Desktop\Escritorio Papa\filosofando\395659_262521140481778_100001716827503_774168_1674182453_n.jpg"/>
          <p:cNvPicPr/>
          <p:nvPr/>
        </p:nvPicPr>
        <p:blipFill>
          <a:blip r:embed="rId1"/>
          <a:stretch/>
        </p:blipFill>
        <p:spPr>
          <a:xfrm>
            <a:off x="63360" y="1844640"/>
            <a:ext cx="901728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Users\Tavo\Desktop\Escritorio Papa\filosofando\402047_294273763973182_100001716827503_854623_1738369549_n.jpg"/>
          <p:cNvPicPr/>
          <p:nvPr/>
        </p:nvPicPr>
        <p:blipFill>
          <a:blip r:embed="rId1"/>
          <a:stretch/>
        </p:blipFill>
        <p:spPr>
          <a:xfrm>
            <a:off x="250920" y="135000"/>
            <a:ext cx="871380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Users\Tavo\Desktop\Escritorio Papa\filosofando\417208_281322531934972_100001716827503_822302_162591361_n.jpg"/>
          <p:cNvPicPr/>
          <p:nvPr/>
        </p:nvPicPr>
        <p:blipFill>
          <a:blip r:embed="rId1"/>
          <a:stretch/>
        </p:blipFill>
        <p:spPr>
          <a:xfrm>
            <a:off x="925560" y="111240"/>
            <a:ext cx="7175520" cy="67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Users\Tavo\Desktop\Escritorio Papa\filosofando\422308_291223014278257_100001716827503_847579_245419644_n.jpg"/>
          <p:cNvPicPr/>
          <p:nvPr/>
        </p:nvPicPr>
        <p:blipFill>
          <a:blip r:embed="rId1"/>
          <a:stretch/>
        </p:blipFill>
        <p:spPr>
          <a:xfrm>
            <a:off x="100080" y="476280"/>
            <a:ext cx="89438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Tavo\Desktop\Escritorio Papa\filosofando\423291_276251559108736_100001716827503_809285_882551791_n.jpg"/>
          <p:cNvPicPr/>
          <p:nvPr/>
        </p:nvPicPr>
        <p:blipFill>
          <a:blip r:embed="rId1"/>
          <a:stretch/>
        </p:blipFill>
        <p:spPr>
          <a:xfrm>
            <a:off x="123840" y="422280"/>
            <a:ext cx="8769240" cy="61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Users\Tavo\Desktop\Escritorio Papa\filosofando\425790_280969528636939_100001716827503_821398_1144589696_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5T02:32:25Z</dcterms:created>
  <dc:creator>Tavo</dc:creator>
  <dc:description/>
  <dc:language>en-US</dc:language>
  <cp:lastModifiedBy>Julio Barquero Salazar</cp:lastModifiedBy>
  <dcterms:modified xsi:type="dcterms:W3CDTF">2012-05-23T22:24:00Z</dcterms:modified>
  <cp:revision>7</cp:revision>
  <dc:subject/>
  <dc:title>Diapositiva 1</dc:title>
</cp:coreProperties>
</file>