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D28-F87A-491D-B099-CEAB0233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814-DE33-4AE9-9B00-CEDF171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F8D-F5E0-46CF-8CB5-4F54DE72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A65-66F2-46FA-94F5-09785814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FAE-2C05-4FD5-AD2A-DD28B46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6C-0901-46E4-9C76-F5830CAE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B69-FA7D-495C-BD97-A0D33BE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0EB-5189-406E-9DF4-BB31E92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17B-7438-4812-90E0-A93728E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9C6-1A71-42DB-A92C-B852EB6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55A-3E12-47A9-BCBA-724FFFC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6DD-F5DE-497D-86A6-04FCCD5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4E4-A490-469F-82B9-CFBB45311F0C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Tavo\Desktop\Escritorio Papa\filosofando\381604_266572576743301_100001716827503_785250_1470677984_n.jpg"/>
          <p:cNvPicPr/>
          <p:nvPr/>
        </p:nvPicPr>
        <p:blipFill>
          <a:blip r:embed="rId1"/>
          <a:stretch/>
        </p:blipFill>
        <p:spPr>
          <a:xfrm>
            <a:off x="2000160" y="68400"/>
            <a:ext cx="50929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Tavo\Desktop\Escritorio Papa\filosofando\430909_292853880781837_100001716827503_851537_267236766_n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Tavo\Desktop\Escritorio Papa\filosofando\523031_333161486751076_100001716827503_966341_1900870432_n.jpg"/>
          <p:cNvPicPr/>
          <p:nvPr/>
        </p:nvPicPr>
        <p:blipFill>
          <a:blip r:embed="rId1"/>
          <a:stretch/>
        </p:blipFill>
        <p:spPr>
          <a:xfrm>
            <a:off x="1876320" y="131760"/>
            <a:ext cx="5288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Tavo\Desktop\Escritorio Papa\filosofando\524424_321228627944362_100001716827503_934057_1589428467_n.jpg"/>
          <p:cNvPicPr/>
          <p:nvPr/>
        </p:nvPicPr>
        <p:blipFill>
          <a:blip r:embed="rId1"/>
          <a:stretch/>
        </p:blipFill>
        <p:spPr>
          <a:xfrm>
            <a:off x="27000" y="1268280"/>
            <a:ext cx="9090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Tavo\Desktop\Escritorio Papa\filosofando\525619_332030283530863_100001716827503_965080_933609143_n.jpg"/>
          <p:cNvPicPr/>
          <p:nvPr/>
        </p:nvPicPr>
        <p:blipFill>
          <a:blip r:embed="rId1"/>
          <a:stretch/>
        </p:blipFill>
        <p:spPr>
          <a:xfrm>
            <a:off x="115920" y="1065240"/>
            <a:ext cx="90280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Tavo\Desktop\Escritorio Papa\filosofando\535794_327319904001901_100001716827503_953605_118170406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Tavo\Desktop\Escritorio Papa\filosofando\536191_320011068066118_100001716827503_929474_1939448570_n.jpg"/>
          <p:cNvPicPr/>
          <p:nvPr/>
        </p:nvPicPr>
        <p:blipFill>
          <a:blip r:embed="rId1"/>
          <a:stretch/>
        </p:blipFill>
        <p:spPr>
          <a:xfrm>
            <a:off x="84240" y="655560"/>
            <a:ext cx="88088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Tavo\Desktop\Escritorio Papa\filosofando\536768_322532514480640_100001716827503_938584_948376635_n.jpg"/>
          <p:cNvPicPr/>
          <p:nvPr/>
        </p:nvPicPr>
        <p:blipFill>
          <a:blip r:embed="rId1"/>
          <a:stretch/>
        </p:blipFill>
        <p:spPr>
          <a:xfrm>
            <a:off x="347760" y="243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Tavo\Desktop\Escritorio Papa\filosofando\540038_324242944309597_100001716827503_943227_823840580_n.jpg"/>
          <p:cNvPicPr/>
          <p:nvPr/>
        </p:nvPicPr>
        <p:blipFill>
          <a:blip r:embed="rId1"/>
          <a:stretch/>
        </p:blipFill>
        <p:spPr>
          <a:xfrm>
            <a:off x="147600" y="549360"/>
            <a:ext cx="88488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Tavo\Desktop\Escritorio Papa\filosofando\543217_334741629926395_100001716827503_970262_973540909_n.jpg"/>
          <p:cNvPicPr/>
          <p:nvPr/>
        </p:nvPicPr>
        <p:blipFill>
          <a:blip r:embed="rId1"/>
          <a:stretch/>
        </p:blipFill>
        <p:spPr>
          <a:xfrm>
            <a:off x="250920" y="404640"/>
            <a:ext cx="8540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Tavo\Desktop\Escritorio Papa\filosofando\545746_333132743420617_100001716827503_966321_1837824584_n.jpg"/>
          <p:cNvPicPr/>
          <p:nvPr/>
        </p:nvPicPr>
        <p:blipFill>
          <a:blip r:embed="rId1"/>
          <a:stretch/>
        </p:blipFill>
        <p:spPr>
          <a:xfrm>
            <a:off x="1111320" y="4680"/>
            <a:ext cx="69166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Tavo\Desktop\Escritorio Papa\filosofando\386016_267416763325549_100001716827503_787595_1031570598_n.jpg"/>
          <p:cNvPicPr/>
          <p:nvPr/>
        </p:nvPicPr>
        <p:blipFill>
          <a:blip r:embed="rId1"/>
          <a:stretch/>
        </p:blipFill>
        <p:spPr>
          <a:xfrm>
            <a:off x="1012680" y="0"/>
            <a:ext cx="711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Tavo\Desktop\Escritorio Papa\filosofando\546228_335011156566109_100001716827503_970744_1016916715_n.jpg"/>
          <p:cNvPicPr/>
          <p:nvPr/>
        </p:nvPicPr>
        <p:blipFill>
          <a:blip r:embed="rId1"/>
          <a:stretch/>
        </p:blipFill>
        <p:spPr>
          <a:xfrm>
            <a:off x="642960" y="119160"/>
            <a:ext cx="80326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Tavo\Desktop\Escritorio Papa\filosofando\547122_318080148259210_100001716827503_924927_973562820_n.jpg"/>
          <p:cNvPicPr/>
          <p:nvPr/>
        </p:nvPicPr>
        <p:blipFill>
          <a:blip r:embed="rId1"/>
          <a:stretch/>
        </p:blipFill>
        <p:spPr>
          <a:xfrm>
            <a:off x="187200" y="378000"/>
            <a:ext cx="87058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Tavo\Desktop\Escritorio Papa\filosofando\562912_329878983745993_100001716827503_960621_675747828_n.jpg"/>
          <p:cNvPicPr/>
          <p:nvPr/>
        </p:nvPicPr>
        <p:blipFill>
          <a:blip r:embed="rId1"/>
          <a:stretch/>
        </p:blipFill>
        <p:spPr>
          <a:xfrm>
            <a:off x="1092240" y="0"/>
            <a:ext cx="69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avo\Desktop\Escritorio Papa\filosofando\562949_332675080133050_100001716827503_965915_501818894_n.jpg"/>
          <p:cNvPicPr/>
          <p:nvPr/>
        </p:nvPicPr>
        <p:blipFill>
          <a:blip r:embed="rId1"/>
          <a:stretch/>
        </p:blipFill>
        <p:spPr>
          <a:xfrm>
            <a:off x="2050920" y="-41400"/>
            <a:ext cx="504216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Tavo\Desktop\Escritorio Papa\filosofando\574477_331965140204044_100001716827503_965016_1763720433_n.jpg"/>
          <p:cNvPicPr/>
          <p:nvPr/>
        </p:nvPicPr>
        <p:blipFill>
          <a:blip r:embed="rId1"/>
          <a:stretch/>
        </p:blipFill>
        <p:spPr>
          <a:xfrm>
            <a:off x="264960" y="404640"/>
            <a:ext cx="8614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Tavo\Desktop\Escritorio Papa\filosofando\292267_313510908716134_100001716827503_910086_592153561_n.jpg"/>
          <p:cNvPicPr/>
          <p:nvPr/>
        </p:nvPicPr>
        <p:blipFill>
          <a:blip r:embed="rId1"/>
          <a:stretch/>
        </p:blipFill>
        <p:spPr>
          <a:xfrm>
            <a:off x="112680" y="771480"/>
            <a:ext cx="90313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Tavo\Desktop\PACHITA Y A DORMIR.jpg"/>
          <p:cNvPicPr/>
          <p:nvPr/>
        </p:nvPicPr>
        <p:blipFill>
          <a:blip r:embed="rId1"/>
          <a:stretch/>
        </p:blipFill>
        <p:spPr>
          <a:xfrm>
            <a:off x="1692360" y="100656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600" spc="-1" strike="noStrike">
                <a:solidFill>
                  <a:srgbClr val="000000"/>
                </a:solidFill>
                <a:latin typeface="Calibri"/>
              </a:rPr>
              <a:t>¡PACHITA Y A DORMIR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Tavo\Desktop\Escritorio Papa\filosofando\390888_268228693244356_100001716827503_789475_1082677916_n.jpg"/>
          <p:cNvPicPr/>
          <p:nvPr/>
        </p:nvPicPr>
        <p:blipFill>
          <a:blip r:embed="rId1"/>
          <a:stretch/>
        </p:blipFill>
        <p:spPr>
          <a:xfrm>
            <a:off x="223920" y="476280"/>
            <a:ext cx="85932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Tavo\Desktop\Escritorio Papa\filosofando\395659_262521140481778_100001716827503_774168_1674182453_n.jpg"/>
          <p:cNvPicPr/>
          <p:nvPr/>
        </p:nvPicPr>
        <p:blipFill>
          <a:blip r:embed="rId1"/>
          <a:stretch/>
        </p:blipFill>
        <p:spPr>
          <a:xfrm>
            <a:off x="63360" y="1844640"/>
            <a:ext cx="901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Tavo\Desktop\Escritorio Papa\filosofando\402047_294273763973182_100001716827503_854623_1738369549_n.jpg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Tavo\Desktop\Escritorio Papa\filosofando\417208_281322531934972_100001716827503_822302_162591361_n.jpg"/>
          <p:cNvPicPr/>
          <p:nvPr/>
        </p:nvPicPr>
        <p:blipFill>
          <a:blip r:embed="rId1"/>
          <a:stretch/>
        </p:blipFill>
        <p:spPr>
          <a:xfrm>
            <a:off x="925560" y="111240"/>
            <a:ext cx="71755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Tavo\Desktop\Escritorio Papa\filosofando\422308_291223014278257_100001716827503_847579_245419644_n.jpg"/>
          <p:cNvPicPr/>
          <p:nvPr/>
        </p:nvPicPr>
        <p:blipFill>
          <a:blip r:embed="rId1"/>
          <a:stretch/>
        </p:blipFill>
        <p:spPr>
          <a:xfrm>
            <a:off x="100080" y="476280"/>
            <a:ext cx="8943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Tavo\Desktop\Escritorio Papa\filosofando\423291_276251559108736_100001716827503_809285_882551791_n.jpg"/>
          <p:cNvPicPr/>
          <p:nvPr/>
        </p:nvPicPr>
        <p:blipFill>
          <a:blip r:embed="rId1"/>
          <a:stretch/>
        </p:blipFill>
        <p:spPr>
          <a:xfrm>
            <a:off x="123840" y="422280"/>
            <a:ext cx="87692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Tavo\Desktop\Escritorio Papa\filosofando\425790_280969528636939_100001716827503_821398_114458969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32:25Z</dcterms:created>
  <dc:creator>Tavo</dc:creator>
  <dc:description/>
  <dc:language>en-US</dc:language>
  <cp:lastModifiedBy>Julio Barquero Salazar</cp:lastModifiedBy>
  <dcterms:modified xsi:type="dcterms:W3CDTF">2012-05-23T22:24:00Z</dcterms:modified>
  <cp:revision>7</cp:revision>
  <dc:subject/>
  <dc:title>Diapositiva 1</dc:title>
</cp:coreProperties>
</file>