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0.gif" ContentType="image/gif"/>
  <Override PartName="/ppt/media/image13.jpeg" ContentType="image/jpeg"/>
  <Override PartName="/ppt/media/image40.jpeg" ContentType="image/jpeg"/>
  <Override PartName="/ppt/media/image27.gif" ContentType="image/gif"/>
  <Override PartName="/ppt/media/image28.jpeg" ContentType="image/jpeg"/>
  <Override PartName="/ppt/media/image12.jpeg" ContentType="image/jpeg"/>
  <Override PartName="/ppt/media/image37.jpeg" ContentType="image/jpeg"/>
  <Override PartName="/ppt/media/image29.jpeg" ContentType="image/jpeg"/>
  <Override PartName="/ppt/media/12_chucho_avellanet_-_esta_noche_esta_para_bolero-.wav" ContentType="audio/x-wav"/>
  <Override PartName="/ppt/media/image1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38.jpeg" ContentType="image/jpeg"/>
  <Override PartName="/ppt/media/image26.jpeg" ContentType="image/jpeg"/>
  <Override PartName="/ppt/media/image42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09FE-1F71-466A-8F3A-CDA4B099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4112-CD38-4611-B92D-D627F923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C6C2-032E-47E5-82A6-FDEC28BF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2077-6E2A-43F8-9FD4-9F908C7D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A38F-4644-47DA-B271-050E4DDB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64D4-60FA-4921-8717-4D08815E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880E-8C43-43C3-BDA2-29F466DC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279A-9835-473B-B691-093EBE0E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38E4-E908-44AD-B243-8289A488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9B42-DECF-4FC1-B711-8763F493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BDDA-C6FB-4AD2-93EF-95F00DE8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C6DF-8985-47F6-B95B-29A3B5DA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4A2B-3FF8-4087-8C8E-38CA675C1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12_chucho_avellanet_-_esta_noche_esta_para_bolero-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7.gif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bella 2 lunaS-00203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324000" y="1844640"/>
            <a:ext cx="46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Old English Text MT"/>
              </a:rPr>
              <a:t>Esta noche està para Boleros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Old English Text MT"/>
              <a:ea typeface="Old English Text MT"/>
            </a:endParaRPr>
          </a:p>
        </p:txBody>
      </p:sp>
      <p:sp>
        <p:nvSpPr>
          <p:cNvPr id="43" name="WordArt 7"/>
          <p:cNvSpPr txBox="1"/>
          <p:nvPr/>
        </p:nvSpPr>
        <p:spPr>
          <a:xfrm rot="20577000">
            <a:off x="7448040" y="6165360"/>
            <a:ext cx="959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arlow Solid Italic"/>
              </a:rPr>
              <a:t>Laly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arlow Solid Italic"/>
              <a:ea typeface="Harlow Solid Italic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684360" y="6453360"/>
            <a:ext cx="981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Arial Black"/>
              </a:rPr>
              <a:t>Roma 10/2007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5" name="WordArt 6"/>
          <p:cNvSpPr txBox="1"/>
          <p:nvPr/>
        </p:nvSpPr>
        <p:spPr>
          <a:xfrm rot="10800000">
            <a:off x="5650560" y="6093000"/>
            <a:ext cx="2374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Deja que corra solo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 advTm="4000">
    <p:fade/>
    <p:sndAc>
      <p:stSnd>
        <p:snd r:embed="rId6" name="12_chucho_avellanet_-_esta_noche_esta_para_bolero-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00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cancion de amor-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noche apra bolerp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bella luna bella noche-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brindis007-002"/>
          <p:cNvPicPr/>
          <p:nvPr/>
        </p:nvPicPr>
        <p:blipFill>
          <a:blip r:embed="rId1"/>
          <a:stretch/>
        </p:blipFill>
        <p:spPr>
          <a:xfrm>
            <a:off x="1116000" y="-27000"/>
            <a:ext cx="7056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palmeras-ooo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romance-ja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ena y rosas"/>
          <p:cNvPicPr/>
          <p:nvPr/>
        </p:nvPicPr>
        <p:blipFill>
          <a:blip r:embed="rId1"/>
          <a:srcRect l="0" t="3408" r="0" b="0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539640" y="6093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dwardian Script ITC"/>
              </a:rPr>
              <a:t>Te Quier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luna reflejo en el  m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5219640" y="4149720"/>
            <a:ext cx="3960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fffff"/>
                </a:solidFill>
                <a:latin typeface="Edwardian Script ITC"/>
              </a:rPr>
              <a:t>Decir te quiero como aquel día con aquella vieja  melodía que quedó  en el recuerdo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1" descr="sfondo14"/>
          <p:cNvPicPr/>
          <p:nvPr/>
        </p:nvPicPr>
        <p:blipFill>
          <a:blip r:embed="rId1"/>
          <a:stretch/>
        </p:blipFill>
        <p:spPr>
          <a:xfrm rot="5400000">
            <a:off x="1742040" y="4529880"/>
            <a:ext cx="1081080" cy="1326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sfondo14"/>
          <p:cNvPicPr/>
          <p:nvPr/>
        </p:nvPicPr>
        <p:blipFill>
          <a:blip r:embed="rId2"/>
          <a:stretch/>
        </p:blipFill>
        <p:spPr>
          <a:xfrm>
            <a:off x="0" y="0"/>
            <a:ext cx="59562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sfondo14"/>
          <p:cNvPicPr/>
          <p:nvPr/>
        </p:nvPicPr>
        <p:blipFill>
          <a:blip r:embed="rId3"/>
          <a:stretch/>
        </p:blipFill>
        <p:spPr>
          <a:xfrm>
            <a:off x="3187800" y="27000"/>
            <a:ext cx="59562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2222jtfd"/>
          <p:cNvPicPr/>
          <p:nvPr/>
        </p:nvPicPr>
        <p:blipFill>
          <a:blip r:embed="rId4"/>
          <a:stretch/>
        </p:blipFill>
        <p:spPr>
          <a:xfrm>
            <a:off x="7145280" y="476280"/>
            <a:ext cx="1530360" cy="1584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Copia de boton rosa y la luvia-002kjhg"/>
          <p:cNvPicPr/>
          <p:nvPr/>
        </p:nvPicPr>
        <p:blipFill>
          <a:blip r:embed="rId5"/>
          <a:stretch/>
        </p:blipFill>
        <p:spPr>
          <a:xfrm>
            <a:off x="2556000" y="2349360"/>
            <a:ext cx="3887640" cy="32702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4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4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noce de amore lu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pps copas de vino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6632640" y="5800680"/>
            <a:ext cx="240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ffff"/>
                </a:solidFill>
                <a:latin typeface="Edwardian Script ITC"/>
              </a:rPr>
              <a:t>Cantan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ffff"/>
                </a:solidFill>
                <a:latin typeface="Edwardian Script ITC"/>
              </a:rPr>
              <a:t>Jose Luis Rodriguez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6378480" y="6354720"/>
            <a:ext cx="183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ffff"/>
                </a:solidFill>
                <a:latin typeface="Edwardian Script ITC"/>
              </a:rPr>
              <a:t>Chucho Avella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manos pps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524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265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CharcoalGrillArea1_j002"/>
          <p:cNvPicPr/>
          <p:nvPr/>
        </p:nvPicPr>
        <p:blipFill>
          <a:blip r:embed="rId1"/>
          <a:stretch/>
        </p:blipFill>
        <p:spPr>
          <a:xfrm>
            <a:off x="1332000" y="0"/>
            <a:ext cx="6696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bar_piano-009"/>
          <p:cNvPicPr/>
          <p:nvPr/>
        </p:nvPicPr>
        <p:blipFill>
          <a:blip r:embed="rId1"/>
          <a:stretch/>
        </p:blipFill>
        <p:spPr>
          <a:xfrm>
            <a:off x="2195640" y="0"/>
            <a:ext cx="511164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nota_musical"/>
          <p:cNvPicPr/>
          <p:nvPr/>
        </p:nvPicPr>
        <p:blipFill>
          <a:blip r:embed="rId2"/>
          <a:stretch/>
        </p:blipFill>
        <p:spPr>
          <a:xfrm rot="1255800">
            <a:off x="8172360" y="620640"/>
            <a:ext cx="563760" cy="64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nota_musical"/>
          <p:cNvPicPr/>
          <p:nvPr/>
        </p:nvPicPr>
        <p:blipFill>
          <a:blip r:embed="rId3"/>
          <a:stretch/>
        </p:blipFill>
        <p:spPr>
          <a:xfrm rot="20889000">
            <a:off x="8101080" y="2133720"/>
            <a:ext cx="563400" cy="647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nota_musical"/>
          <p:cNvPicPr/>
          <p:nvPr/>
        </p:nvPicPr>
        <p:blipFill>
          <a:blip r:embed="rId4"/>
          <a:stretch/>
        </p:blipFill>
        <p:spPr>
          <a:xfrm rot="1255800">
            <a:off x="8172360" y="3645000"/>
            <a:ext cx="563760" cy="64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9" descr="nota_musical"/>
          <p:cNvPicPr/>
          <p:nvPr/>
        </p:nvPicPr>
        <p:blipFill>
          <a:blip r:embed="rId5"/>
          <a:stretch/>
        </p:blipFill>
        <p:spPr>
          <a:xfrm rot="885600">
            <a:off x="611280" y="5589360"/>
            <a:ext cx="563400" cy="647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0" descr="nota_musical"/>
          <p:cNvPicPr/>
          <p:nvPr/>
        </p:nvPicPr>
        <p:blipFill>
          <a:blip r:embed="rId6"/>
          <a:stretch/>
        </p:blipFill>
        <p:spPr>
          <a:xfrm rot="349200">
            <a:off x="1115640" y="3789000"/>
            <a:ext cx="563400" cy="647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1" descr="nota_musical"/>
          <p:cNvPicPr/>
          <p:nvPr/>
        </p:nvPicPr>
        <p:blipFill>
          <a:blip r:embed="rId7"/>
          <a:stretch/>
        </p:blipFill>
        <p:spPr>
          <a:xfrm rot="20434800">
            <a:off x="468360" y="2276280"/>
            <a:ext cx="563400" cy="647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2" descr="nota_musical"/>
          <p:cNvPicPr/>
          <p:nvPr/>
        </p:nvPicPr>
        <p:blipFill>
          <a:blip r:embed="rId8"/>
          <a:stretch/>
        </p:blipFill>
        <p:spPr>
          <a:xfrm rot="20553000">
            <a:off x="899640" y="691920"/>
            <a:ext cx="563760" cy="64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3" descr="nota_musical"/>
          <p:cNvPicPr/>
          <p:nvPr/>
        </p:nvPicPr>
        <p:blipFill>
          <a:blip r:embed="rId9"/>
          <a:stretch/>
        </p:blipFill>
        <p:spPr>
          <a:xfrm rot="20538000">
            <a:off x="8100720" y="5444640"/>
            <a:ext cx="563400" cy="64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manos elazadas oe"/>
          <p:cNvPicPr/>
          <p:nvPr/>
        </p:nvPicPr>
        <p:blipFill>
          <a:blip r:embed="rId1"/>
          <a:stretch/>
        </p:blipFill>
        <p:spPr>
          <a:xfrm>
            <a:off x="1835280" y="0"/>
            <a:ext cx="4608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ella lu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meo petaca"/>
          <p:cNvPicPr/>
          <p:nvPr/>
        </p:nvPicPr>
        <p:blipFill>
          <a:blip r:embed="rId1"/>
          <a:stretch/>
        </p:blipFill>
        <p:spPr>
          <a:xfrm>
            <a:off x="36360" y="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tramonto enel sass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4643280" y="4869000"/>
            <a:ext cx="439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Edwardian Script ITC"/>
              </a:rPr>
              <a:t>Esta noche está para quererse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Edwardian Script ITC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Edwardian Script ITC"/>
              </a:rPr>
              <a:t>y avivar recuerdos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hampagne-003"/>
          <p:cNvPicPr/>
          <p:nvPr/>
        </p:nvPicPr>
        <p:blipFill>
          <a:blip r:embed="rId1"/>
          <a:stretch/>
        </p:blipFill>
        <p:spPr>
          <a:xfrm>
            <a:off x="2124000" y="189000"/>
            <a:ext cx="5113440" cy="6480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opas en alo-002"/>
          <p:cNvPicPr/>
          <p:nvPr/>
        </p:nvPicPr>
        <p:blipFill>
          <a:blip r:embed="rId2"/>
          <a:stretch/>
        </p:blipFill>
        <p:spPr>
          <a:xfrm>
            <a:off x="826920" y="0"/>
            <a:ext cx="28908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copas en alo-002"/>
          <p:cNvPicPr/>
          <p:nvPr/>
        </p:nvPicPr>
        <p:blipFill>
          <a:blip r:embed="rId3"/>
          <a:stretch/>
        </p:blipFill>
        <p:spPr>
          <a:xfrm>
            <a:off x="8172360" y="0"/>
            <a:ext cx="28728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copas en alo-002"/>
          <p:cNvPicPr/>
          <p:nvPr/>
        </p:nvPicPr>
        <p:blipFill>
          <a:blip r:embed="rId4"/>
          <a:stretch/>
        </p:blipFill>
        <p:spPr>
          <a:xfrm>
            <a:off x="1692360" y="15840"/>
            <a:ext cx="6308640" cy="17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copas en alo-002"/>
          <p:cNvPicPr/>
          <p:nvPr/>
        </p:nvPicPr>
        <p:blipFill>
          <a:blip r:embed="rId5"/>
          <a:stretch/>
        </p:blipFill>
        <p:spPr>
          <a:xfrm>
            <a:off x="1835280" y="6669000"/>
            <a:ext cx="6308640" cy="17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-piano-1"/>
          <p:cNvPicPr/>
          <p:nvPr/>
        </p:nvPicPr>
        <p:blipFill>
          <a:blip r:embed="rId1"/>
          <a:stretch/>
        </p:blipFill>
        <p:spPr>
          <a:xfrm>
            <a:off x="36360" y="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paleras en a noche-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noche de luna-002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2 copas y el amor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encuentro"/>
          <p:cNvPicPr/>
          <p:nvPr/>
        </p:nvPicPr>
        <p:blipFill>
          <a:blip r:embed="rId1"/>
          <a:stretch/>
        </p:blipFill>
        <p:spPr>
          <a:xfrm>
            <a:off x="1403280" y="0"/>
            <a:ext cx="64818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35"/>
          <p:cNvGrpSpPr/>
          <p:nvPr/>
        </p:nvGrpSpPr>
        <p:grpSpPr>
          <a:xfrm>
            <a:off x="0" y="1023840"/>
            <a:ext cx="9142920" cy="5860080"/>
            <a:chOff x="0" y="1023840"/>
            <a:chExt cx="9142920" cy="5860080"/>
          </a:xfrm>
        </p:grpSpPr>
        <p:grpSp>
          <p:nvGrpSpPr>
            <p:cNvPr id="100" name="Group 23"/>
            <p:cNvGrpSpPr/>
            <p:nvPr/>
          </p:nvGrpSpPr>
          <p:grpSpPr>
            <a:xfrm>
              <a:off x="171720" y="1023840"/>
              <a:ext cx="8971200" cy="5860080"/>
              <a:chOff x="171720" y="1023840"/>
              <a:chExt cx="8971200" cy="5860080"/>
            </a:xfrm>
          </p:grpSpPr>
          <p:grpSp>
            <p:nvGrpSpPr>
              <p:cNvPr id="101" name="Group 19"/>
              <p:cNvGrpSpPr/>
              <p:nvPr/>
            </p:nvGrpSpPr>
            <p:grpSpPr>
              <a:xfrm>
                <a:off x="171720" y="1023840"/>
                <a:ext cx="8971200" cy="5860080"/>
                <a:chOff x="171720" y="1023840"/>
                <a:chExt cx="8971200" cy="5860080"/>
              </a:xfrm>
            </p:grpSpPr>
            <p:pic>
              <p:nvPicPr>
                <p:cNvPr id="102" name="Picture 5" descr="reflejo bellisina ppa-002"/>
                <p:cNvPicPr/>
                <p:nvPr/>
              </p:nvPicPr>
              <p:blipFill>
                <a:blip r:embed="rId1"/>
                <a:srcRect l="0" t="24150" r="0" b="0"/>
                <a:stretch/>
              </p:blipFill>
              <p:spPr>
                <a:xfrm>
                  <a:off x="171720" y="1331640"/>
                  <a:ext cx="8971200" cy="5552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" name="Rectangle 14"/>
                <p:cNvSpPr/>
                <p:nvPr/>
              </p:nvSpPr>
              <p:spPr>
                <a:xfrm>
                  <a:off x="227520" y="1023840"/>
                  <a:ext cx="4319640" cy="691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5"/>
                <p:cNvSpPr/>
                <p:nvPr/>
              </p:nvSpPr>
              <p:spPr>
                <a:xfrm>
                  <a:off x="227520" y="1408320"/>
                  <a:ext cx="2546640" cy="1152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6"/>
                <p:cNvSpPr/>
                <p:nvPr/>
              </p:nvSpPr>
              <p:spPr>
                <a:xfrm>
                  <a:off x="2442600" y="1484280"/>
                  <a:ext cx="1328400" cy="768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7"/>
                <p:cNvSpPr/>
                <p:nvPr/>
              </p:nvSpPr>
              <p:spPr>
                <a:xfrm>
                  <a:off x="2664360" y="2023560"/>
                  <a:ext cx="331920" cy="306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8"/>
                <p:cNvSpPr/>
                <p:nvPr/>
              </p:nvSpPr>
              <p:spPr>
                <a:xfrm>
                  <a:off x="3551040" y="1408320"/>
                  <a:ext cx="441720" cy="537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Oval 20"/>
              <p:cNvSpPr/>
              <p:nvPr/>
            </p:nvSpPr>
            <p:spPr>
              <a:xfrm>
                <a:off x="2885760" y="2130480"/>
                <a:ext cx="226080" cy="195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21"/>
              <p:cNvSpPr/>
              <p:nvPr/>
            </p:nvSpPr>
            <p:spPr>
              <a:xfrm>
                <a:off x="3564000" y="1805760"/>
                <a:ext cx="300600" cy="259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22"/>
              <p:cNvSpPr/>
              <p:nvPr/>
            </p:nvSpPr>
            <p:spPr>
              <a:xfrm>
                <a:off x="3941280" y="1610640"/>
                <a:ext cx="150840" cy="195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1" name="Picture 26" descr="reflejo bellisina ppa-002"/>
            <p:cNvPicPr/>
            <p:nvPr/>
          </p:nvPicPr>
          <p:blipFill>
            <a:blip r:embed="rId2"/>
            <a:srcRect l="0" t="42290" r="71438" b="0"/>
            <a:stretch/>
          </p:blipFill>
          <p:spPr>
            <a:xfrm>
              <a:off x="0" y="2648160"/>
              <a:ext cx="2563920" cy="422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Group 13"/>
          <p:cNvGrpSpPr/>
          <p:nvPr/>
        </p:nvGrpSpPr>
        <p:grpSpPr>
          <a:xfrm>
            <a:off x="360360" y="187200"/>
            <a:ext cx="2195280" cy="2305080"/>
            <a:chOff x="360360" y="187200"/>
            <a:chExt cx="2195280" cy="2305080"/>
          </a:xfrm>
        </p:grpSpPr>
        <p:pic>
          <p:nvPicPr>
            <p:cNvPr id="113" name="Picture 4" descr="reflejo bellisina ppa-002"/>
            <p:cNvPicPr/>
            <p:nvPr/>
          </p:nvPicPr>
          <p:blipFill>
            <a:blip r:embed="rId3"/>
            <a:srcRect l="0" t="0" r="51144" b="60525"/>
            <a:stretch/>
          </p:blipFill>
          <p:spPr>
            <a:xfrm>
              <a:off x="360360" y="187200"/>
              <a:ext cx="2131920" cy="20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Oval 8"/>
            <p:cNvSpPr/>
            <p:nvPr/>
          </p:nvSpPr>
          <p:spPr>
            <a:xfrm>
              <a:off x="423720" y="260280"/>
              <a:ext cx="1943640" cy="1809000"/>
            </a:xfrm>
            <a:prstGeom prst="ellipse">
              <a:avLst/>
            </a:prstGeom>
            <a:noFill/>
            <a:ln w="212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1677960" y="2069640"/>
              <a:ext cx="815400" cy="42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2117520" y="1646640"/>
              <a:ext cx="438120" cy="603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8000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arbol en la noche-002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re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5"/>
          <p:cNvSpPr txBox="1"/>
          <p:nvPr/>
        </p:nvSpPr>
        <p:spPr>
          <a:xfrm>
            <a:off x="2268360" y="4437000"/>
            <a:ext cx="4608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Old English Text MT"/>
              </a:rPr>
              <a:t>Esta noche està para Boleros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Old English Text MT"/>
              <a:ea typeface="Old English Text MT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851280" y="6381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578E-2761-499A-B4D9-5034791D43EE}" type="datetime">
              <a:rPr b="1" lang="es-CL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 </a:t>
            </a:r>
            <a:fld id="{573E1A70-069A-423B-AC42-789808403637}" type="datetime10">
              <a:rPr b="1" lang="es-CL" sz="1400" spc="-1" strike="noStrike">
                <a:solidFill>
                  <a:srgbClr val="ffffff"/>
                </a:solidFill>
                <a:latin typeface="Arial"/>
              </a:rPr>
              <a:t>17:0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8820000" y="63817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000"/>
                            </p:stCondLst>
                            <p:childTnLst>
                              <p:par>
                                <p:cTn id="351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pavimento mojado-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2 copas"/>
          <p:cNvPicPr/>
          <p:nvPr/>
        </p:nvPicPr>
        <p:blipFill>
          <a:blip r:embed="rId1"/>
          <a:stretch/>
        </p:blipFill>
        <p:spPr>
          <a:xfrm>
            <a:off x="539640" y="0"/>
            <a:ext cx="8064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pps lluvia-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mesa en el mar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PIANO SAN SEBASTAN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manos enlazada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22:38:42Z</dcterms:created>
  <dc:creator>Laly Bustamante</dc:creator>
  <dc:description>® De MaryNieves-11/06/2008.-OK.</dc:description>
  <dc:language>en-US</dc:language>
  <cp:lastModifiedBy>Juan Vidal Lorca</cp:lastModifiedBy>
  <dcterms:modified xsi:type="dcterms:W3CDTF">2008-06-11T21:31:39Z</dcterms:modified>
  <cp:revision>11</cp:revision>
  <dc:subject/>
  <dc:title>Esta Noche esta para Boleros</dc:title>
</cp:coreProperties>
</file>