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0.gif" ContentType="image/gif"/>
  <Override PartName="/ppt/media/image13.jpeg" ContentType="image/jpeg"/>
  <Override PartName="/ppt/media/image40.jpeg" ContentType="image/jpeg"/>
  <Override PartName="/ppt/media/image27.gif" ContentType="image/gif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12_chucho_avellanet_-_esta_noche_esta_para_bolero-.wav" ContentType="audio/x-wav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7C3-2089-446C-950B-AF4401D7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AFB-FC5A-40F9-900F-8AAD2C5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CDF-E233-4D4D-85D6-EC65DE83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DC4-145A-455F-A7FF-CE756DF8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DE5-9A9A-4D84-9865-00FC8C9C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4C0-393E-47C7-81B0-F8D82C8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F55-9175-4F5A-9B08-2462957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C7E-8FC0-4BF0-A8E0-7AAA689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34F-68E3-4E0F-B072-A0AAC6D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817-0EAE-4B1D-B6D8-D584CA7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8B6-8DBA-42D7-BA76-A283DE3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AD5-0D6A-4C64-B49C-61DEDB5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ED9-8259-42DF-ACB7-2F36F66A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12_chucho_avellanet_-_esta_noche_esta_para_bolero-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ella 2 lunaS-00203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4000" y="1844640"/>
            <a:ext cx="46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English Text MT"/>
              </a:rPr>
              <a:t>Esta noche està para Bolero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43" name="WordArt 7"/>
          <p:cNvSpPr txBox="1"/>
          <p:nvPr/>
        </p:nvSpPr>
        <p:spPr>
          <a:xfrm rot="20577000">
            <a:off x="7448040" y="6165360"/>
            <a:ext cx="959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Laly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684360" y="6453360"/>
            <a:ext cx="981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Roma 10/2007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 rot="10800000">
            <a:off x="5650560" y="6093000"/>
            <a:ext cx="23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ja que corra solo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4000">
    <p:fade/>
    <p:sndAc>
      <p:stSnd>
        <p:snd r:embed="rId6" name="12_chucho_avellanet_-_esta_noche_esta_para_bolero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ancion de amor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noche apra bolerp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ella luna bella noche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rindis007-002"/>
          <p:cNvPicPr/>
          <p:nvPr/>
        </p:nvPicPr>
        <p:blipFill>
          <a:blip r:embed="rId1"/>
          <a:stretch/>
        </p:blipFill>
        <p:spPr>
          <a:xfrm>
            <a:off x="1116000" y="-2700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almeras-oo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omance-ja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ena y rosas"/>
          <p:cNvPicPr/>
          <p:nvPr/>
        </p:nvPicPr>
        <p:blipFill>
          <a:blip r:embed="rId1"/>
          <a:srcRect l="0" t="3408" r="0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39640" y="609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e Quier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una reflejo en el 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219640" y="4149720"/>
            <a:ext cx="3960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ffff"/>
                </a:solidFill>
                <a:latin typeface="Edwardian Script ITC"/>
              </a:rPr>
              <a:t>Decir te quiero como aquel día con aquella vieja  melodía que quedó  en el recuerdo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sfondo14"/>
          <p:cNvPicPr/>
          <p:nvPr/>
        </p:nvPicPr>
        <p:blipFill>
          <a:blip r:embed="rId1"/>
          <a:stretch/>
        </p:blipFill>
        <p:spPr>
          <a:xfrm rot="5400000">
            <a:off x="1742040" y="4529880"/>
            <a:ext cx="1081080" cy="132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sfondo14"/>
          <p:cNvPicPr/>
          <p:nvPr/>
        </p:nvPicPr>
        <p:blipFill>
          <a:blip r:embed="rId2"/>
          <a:stretch/>
        </p:blipFill>
        <p:spPr>
          <a:xfrm>
            <a:off x="0" y="0"/>
            <a:ext cx="59562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sfondo14"/>
          <p:cNvPicPr/>
          <p:nvPr/>
        </p:nvPicPr>
        <p:blipFill>
          <a:blip r:embed="rId3"/>
          <a:stretch/>
        </p:blipFill>
        <p:spPr>
          <a:xfrm>
            <a:off x="3187800" y="27000"/>
            <a:ext cx="59562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2222jtfd"/>
          <p:cNvPicPr/>
          <p:nvPr/>
        </p:nvPicPr>
        <p:blipFill>
          <a:blip r:embed="rId4"/>
          <a:stretch/>
        </p:blipFill>
        <p:spPr>
          <a:xfrm>
            <a:off x="7145280" y="476280"/>
            <a:ext cx="153036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Copia de boton rosa y la luvia-002kjhg"/>
          <p:cNvPicPr/>
          <p:nvPr/>
        </p:nvPicPr>
        <p:blipFill>
          <a:blip r:embed="rId5"/>
          <a:stretch/>
        </p:blipFill>
        <p:spPr>
          <a:xfrm>
            <a:off x="2556000" y="2349360"/>
            <a:ext cx="3887640" cy="3270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4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oce de amore lu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ps copas de vino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6632640" y="5800680"/>
            <a:ext cx="240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Canta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Jose Luis Rodrigue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378480" y="635472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ffff"/>
                </a:solidFill>
                <a:latin typeface="Edwardian Script ITC"/>
              </a:rPr>
              <a:t>Chucho Avella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anos pps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265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arcoalGrillArea1_j002"/>
          <p:cNvPicPr/>
          <p:nvPr/>
        </p:nvPicPr>
        <p:blipFill>
          <a:blip r:embed="rId1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bar_piano-009"/>
          <p:cNvPicPr/>
          <p:nvPr/>
        </p:nvPicPr>
        <p:blipFill>
          <a:blip r:embed="rId1"/>
          <a:stretch/>
        </p:blipFill>
        <p:spPr>
          <a:xfrm>
            <a:off x="2195640" y="0"/>
            <a:ext cx="51116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nota_musical"/>
          <p:cNvPicPr/>
          <p:nvPr/>
        </p:nvPicPr>
        <p:blipFill>
          <a:blip r:embed="rId2"/>
          <a:stretch/>
        </p:blipFill>
        <p:spPr>
          <a:xfrm rot="1255800">
            <a:off x="8172360" y="62064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nota_musical"/>
          <p:cNvPicPr/>
          <p:nvPr/>
        </p:nvPicPr>
        <p:blipFill>
          <a:blip r:embed="rId3"/>
          <a:stretch/>
        </p:blipFill>
        <p:spPr>
          <a:xfrm rot="20889000">
            <a:off x="8101080" y="213372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nota_musical"/>
          <p:cNvPicPr/>
          <p:nvPr/>
        </p:nvPicPr>
        <p:blipFill>
          <a:blip r:embed="rId4"/>
          <a:stretch/>
        </p:blipFill>
        <p:spPr>
          <a:xfrm rot="1255800">
            <a:off x="8172360" y="364500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nota_musical"/>
          <p:cNvPicPr/>
          <p:nvPr/>
        </p:nvPicPr>
        <p:blipFill>
          <a:blip r:embed="rId5"/>
          <a:stretch/>
        </p:blipFill>
        <p:spPr>
          <a:xfrm rot="885600">
            <a:off x="611280" y="558936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nota_musical"/>
          <p:cNvPicPr/>
          <p:nvPr/>
        </p:nvPicPr>
        <p:blipFill>
          <a:blip r:embed="rId6"/>
          <a:stretch/>
        </p:blipFill>
        <p:spPr>
          <a:xfrm rot="349200">
            <a:off x="1115640" y="378900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nota_musical"/>
          <p:cNvPicPr/>
          <p:nvPr/>
        </p:nvPicPr>
        <p:blipFill>
          <a:blip r:embed="rId7"/>
          <a:stretch/>
        </p:blipFill>
        <p:spPr>
          <a:xfrm rot="20434800">
            <a:off x="468360" y="2276280"/>
            <a:ext cx="56340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nota_musical"/>
          <p:cNvPicPr/>
          <p:nvPr/>
        </p:nvPicPr>
        <p:blipFill>
          <a:blip r:embed="rId8"/>
          <a:stretch/>
        </p:blipFill>
        <p:spPr>
          <a:xfrm rot="20553000">
            <a:off x="899640" y="691920"/>
            <a:ext cx="5637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nota_musical"/>
          <p:cNvPicPr/>
          <p:nvPr/>
        </p:nvPicPr>
        <p:blipFill>
          <a:blip r:embed="rId9"/>
          <a:stretch/>
        </p:blipFill>
        <p:spPr>
          <a:xfrm rot="20538000">
            <a:off x="8100720" y="5444640"/>
            <a:ext cx="563400" cy="64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anos elazadas oe"/>
          <p:cNvPicPr/>
          <p:nvPr/>
        </p:nvPicPr>
        <p:blipFill>
          <a:blip r:embed="rId1"/>
          <a:stretch/>
        </p:blipFill>
        <p:spPr>
          <a:xfrm>
            <a:off x="183528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ella lu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meo petaca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ramonto enel sass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643280" y="4869000"/>
            <a:ext cx="43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Esta noche está para quererse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Edwardian Script ITC"/>
              </a:rPr>
              <a:t>y avivar recuerdo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hampagne-003"/>
          <p:cNvPicPr/>
          <p:nvPr/>
        </p:nvPicPr>
        <p:blipFill>
          <a:blip r:embed="rId1"/>
          <a:stretch/>
        </p:blipFill>
        <p:spPr>
          <a:xfrm>
            <a:off x="2124000" y="189000"/>
            <a:ext cx="5113440" cy="648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opas en alo-002"/>
          <p:cNvPicPr/>
          <p:nvPr/>
        </p:nvPicPr>
        <p:blipFill>
          <a:blip r:embed="rId2"/>
          <a:stretch/>
        </p:blipFill>
        <p:spPr>
          <a:xfrm>
            <a:off x="826920" y="0"/>
            <a:ext cx="2890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opas en alo-002"/>
          <p:cNvPicPr/>
          <p:nvPr/>
        </p:nvPicPr>
        <p:blipFill>
          <a:blip r:embed="rId3"/>
          <a:stretch/>
        </p:blipFill>
        <p:spPr>
          <a:xfrm>
            <a:off x="8172360" y="0"/>
            <a:ext cx="2872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opas en alo-002"/>
          <p:cNvPicPr/>
          <p:nvPr/>
        </p:nvPicPr>
        <p:blipFill>
          <a:blip r:embed="rId4"/>
          <a:stretch/>
        </p:blipFill>
        <p:spPr>
          <a:xfrm>
            <a:off x="1692360" y="15840"/>
            <a:ext cx="6308640" cy="17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opas en alo-002"/>
          <p:cNvPicPr/>
          <p:nvPr/>
        </p:nvPicPr>
        <p:blipFill>
          <a:blip r:embed="rId5"/>
          <a:stretch/>
        </p:blipFill>
        <p:spPr>
          <a:xfrm>
            <a:off x="1835280" y="6669000"/>
            <a:ext cx="6308640" cy="17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-piano-1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aleras en a noche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oche de luna-00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 copas y el amor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ncuentro"/>
          <p:cNvPicPr/>
          <p:nvPr/>
        </p:nvPicPr>
        <p:blipFill>
          <a:blip r:embed="rId1"/>
          <a:stretch/>
        </p:blipFill>
        <p:spPr>
          <a:xfrm>
            <a:off x="140328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35"/>
          <p:cNvGrpSpPr/>
          <p:nvPr/>
        </p:nvGrpSpPr>
        <p:grpSpPr>
          <a:xfrm>
            <a:off x="0" y="1023840"/>
            <a:ext cx="9142920" cy="5860080"/>
            <a:chOff x="0" y="1023840"/>
            <a:chExt cx="9142920" cy="5860080"/>
          </a:xfrm>
        </p:grpSpPr>
        <p:grpSp>
          <p:nvGrpSpPr>
            <p:cNvPr id="100" name="Group 23"/>
            <p:cNvGrpSpPr/>
            <p:nvPr/>
          </p:nvGrpSpPr>
          <p:grpSpPr>
            <a:xfrm>
              <a:off x="171720" y="1023840"/>
              <a:ext cx="8971200" cy="5860080"/>
              <a:chOff x="171720" y="1023840"/>
              <a:chExt cx="8971200" cy="5860080"/>
            </a:xfrm>
          </p:grpSpPr>
          <p:grpSp>
            <p:nvGrpSpPr>
              <p:cNvPr id="101" name="Group 19"/>
              <p:cNvGrpSpPr/>
              <p:nvPr/>
            </p:nvGrpSpPr>
            <p:grpSpPr>
              <a:xfrm>
                <a:off x="171720" y="1023840"/>
                <a:ext cx="8971200" cy="5860080"/>
                <a:chOff x="171720" y="1023840"/>
                <a:chExt cx="8971200" cy="5860080"/>
              </a:xfrm>
            </p:grpSpPr>
            <p:pic>
              <p:nvPicPr>
                <p:cNvPr id="102" name="Picture 5" descr="reflejo bellisina ppa-002"/>
                <p:cNvPicPr/>
                <p:nvPr/>
              </p:nvPicPr>
              <p:blipFill>
                <a:blip r:embed="rId1"/>
                <a:srcRect l="0" t="24150" r="0" b="0"/>
                <a:stretch/>
              </p:blipFill>
              <p:spPr>
                <a:xfrm>
                  <a:off x="171720" y="1331640"/>
                  <a:ext cx="8971200" cy="555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Rectangle 14"/>
                <p:cNvSpPr/>
                <p:nvPr/>
              </p:nvSpPr>
              <p:spPr>
                <a:xfrm>
                  <a:off x="227520" y="1023840"/>
                  <a:ext cx="4319640" cy="691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5"/>
                <p:cNvSpPr/>
                <p:nvPr/>
              </p:nvSpPr>
              <p:spPr>
                <a:xfrm>
                  <a:off x="227520" y="1408320"/>
                  <a:ext cx="2546640" cy="1152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6"/>
                <p:cNvSpPr/>
                <p:nvPr/>
              </p:nvSpPr>
              <p:spPr>
                <a:xfrm>
                  <a:off x="2442600" y="1484280"/>
                  <a:ext cx="1328400" cy="768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7"/>
                <p:cNvSpPr/>
                <p:nvPr/>
              </p:nvSpPr>
              <p:spPr>
                <a:xfrm>
                  <a:off x="2664360" y="2023560"/>
                  <a:ext cx="331920" cy="306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8"/>
                <p:cNvSpPr/>
                <p:nvPr/>
              </p:nvSpPr>
              <p:spPr>
                <a:xfrm>
                  <a:off x="3551040" y="1408320"/>
                  <a:ext cx="441720" cy="537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Oval 20"/>
              <p:cNvSpPr/>
              <p:nvPr/>
            </p:nvSpPr>
            <p:spPr>
              <a:xfrm>
                <a:off x="2885760" y="2130480"/>
                <a:ext cx="226080" cy="19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1"/>
              <p:cNvSpPr/>
              <p:nvPr/>
            </p:nvSpPr>
            <p:spPr>
              <a:xfrm>
                <a:off x="3564000" y="1805760"/>
                <a:ext cx="300600" cy="25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2"/>
              <p:cNvSpPr/>
              <p:nvPr/>
            </p:nvSpPr>
            <p:spPr>
              <a:xfrm>
                <a:off x="3941280" y="1610640"/>
                <a:ext cx="150840" cy="19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1" name="Picture 26" descr="reflejo bellisina ppa-002"/>
            <p:cNvPicPr/>
            <p:nvPr/>
          </p:nvPicPr>
          <p:blipFill>
            <a:blip r:embed="rId2"/>
            <a:srcRect l="0" t="42290" r="71438" b="0"/>
            <a:stretch/>
          </p:blipFill>
          <p:spPr>
            <a:xfrm>
              <a:off x="0" y="2648160"/>
              <a:ext cx="2563920" cy="42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3"/>
          <p:cNvGrpSpPr/>
          <p:nvPr/>
        </p:nvGrpSpPr>
        <p:grpSpPr>
          <a:xfrm>
            <a:off x="360360" y="187200"/>
            <a:ext cx="2195280" cy="2305080"/>
            <a:chOff x="360360" y="187200"/>
            <a:chExt cx="2195280" cy="2305080"/>
          </a:xfrm>
        </p:grpSpPr>
        <p:pic>
          <p:nvPicPr>
            <p:cNvPr id="113" name="Picture 4" descr="reflejo bellisina ppa-002"/>
            <p:cNvPicPr/>
            <p:nvPr/>
          </p:nvPicPr>
          <p:blipFill>
            <a:blip r:embed="rId3"/>
            <a:srcRect l="0" t="0" r="51144" b="60525"/>
            <a:stretch/>
          </p:blipFill>
          <p:spPr>
            <a:xfrm>
              <a:off x="360360" y="187200"/>
              <a:ext cx="2131920" cy="20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8"/>
            <p:cNvSpPr/>
            <p:nvPr/>
          </p:nvSpPr>
          <p:spPr>
            <a:xfrm>
              <a:off x="423720" y="260280"/>
              <a:ext cx="1943640" cy="1809000"/>
            </a:xfrm>
            <a:prstGeom prst="ellipse">
              <a:avLst/>
            </a:prstGeom>
            <a:noFill/>
            <a:ln w="212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1677960" y="2069640"/>
              <a:ext cx="815400" cy="42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2117520" y="1646640"/>
              <a:ext cx="438120" cy="603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rbol en la noche-00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re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2268360" y="4437000"/>
            <a:ext cx="46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Old English Text MT"/>
              </a:rPr>
              <a:t>Esta noche està para Bolero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51280" y="6381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4657-0FAF-440E-8764-29AA479D3DC7}" type="datetime">
              <a:rPr b="1" lang="es-CL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CEF08B18-A8DE-4122-9F8D-4B63C272B6BB}" type="datetime10">
              <a:rPr b="1" lang="es-CL" sz="1400" spc="-1" strike="noStrike">
                <a:solidFill>
                  <a:srgbClr val="ffffff"/>
                </a:solidFill>
                <a:latin typeface="Arial"/>
              </a:rPr>
              <a:t>07:33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avimento mojado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 copas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ps lluvia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esa en el mar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PIANO SAN SEBAST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nos enlazad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38:42Z</dcterms:created>
  <dc:creator>Laly Bustamante</dc:creator>
  <dc:description>® De MaryNieves-11/06/2008.-OK.</dc:description>
  <dc:language>en-US</dc:language>
  <cp:lastModifiedBy>Juan Vidal Lorca</cp:lastModifiedBy>
  <dcterms:modified xsi:type="dcterms:W3CDTF">2008-06-11T21:31:39Z</dcterms:modified>
  <cp:revision>11</cp:revision>
  <dc:subject/>
  <dc:title>Esta Noche esta para Boleros</dc:title>
</cp:coreProperties>
</file>