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Fausto%20Papeti_El%20padrino_RW.wav" ContentType="audio/x-wav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3F1-C030-4C3B-8D15-3B6CEDAA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931-0948-45CB-9FD0-98A66BF3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894-8936-44DA-BCC4-67646A2E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3E6-69A6-445B-88FE-A0839815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F7D-0487-4EEF-82D6-6EAE223A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3FE-060E-4FD2-9E2D-FE3C8630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126-2CE4-46E1-815F-7CB481A2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69E-0BCA-4F95-9703-7FD35EB2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0D2-1EE4-4BD7-AC07-C60E7E8C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E77-2B0A-47A8-BE35-3213655E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D59-2C0B-4B39-857B-441140C8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573-6B81-4365-9535-194248DE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3419-7FED-470C-84F5-05926E3AB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Fausto%20Papeti_El%20padrino_RW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828800"/>
            <a:ext cx="86104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Z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se encontró con tres bellas damas en una discot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a pelirroja, una rubia y una more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ntándose junto a ella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rigiéndose a la pelirro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e pregunt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ó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zapaterocaezaentrans" descr=""/>
          <p:cNvPicPr/>
          <p:nvPr/>
        </p:nvPicPr>
        <p:blipFill>
          <a:blip r:embed="rId1"/>
          <a:stretch/>
        </p:blipFill>
        <p:spPr>
          <a:xfrm>
            <a:off x="4114800" y="4419720"/>
            <a:ext cx="129384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foco%20esferacristal02" descr=""/>
          <p:cNvPicPr/>
          <p:nvPr/>
        </p:nvPicPr>
        <p:blipFill>
          <a:blip r:embed="rId2"/>
          <a:stretch/>
        </p:blipFill>
        <p:spPr>
          <a:xfrm>
            <a:off x="36576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1447920"/>
            <a:ext cx="6553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Cuánt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brarí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or pa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a noche conmigo?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apaterocaezaentrans" descr=""/>
          <p:cNvPicPr/>
          <p:nvPr/>
        </p:nvPicPr>
        <p:blipFill>
          <a:blip r:embed="rId1"/>
          <a:stretch/>
        </p:blipFill>
        <p:spPr>
          <a:xfrm>
            <a:off x="3581280" y="3352680"/>
            <a:ext cx="1839960" cy="2925720"/>
          </a:xfrm>
          <a:prstGeom prst="rect">
            <a:avLst/>
          </a:prstGeom>
          <a:ln w="0">
            <a:noFill/>
          </a:ln>
        </p:spPr>
      </p:pic>
      <p:pic>
        <p:nvPicPr>
          <p:cNvPr id="46" name="foco%20esferacristal02" descr=""/>
          <p:cNvPicPr/>
          <p:nvPr/>
        </p:nvPicPr>
        <p:blipFill>
          <a:blip r:embed="rId2"/>
          <a:stretch/>
        </p:blipFill>
        <p:spPr>
          <a:xfrm>
            <a:off x="36576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905120"/>
            <a:ext cx="47246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  <a:ea typeface="Tahoma"/>
              </a:rPr>
              <a:t>A lo que la pelirroja le responde: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9933ff"/>
                </a:solidFill>
                <a:latin typeface="Comic Sans MS"/>
                <a:ea typeface="Times New Roman"/>
              </a:rPr>
              <a:t>A Ud., señor Presiden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ff"/>
                </a:solidFill>
                <a:latin typeface="Comic Sans MS"/>
                <a:ea typeface="Times New Roman"/>
              </a:rPr>
              <a:t>le cuesta 2.000 €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elirroja" descr=""/>
          <p:cNvPicPr/>
          <p:nvPr/>
        </p:nvPicPr>
        <p:blipFill>
          <a:blip r:embed="rId1"/>
          <a:stretch/>
        </p:blipFill>
        <p:spPr>
          <a:xfrm>
            <a:off x="6629400" y="762120"/>
            <a:ext cx="1649520" cy="5472000"/>
          </a:xfrm>
          <a:prstGeom prst="rect">
            <a:avLst/>
          </a:prstGeom>
          <a:ln w="0">
            <a:noFill/>
          </a:ln>
        </p:spPr>
      </p:pic>
      <p:pic>
        <p:nvPicPr>
          <p:cNvPr id="49" name="foco%20esferacristal02" descr=""/>
          <p:cNvPicPr/>
          <p:nvPr/>
        </p:nvPicPr>
        <p:blipFill>
          <a:blip r:embed="rId2"/>
          <a:stretch/>
        </p:blipFill>
        <p:spPr>
          <a:xfrm>
            <a:off x="36576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133720"/>
            <a:ext cx="464832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  <a:ea typeface="Tahoma"/>
              </a:rPr>
              <a:t>Luego le hizo la misma pregunt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  <a:ea typeface="Tahoma"/>
              </a:rPr>
              <a:t>la rubia y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  <a:ea typeface="Tahoma"/>
              </a:rPr>
              <a:t>é</a:t>
            </a:r>
            <a:r>
              <a:rPr b="1" lang="es-ES_tradnl" sz="1800" spc="-1" strike="noStrike">
                <a:solidFill>
                  <a:srgbClr val="ffffff"/>
                </a:solidFill>
                <a:latin typeface="Comic Sans MS"/>
                <a:ea typeface="Tahoma"/>
              </a:rPr>
              <a:t>sta le respondió: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 Ud., señor Preside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e cuesta 1.000 €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ubia" descr=""/>
          <p:cNvPicPr/>
          <p:nvPr/>
        </p:nvPicPr>
        <p:blipFill>
          <a:blip r:embed="rId1"/>
          <a:stretch/>
        </p:blipFill>
        <p:spPr>
          <a:xfrm>
            <a:off x="6095880" y="762120"/>
            <a:ext cx="2141640" cy="5611680"/>
          </a:xfrm>
          <a:prstGeom prst="rect">
            <a:avLst/>
          </a:prstGeom>
          <a:ln w="0">
            <a:noFill/>
          </a:ln>
        </p:spPr>
      </p:pic>
      <p:pic>
        <p:nvPicPr>
          <p:cNvPr id="52" name="foco%20esferacristal02" descr=""/>
          <p:cNvPicPr/>
          <p:nvPr/>
        </p:nvPicPr>
        <p:blipFill>
          <a:blip r:embed="rId2"/>
          <a:stretch/>
        </p:blipFill>
        <p:spPr>
          <a:xfrm>
            <a:off x="36576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133720"/>
            <a:ext cx="7010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ahoma"/>
              </a:rPr>
              <a:t>Al mirar a la morena y hacerl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ahoma"/>
              </a:rPr>
              <a:t>misma pregunta, ést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Tahoma"/>
              </a:rPr>
              <a:t>fue su respu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orena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612800" cy="5611680"/>
          </a:xfrm>
          <a:prstGeom prst="rect">
            <a:avLst/>
          </a:prstGeom>
          <a:ln w="0">
            <a:noFill/>
          </a:ln>
        </p:spPr>
      </p:pic>
      <p:pic>
        <p:nvPicPr>
          <p:cNvPr id="55" name="foco%20esferacristal02" descr=""/>
          <p:cNvPicPr/>
          <p:nvPr/>
        </p:nvPicPr>
        <p:blipFill>
          <a:blip r:embed="rId2"/>
          <a:stretch/>
        </p:blipFill>
        <p:spPr>
          <a:xfrm>
            <a:off x="3657600" y="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685800"/>
            <a:ext cx="853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eñor Presidente, si usted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ue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evantarme la falda tan alto,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stán los impuestos, bajarm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bragas tan baj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como están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ueldos, sacarse esa cosa suy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que se le ponga tan dur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como está l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ida, mantenerla tan alta como están los precios y joderme de esa forma tan dulce y delicad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como está jodiendo al pueblo español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usted, señor Presid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525780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00"/>
                </a:solidFill>
                <a:latin typeface="Comic Sans MS"/>
                <a:ea typeface="Arial"/>
              </a:rPr>
              <a:t>NO LE CUESTA NADA</a:t>
            </a:r>
            <a:r>
              <a:rPr b="1" lang="es-ES_tradnl" sz="3200" spc="-1" strike="noStrike">
                <a:solidFill>
                  <a:srgbClr val="ff9900"/>
                </a:solidFill>
                <a:latin typeface="Arial"/>
                <a:ea typeface="Arial"/>
              </a:rPr>
              <a:t>.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2:39:50Z</dcterms:created>
  <dc:creator/>
  <dc:description/>
  <dc:language>en-US</dc:language>
  <cp:lastModifiedBy>AURORA</cp:lastModifiedBy>
  <dcterms:modified xsi:type="dcterms:W3CDTF">2008-09-23T10:52:38Z</dcterms:modified>
  <cp:revision>18</cp:revision>
  <dc:subject/>
  <dc:title>ZP en la Discoteca</dc:title>
</cp:coreProperties>
</file>