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Fausto%20Papeti_El%20padrino_RW.wav" ContentType="audio/x-wav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FC5-AAE1-4DFB-979F-831DB286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AC9-9D98-426E-BB65-9F7C4704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F5A-C8C6-42BB-9002-675D8A31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C33-33AC-4593-931F-6691FC38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208-C163-43A4-8ABF-FBCB29A5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6D4-993F-4AC1-9B94-FD268E03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3E5-7D21-457D-B75F-70C64313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F4A-CA57-41FD-9F5A-2042FFBA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B14-2E67-4E41-A50C-87F2228F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68C-93C8-483E-A1D6-76A169BC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AC7-AE6A-4C34-9EDD-BF856376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FC2-39ED-48D5-AA5C-D69E5DF4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7D50-3414-4C46-9F64-AA62C4D0B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Fausto%20Papeti_El%20padrino_RW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828800"/>
            <a:ext cx="86104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se encontró con tres bellas damas en una discot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a pelirroja, una rubia y una more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ntándose junto a ella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rigiéndose a la pelirro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e pregunt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zapaterocaezaentrans" descr=""/>
          <p:cNvPicPr/>
          <p:nvPr/>
        </p:nvPicPr>
        <p:blipFill>
          <a:blip r:embed="rId1"/>
          <a:stretch/>
        </p:blipFill>
        <p:spPr>
          <a:xfrm>
            <a:off x="4114800" y="4419720"/>
            <a:ext cx="129384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foco%20esferacristal02" descr=""/>
          <p:cNvPicPr/>
          <p:nvPr/>
        </p:nvPicPr>
        <p:blipFill>
          <a:blip r:embed="rId2"/>
          <a:stretch/>
        </p:blipFill>
        <p:spPr>
          <a:xfrm>
            <a:off x="36576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1447920"/>
            <a:ext cx="6553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Cuánto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brarí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por pa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a noche conmigo?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zapaterocaezaentrans" descr=""/>
          <p:cNvPicPr/>
          <p:nvPr/>
        </p:nvPicPr>
        <p:blipFill>
          <a:blip r:embed="rId1"/>
          <a:stretch/>
        </p:blipFill>
        <p:spPr>
          <a:xfrm>
            <a:off x="3581280" y="3352680"/>
            <a:ext cx="1839960" cy="2925720"/>
          </a:xfrm>
          <a:prstGeom prst="rect">
            <a:avLst/>
          </a:prstGeom>
          <a:ln w="0">
            <a:noFill/>
          </a:ln>
        </p:spPr>
      </p:pic>
      <p:pic>
        <p:nvPicPr>
          <p:cNvPr id="46" name="foco%20esferacristal02" descr=""/>
          <p:cNvPicPr/>
          <p:nvPr/>
        </p:nvPicPr>
        <p:blipFill>
          <a:blip r:embed="rId2"/>
          <a:stretch/>
        </p:blipFill>
        <p:spPr>
          <a:xfrm>
            <a:off x="36576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905120"/>
            <a:ext cx="47246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A lo que la pelirroja le responde: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9933ff"/>
                </a:solidFill>
                <a:latin typeface="Comic Sans MS"/>
                <a:ea typeface="Times New Roman"/>
              </a:rPr>
              <a:t>A Ud., señor Presiden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ff"/>
                </a:solidFill>
                <a:latin typeface="Comic Sans MS"/>
                <a:ea typeface="Times New Roman"/>
              </a:rPr>
              <a:t>le cuesta 2.000 €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elirroja" descr=""/>
          <p:cNvPicPr/>
          <p:nvPr/>
        </p:nvPicPr>
        <p:blipFill>
          <a:blip r:embed="rId1"/>
          <a:stretch/>
        </p:blipFill>
        <p:spPr>
          <a:xfrm>
            <a:off x="6629400" y="762120"/>
            <a:ext cx="1649520" cy="5472000"/>
          </a:xfrm>
          <a:prstGeom prst="rect">
            <a:avLst/>
          </a:prstGeom>
          <a:ln w="0">
            <a:noFill/>
          </a:ln>
        </p:spPr>
      </p:pic>
      <p:pic>
        <p:nvPicPr>
          <p:cNvPr id="49" name="foco%20esferacristal02" descr=""/>
          <p:cNvPicPr/>
          <p:nvPr/>
        </p:nvPicPr>
        <p:blipFill>
          <a:blip r:embed="rId2"/>
          <a:stretch/>
        </p:blipFill>
        <p:spPr>
          <a:xfrm>
            <a:off x="36576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133720"/>
            <a:ext cx="464832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  <a:ea typeface="Tahoma"/>
              </a:rPr>
              <a:t>Luego le hizo la misma pregunt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  <a:ea typeface="Tahoma"/>
              </a:rPr>
              <a:t>la rubia y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ahoma"/>
              </a:rPr>
              <a:t>é</a:t>
            </a:r>
            <a:r>
              <a:rPr b="1" lang="es-ES_tradnl" sz="1800" spc="-1" strike="noStrike">
                <a:solidFill>
                  <a:srgbClr val="ffffff"/>
                </a:solidFill>
                <a:latin typeface="Comic Sans MS"/>
                <a:ea typeface="Tahoma"/>
              </a:rPr>
              <a:t>sta le respondió: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 Ud., señor Preside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e cuesta 1.000 €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ubia" descr=""/>
          <p:cNvPicPr/>
          <p:nvPr/>
        </p:nvPicPr>
        <p:blipFill>
          <a:blip r:embed="rId1"/>
          <a:stretch/>
        </p:blipFill>
        <p:spPr>
          <a:xfrm>
            <a:off x="6095880" y="762120"/>
            <a:ext cx="2141640" cy="5611680"/>
          </a:xfrm>
          <a:prstGeom prst="rect">
            <a:avLst/>
          </a:prstGeom>
          <a:ln w="0">
            <a:noFill/>
          </a:ln>
        </p:spPr>
      </p:pic>
      <p:pic>
        <p:nvPicPr>
          <p:cNvPr id="52" name="foco%20esferacristal02" descr=""/>
          <p:cNvPicPr/>
          <p:nvPr/>
        </p:nvPicPr>
        <p:blipFill>
          <a:blip r:embed="rId2"/>
          <a:stretch/>
        </p:blipFill>
        <p:spPr>
          <a:xfrm>
            <a:off x="36576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133720"/>
            <a:ext cx="7010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ahoma"/>
              </a:rPr>
              <a:t>Al mirar a la morena y hacerl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ahoma"/>
              </a:rPr>
              <a:t>misma pregunta, ést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ahoma"/>
              </a:rPr>
              <a:t>fue su respue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orena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1612800" cy="5611680"/>
          </a:xfrm>
          <a:prstGeom prst="rect">
            <a:avLst/>
          </a:prstGeom>
          <a:ln w="0">
            <a:noFill/>
          </a:ln>
        </p:spPr>
      </p:pic>
      <p:pic>
        <p:nvPicPr>
          <p:cNvPr id="55" name="foco%20esferacristal02" descr=""/>
          <p:cNvPicPr/>
          <p:nvPr/>
        </p:nvPicPr>
        <p:blipFill>
          <a:blip r:embed="rId2"/>
          <a:stretch/>
        </p:blipFill>
        <p:spPr>
          <a:xfrm>
            <a:off x="36576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685800"/>
            <a:ext cx="853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eñor Presidente, si usted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ue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evantarme la falda tan alto,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stán los impuestos, bajarm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bragas tan bajo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como están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ueldos, sacarse esa cosa suy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que se le ponga tan dur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como está l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ida, mantenerla tan alta como están los precios y joderme de esa forma tan dulce y delicad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como está jodiendo al pueblo español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usted, señor Presid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525780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00"/>
                </a:solidFill>
                <a:latin typeface="Comic Sans MS"/>
                <a:ea typeface="Arial"/>
              </a:rPr>
              <a:t>NO LE CUESTA NADA</a:t>
            </a:r>
            <a:r>
              <a:rPr b="1" lang="es-ES_tradnl" sz="3200" spc="-1" strike="noStrike">
                <a:solidFill>
                  <a:srgbClr val="ff9900"/>
                </a:solidFill>
                <a:latin typeface="Arial"/>
                <a:ea typeface="Arial"/>
              </a:rPr>
              <a:t>.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2:39:50Z</dcterms:created>
  <dc:creator/>
  <dc:description/>
  <dc:language>en-US</dc:language>
  <cp:lastModifiedBy>AURORA</cp:lastModifiedBy>
  <dcterms:modified xsi:type="dcterms:W3CDTF">2008-09-23T10:52:38Z</dcterms:modified>
  <cp:revision>18</cp:revision>
  <dc:subject/>
  <dc:title>ZP en la Discoteca</dc:title>
</cp:coreProperties>
</file>