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Caf%C3%A8%20Del%20Mar%20-%20Aria%203%20-%20Metamorphosis%20-%2002%20-%20Paul%20Schwartz%20-%20Furioso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5956-C3AA-43CA-AEF6-ED8D2163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14BD-C786-4A4D-B807-6A46BE6E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BF9-C0C0-462A-991F-D71B098B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9032-71F7-4264-9337-303B6723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02E-75EA-4E5E-93A3-53F37196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A4A-2DA6-480C-85F4-6D5B39B5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4D3-F523-48AB-A3AA-E847C72B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432E-C4CE-492D-AF48-25A4ED96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2CA-B754-4E64-8F5E-43F24656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1666-270E-4883-875C-7D207D78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8CBB-A869-4E4A-A189-576F9412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4B3F-738D-40D9-B4C0-3C098FEE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437A-CE7D-4728-B834-970CD5959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f&#232;%20Del%20Mar%20-%20Aria%203%20-%20Metamorphosis%20-%2002%20-%20Paul%20Schwartz%20-%20Furios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1287360" y="1711440"/>
            <a:ext cx="6408720" cy="28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7ff97"/>
                  </a:outerShdw>
                </a:effectLst>
                <a:latin typeface="Arial"/>
              </a:rPr>
              <a:t>Belleza salvaje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153753" dir="2700000" blurRad="0" rotWithShape="0">
                  <a:srgbClr val="97ff97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7ff97"/>
                  </a:outerShdw>
                </a:effectLst>
                <a:latin typeface="Arial"/>
              </a:rPr>
              <a:t>Kevin Richardson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153753" dir="2700000" blurRad="0" rotWithShape="0">
                  <a:srgbClr val="97ff97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7ff97"/>
                  </a:outerShdw>
                </a:effectLst>
                <a:latin typeface="Arial"/>
              </a:rPr>
              <a:t>El amigo de los leones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153753" dir="2700000" blurRad="0" rotWithShape="0">
                  <a:srgbClr val="97ff97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1 Imagen" descr="130Fondo.JPG"/>
          <p:cNvPicPr/>
          <p:nvPr/>
        </p:nvPicPr>
        <p:blipFill>
          <a:blip r:embed="rId1"/>
          <a:stretch/>
        </p:blipFill>
        <p:spPr>
          <a:xfrm>
            <a:off x="-228600" y="-399960"/>
            <a:ext cx="9372600" cy="72579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Caf%C3%A8%20Del%20Mar%20-%20Aria%203%20-%20Metamorphosis%20-%2002%20-%20Paul%20Schwartz%20-%20Furios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Imagen" descr="fun_animals_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74379350.jpg"/>
          <p:cNvPicPr/>
          <p:nvPr/>
        </p:nvPicPr>
        <p:blipFill>
          <a:blip r:embed="rId1"/>
          <a:stretch/>
        </p:blipFill>
        <p:spPr>
          <a:xfrm>
            <a:off x="-457200" y="0"/>
            <a:ext cx="10395000" cy="6950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13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lionwhisperer16"/>
          <p:cNvPicPr/>
          <p:nvPr/>
        </p:nvPicPr>
        <p:blipFill>
          <a:blip r:embed="rId1"/>
          <a:stretch/>
        </p:blipFill>
        <p:spPr>
          <a:xfrm>
            <a:off x="2819520" y="304920"/>
            <a:ext cx="3333600" cy="3276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68436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457360" y="3809880"/>
            <a:ext cx="40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Kevin Richard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4572000"/>
            <a:ext cx="6400800" cy="201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Kevin Richardson ha logrado establecer un increíble vínculo de confianza con los grandes felinos; sean chitas, leopardos o los temidos leones que recibieron su título de reyes de la selva. Para este hombre de 32 años, no existe riesgo alguno en pasar una noche durmiendo entre ello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ionwhisperer13"/>
          <p:cNvPicPr/>
          <p:nvPr/>
        </p:nvPicPr>
        <p:blipFill>
          <a:blip r:embed="rId1"/>
          <a:stretch/>
        </p:blipFill>
        <p:spPr>
          <a:xfrm>
            <a:off x="2514600" y="0"/>
            <a:ext cx="4594320" cy="4648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05120" y="4843440"/>
            <a:ext cx="6248160" cy="201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ichardson reside en una reserva de vida salvaje cerca de Johannesburgo en Sudáfrica y goza de un don instintivo que le permite relacionarse con estos animales salvajes sin peligro. Los leones son sus favoritos, y se dedica plenamente a ellos con amor y respeto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lionwhisperer15"/>
          <p:cNvPicPr/>
          <p:nvPr/>
        </p:nvPicPr>
        <p:blipFill>
          <a:blip r:embed="rId1"/>
          <a:stretch/>
        </p:blipFill>
        <p:spPr>
          <a:xfrm>
            <a:off x="0" y="0"/>
            <a:ext cx="4778280" cy="487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lionwhisperer14"/>
          <p:cNvPicPr/>
          <p:nvPr/>
        </p:nvPicPr>
        <p:blipFill>
          <a:blip r:embed="rId2"/>
          <a:stretch/>
        </p:blipFill>
        <p:spPr>
          <a:xfrm>
            <a:off x="4286160" y="0"/>
            <a:ext cx="4857840" cy="4876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47920" y="4843440"/>
            <a:ext cx="7162560" cy="201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vin no hace magia, ni utiliza trucos extraños, aunque sin dudas tiene un don especial para darse con animales, simplemente sabe dónde comenzar y dónde detenerse. “Tengo que apoyarme en mis propios instintos para tratar a un animal o una situación, y no me acercaré a una criatura si algo no se siente bien” comenta Kevin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124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94360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5941800"/>
            <a:ext cx="800100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 leona no es muy amiga del agua, pero si su amigo se lo pide no duda en acompañarlo. El abrazo del final no tiene precio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fun_animals_25.jpg"/>
          <p:cNvPicPr/>
          <p:nvPr/>
        </p:nvPicPr>
        <p:blipFill>
          <a:blip r:embed="rId1"/>
          <a:stretch/>
        </p:blipFill>
        <p:spPr>
          <a:xfrm>
            <a:off x="-228600" y="0"/>
            <a:ext cx="9685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19080" y="366840"/>
            <a:ext cx="9182160" cy="6124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8160" y="457200"/>
            <a:ext cx="9182160" cy="6124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100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lionwhisperer12"/>
          <p:cNvPicPr/>
          <p:nvPr/>
        </p:nvPicPr>
        <p:blipFill>
          <a:blip r:embed="rId1"/>
          <a:stretch/>
        </p:blipFill>
        <p:spPr>
          <a:xfrm>
            <a:off x="4470480" y="0"/>
            <a:ext cx="4673520" cy="4724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lionwhisperer11"/>
          <p:cNvPicPr/>
          <p:nvPr/>
        </p:nvPicPr>
        <p:blipFill>
          <a:blip r:embed="rId2"/>
          <a:stretch/>
        </p:blipFill>
        <p:spPr>
          <a:xfrm>
            <a:off x="0" y="0"/>
            <a:ext cx="4626000" cy="4724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3880" y="4979880"/>
            <a:ext cx="6400800" cy="1739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león, también conocido como el rey de la selva, puede inspirar una imagen agresiva. Kevin Richardson los abraza como si se tratase de unos simples gatitos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 asombroso es que estos felinos no le hacen nada a Kev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lionwhisperer01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lionwhisperer02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lionwhisperer03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lionwhisperer04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904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ionwhisperer05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lionwhisperer06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fun_animals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lionwhisperer07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lionwhisperer08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lionwhisperer09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lionwhisperer10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lionwhisperer17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lionwhisperer18"/>
          <p:cNvPicPr/>
          <p:nvPr/>
        </p:nvPicPr>
        <p:blipFill>
          <a:blip r:embed="rId1"/>
          <a:stretch/>
        </p:blipFill>
        <p:spPr>
          <a:xfrm>
            <a:off x="457200" y="0"/>
            <a:ext cx="8207280" cy="583236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3352680" y="6048360"/>
            <a:ext cx="2419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7ff97"/>
                  </a:outerShdw>
                </a:effectLst>
                <a:latin typeface="Arial"/>
              </a:rPr>
              <a:t>Kevin Richardson</a:t>
            </a:r>
            <a:endParaRPr b="0" i="1" lang="en-US" sz="24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153753" dir="2700000" blurRad="0" rotWithShape="0">
                  <a:srgbClr val="97ff97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7ff97"/>
                  </a:outerShdw>
                </a:effectLst>
                <a:latin typeface="Arial"/>
              </a:rPr>
              <a:t>Fin</a:t>
            </a:r>
            <a:endParaRPr b="0" i="1" lang="en-US" sz="24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153753" dir="2700000" blurRad="0" rotWithShape="0">
                  <a:srgbClr val="97ff97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l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fun_animals_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fun_animals_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072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fun_animals_30.jpg"/>
          <p:cNvPicPr/>
          <p:nvPr/>
        </p:nvPicPr>
        <p:blipFill>
          <a:blip r:embed="rId1"/>
          <a:stretch/>
        </p:blipFill>
        <p:spPr>
          <a:xfrm>
            <a:off x="-380880" y="0"/>
            <a:ext cx="10029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6:42:05Z</dcterms:created>
  <dc:creator>ARTURO</dc:creator>
  <dc:description/>
  <dc:language>en-US</dc:language>
  <cp:lastModifiedBy>Laly</cp:lastModifiedBy>
  <dcterms:modified xsi:type="dcterms:W3CDTF">2009-11-15T22:54:48Z</dcterms:modified>
  <cp:revision>24</cp:revision>
  <dc:subject/>
  <dc:title>Diapositiva 1</dc:title>
</cp:coreProperties>
</file>