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af%C3%A8%20Del%20Mar%20-%20Aria%203%20-%20Metamorphosis%20-%2002%20-%20Paul%20Schwartz%20-%20Furioso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BEF-4066-46CA-B728-A08716D7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33B-38E3-4508-BA8A-382C68A3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FD0-F3F1-4A0B-9F9F-4338B76F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DF5-8793-47A7-8102-94EF9C33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C3A-1755-471D-BDD4-024E118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752-AF7A-4524-8919-585E196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A20-48EF-46D9-9883-73BF88ED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BFF-C64B-4D90-B552-65E3E496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2EF-E5C7-409C-8F96-1044CB27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1A9-0865-4E52-9ACF-15E9C9D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9E5-5C63-41BC-9C00-33F8AE8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58D-72BC-4AF7-8D55-BE83FB2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D62-B05C-4FEA-85F7-AA3E67302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f&#232;%20Del%20Mar%20-%20Aria%203%20-%20Metamorphosis%20-%2002%20-%20Paul%20Schwartz%20-%20Furio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287360" y="1711440"/>
            <a:ext cx="6408720" cy="28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Belleza salvaje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Kevin Richards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El amigo de los leone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1 Imagen" descr="130Fondo.JPG"/>
          <p:cNvPicPr/>
          <p:nvPr/>
        </p:nvPicPr>
        <p:blipFill>
          <a:blip r:embed="rId1"/>
          <a:stretch/>
        </p:blipFill>
        <p:spPr>
          <a:xfrm>
            <a:off x="-228600" y="-399960"/>
            <a:ext cx="9372600" cy="725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af%C3%A8%20Del%20Mar%20-%20Aria%203%20-%20Metamorphosis%20-%2002%20-%20Paul%20Schwartz%20-%20Furio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13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ionwhisperer16"/>
          <p:cNvPicPr/>
          <p:nvPr/>
        </p:nvPicPr>
        <p:blipFill>
          <a:blip r:embed="rId1"/>
          <a:stretch/>
        </p:blipFill>
        <p:spPr>
          <a:xfrm>
            <a:off x="2819520" y="304920"/>
            <a:ext cx="333360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457360" y="380988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Kevin 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572000"/>
            <a:ext cx="640080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Kevin Richardson ha logrado establecer un increíble vínculo de confianza con los grandes felinos; sean chitas, leopardos o los temidos leones que recibieron su título de reyes de la selva. Para este hombre de 32 años, no existe riesgo alguno en pasar una noche durmiendo entre ello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ionwhisperer13"/>
          <p:cNvPicPr/>
          <p:nvPr/>
        </p:nvPicPr>
        <p:blipFill>
          <a:blip r:embed="rId1"/>
          <a:stretch/>
        </p:blipFill>
        <p:spPr>
          <a:xfrm>
            <a:off x="2514600" y="0"/>
            <a:ext cx="459432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4843440"/>
            <a:ext cx="624816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ichardson reside en una reserva de vida salvaje cerca de Johannesburgo en Sudáfrica y goza de un don instintivo que le permite relacionarse con estos animales salvajes sin peligro. Los leones son sus favoritos, y se dedica plenamente a ellos con amor y respet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ionwhisperer15"/>
          <p:cNvPicPr/>
          <p:nvPr/>
        </p:nvPicPr>
        <p:blipFill>
          <a:blip r:embed="rId1"/>
          <a:stretch/>
        </p:blipFill>
        <p:spPr>
          <a:xfrm>
            <a:off x="0" y="0"/>
            <a:ext cx="4778280" cy="487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lionwhisperer14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843440"/>
            <a:ext cx="716256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vin no hace magia, ni utiliza trucos extraños, aunque sin dudas tiene un don especial para darse con animales, simplemente sabe dónde comenzar y dónde detenerse. “Tengo que apoyarme en mis propios instintos para tratar a un animal o una situación, y no me acercaré a una criatura si algo no se siente bien” comenta Kevi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12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4360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941800"/>
            <a:ext cx="800100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leona no es muy amiga del agua, pero si su amigo se lo pide no duda en acompañarlo. El abrazo del final no tiene precio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9080" y="366840"/>
            <a:ext cx="9182160" cy="612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8160" y="457200"/>
            <a:ext cx="9182160" cy="612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onwhisperer12"/>
          <p:cNvPicPr/>
          <p:nvPr/>
        </p:nvPicPr>
        <p:blipFill>
          <a:blip r:embed="rId1"/>
          <a:stretch/>
        </p:blipFill>
        <p:spPr>
          <a:xfrm>
            <a:off x="4470480" y="0"/>
            <a:ext cx="4673520" cy="472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ionwhisperer11"/>
          <p:cNvPicPr/>
          <p:nvPr/>
        </p:nvPicPr>
        <p:blipFill>
          <a:blip r:embed="rId2"/>
          <a:stretch/>
        </p:blipFill>
        <p:spPr>
          <a:xfrm>
            <a:off x="0" y="0"/>
            <a:ext cx="4626000" cy="472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4979880"/>
            <a:ext cx="640080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león, también conocido como el rey de la selva, puede inspirar una imagen agresiva. Kevin Richardson los abraza como si se tratase de unos simples gatito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 asombroso es que estos felinos no le hacen nada a Kev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lionwhisperer0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lionwhisperer0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ionwhisperer03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ionwhisperer04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ionwhisperer0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ionwhisperer06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ionwhisperer0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ionwhisperer0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ionwhisperer09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ionwhisperer10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onwhisperer1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ionwhisperer18"/>
          <p:cNvPicPr/>
          <p:nvPr/>
        </p:nvPicPr>
        <p:blipFill>
          <a:blip r:embed="rId1"/>
          <a:stretch/>
        </p:blipFill>
        <p:spPr>
          <a:xfrm>
            <a:off x="457200" y="0"/>
            <a:ext cx="8207280" cy="5832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3352680" y="6048360"/>
            <a:ext cx="2419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Kevin Richardson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Fin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Laly</cp:lastModifiedBy>
  <dcterms:modified xsi:type="dcterms:W3CDTF">2009-11-15T22:54:48Z</dcterms:modified>
  <cp:revision>24</cp:revision>
  <dc:subject/>
  <dc:title>Diapositiva 1</dc:title>
</cp:coreProperties>
</file>