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DEF-82C5-4995-A491-FF720F168B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BF7-8B8C-40D8-8D41-8C363CF1F2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46A-BFAD-456F-954B-64F51369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5C3-FEA9-4D14-A6AA-B0AAAC50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4B5-BFA7-4D9F-A110-64F04829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206-ECF8-4574-BCAA-4752923E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EC9-B770-4F13-8781-790C27B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7B6-AA74-4565-8BC6-921A2B9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E17-F6DC-45C9-9C3F-6ECF7161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0CC-F489-4AF6-B536-0D800B3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BDD-41B0-458F-ACF6-AA5B86E7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CD9-ADDC-4F58-952F-2AD4691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DF1-E0B7-4694-8EE6-7D71558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E6C-A817-4B38-90F6-79D199A6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AA3F-40E4-46C9-9472-C4A48AE27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4419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ee atinentemente  esta historia  Si llegas a la conclusión correcta y estoy seguro que va a ser  así, no dudes en hacer alg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4191120" y="6095880"/>
            <a:ext cx="738000" cy="35748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69" h="21600">
                <a:moveTo>
                  <a:pt x="0" y="0"/>
                </a:moveTo>
                <a:lnTo>
                  <a:pt x="44569" y="0"/>
                </a:lnTo>
                <a:lnTo>
                  <a:pt x="44569" y="21600"/>
                </a:lnTo>
                <a:lnTo>
                  <a:pt x="0" y="21600"/>
                </a:lnTo>
                <a:close/>
              </a:path>
              <a:path fill="lightenLess" w="44569" h="21600">
                <a:moveTo>
                  <a:pt x="0" y="0"/>
                </a:moveTo>
                <a:lnTo>
                  <a:pt x="44569" y="0"/>
                </a:lnTo>
                <a:lnTo>
                  <a:pt x="43169" y="1400"/>
                </a:lnTo>
                <a:lnTo>
                  <a:pt x="1400" y="1400"/>
                </a:lnTo>
                <a:close/>
              </a:path>
              <a:path fill="darken" w="44569" h="21600">
                <a:moveTo>
                  <a:pt x="44569" y="0"/>
                </a:moveTo>
                <a:lnTo>
                  <a:pt x="44569" y="21600"/>
                </a:lnTo>
                <a:lnTo>
                  <a:pt x="43169" y="20200"/>
                </a:lnTo>
                <a:lnTo>
                  <a:pt x="43169" y="1400"/>
                </a:lnTo>
                <a:close/>
              </a:path>
              <a:path fill="darkenLess" w="44569" h="21600">
                <a:moveTo>
                  <a:pt x="44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69" y="20200"/>
                </a:lnTo>
                <a:close/>
              </a:path>
              <a:path fill="lighten" w="44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69" h="21600">
                <a:moveTo>
                  <a:pt x="15278" y="3794"/>
                </a:moveTo>
                <a:lnTo>
                  <a:pt x="29291" y="10800"/>
                </a:lnTo>
                <a:lnTo>
                  <a:pt x="1527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304920" y="312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52280" y="3049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La vida nos ofrece grandes enseñanz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>
            <a:hlinkClick r:id="" action="ppaction://hlinkshowjump?jump=nextslide"/>
          </p:cNvPr>
          <p:cNvSpPr/>
          <p:nvPr/>
        </p:nvSpPr>
        <p:spPr>
          <a:xfrm>
            <a:off x="1219320" y="6095880"/>
            <a:ext cx="738000" cy="35748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69" h="21600">
                <a:moveTo>
                  <a:pt x="0" y="0"/>
                </a:moveTo>
                <a:lnTo>
                  <a:pt x="44569" y="0"/>
                </a:lnTo>
                <a:lnTo>
                  <a:pt x="44569" y="21600"/>
                </a:lnTo>
                <a:lnTo>
                  <a:pt x="0" y="21600"/>
                </a:lnTo>
                <a:close/>
              </a:path>
              <a:path fill="lightenLess" w="44569" h="21600">
                <a:moveTo>
                  <a:pt x="0" y="0"/>
                </a:moveTo>
                <a:lnTo>
                  <a:pt x="44569" y="0"/>
                </a:lnTo>
                <a:lnTo>
                  <a:pt x="43169" y="1400"/>
                </a:lnTo>
                <a:lnTo>
                  <a:pt x="1400" y="1400"/>
                </a:lnTo>
                <a:close/>
              </a:path>
              <a:path fill="darken" w="44569" h="21600">
                <a:moveTo>
                  <a:pt x="44569" y="0"/>
                </a:moveTo>
                <a:lnTo>
                  <a:pt x="44569" y="21600"/>
                </a:lnTo>
                <a:lnTo>
                  <a:pt x="43169" y="20200"/>
                </a:lnTo>
                <a:lnTo>
                  <a:pt x="43169" y="1400"/>
                </a:lnTo>
                <a:close/>
              </a:path>
              <a:path fill="darkenLess" w="44569" h="21600">
                <a:moveTo>
                  <a:pt x="44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69" y="20200"/>
                </a:lnTo>
                <a:close/>
              </a:path>
              <a:path fill="lighten" w="44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69" h="21600">
                <a:moveTo>
                  <a:pt x="15278" y="3794"/>
                </a:moveTo>
                <a:lnTo>
                  <a:pt x="29291" y="10800"/>
                </a:lnTo>
                <a:lnTo>
                  <a:pt x="1527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4388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304920"/>
            <a:ext cx="731520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 reenvías esta presentación a tus amigos, AOL pagará 10 centavos de dólar por cada correo electrónico que envíes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nextslide"/>
          </p:cNvPr>
          <p:cNvSpPr/>
          <p:nvPr/>
        </p:nvSpPr>
        <p:spPr>
          <a:xfrm>
            <a:off x="4191120" y="624852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9116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3">
            <a:hlinkClick r:id="" action="ppaction://hlinkshowjump?jump=endshow"/>
          </p:cNvPr>
          <p:cNvSpPr/>
          <p:nvPr/>
        </p:nvSpPr>
        <p:spPr>
          <a:xfrm>
            <a:off x="420228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220400" y="4952880"/>
            <a:ext cx="67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pero que cuando les mandes está his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 todos tus amigos decidan actuar.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¡Grac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457200"/>
            <a:ext cx="7162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hora tienes dos opciones: eliminar esta presentación o reenviar a todos tus amigo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6094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í, esta es una gran lección de vida Algo para pensar 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nextslide"/>
          </p:cNvPr>
          <p:cNvSpPr/>
          <p:nvPr/>
        </p:nvSpPr>
        <p:spPr>
          <a:xfrm>
            <a:off x="420228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228600"/>
            <a:ext cx="396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Qian Hongyan perdió ambas piernas en un accidente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u familia china es muy pobre y no pudo permitirse pagarle la prótesis  Por lo que, usa una pelota de baloncesto para ir de un lugar a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">
            <a:hlinkClick r:id="" action="ppaction://hlinkshowjump?jump=nextslide"/>
          </p:cNvPr>
          <p:cNvSpPr/>
          <p:nvPr/>
        </p:nvSpPr>
        <p:spPr>
          <a:xfrm>
            <a:off x="2438280" y="61722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292640" y="304920"/>
            <a:ext cx="458136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752480" y="5562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Qian usa dos soportes de madera. Nunca se queja. Ya ha utilizado seis balones de balonces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>
            <a:hlinkClick r:id="" action="ppaction://hlinkshowjump?jump=nextslide"/>
          </p:cNvPr>
          <p:cNvSpPr/>
          <p:nvPr/>
        </p:nvSpPr>
        <p:spPr>
          <a:xfrm>
            <a:off x="1066680" y="59436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62840" cy="5133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14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a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cuela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">
            <a:hlinkClick r:id="" action="ppaction://hlinkshowjump?jump=nextslide"/>
          </p:cNvPr>
          <p:cNvSpPr/>
          <p:nvPr/>
        </p:nvSpPr>
        <p:spPr>
          <a:xfrm>
            <a:off x="2666880" y="6095880"/>
            <a:ext cx="738360" cy="35748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44591" h="21600">
                <a:moveTo>
                  <a:pt x="0" y="0"/>
                </a:moveTo>
                <a:lnTo>
                  <a:pt x="44591" y="0"/>
                </a:lnTo>
                <a:lnTo>
                  <a:pt x="44591" y="21600"/>
                </a:lnTo>
                <a:lnTo>
                  <a:pt x="0" y="21600"/>
                </a:lnTo>
                <a:close/>
              </a:path>
              <a:path fill="lightenLess" w="44591" h="21600">
                <a:moveTo>
                  <a:pt x="0" y="0"/>
                </a:moveTo>
                <a:lnTo>
                  <a:pt x="44591" y="0"/>
                </a:lnTo>
                <a:lnTo>
                  <a:pt x="43191" y="1400"/>
                </a:lnTo>
                <a:lnTo>
                  <a:pt x="1400" y="1400"/>
                </a:lnTo>
                <a:close/>
              </a:path>
              <a:path fill="darken" w="44591" h="21600">
                <a:moveTo>
                  <a:pt x="44591" y="0"/>
                </a:moveTo>
                <a:lnTo>
                  <a:pt x="44591" y="21600"/>
                </a:lnTo>
                <a:lnTo>
                  <a:pt x="43191" y="20200"/>
                </a:lnTo>
                <a:lnTo>
                  <a:pt x="43191" y="1400"/>
                </a:lnTo>
                <a:close/>
              </a:path>
              <a:path fill="darkenLess" w="44591" h="21600">
                <a:moveTo>
                  <a:pt x="44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1" y="20200"/>
                </a:lnTo>
                <a:close/>
              </a:path>
              <a:path fill="lighten" w="44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91" h="21600">
                <a:moveTo>
                  <a:pt x="15289" y="3794"/>
                </a:moveTo>
                <a:lnTo>
                  <a:pt x="29302" y="10800"/>
                </a:lnTo>
                <a:lnTo>
                  <a:pt x="152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227480" y="304920"/>
            <a:ext cx="466884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1523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sonri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">
            <a:hlinkClick r:id="" action="ppaction://hlinkshowjump?jump=nextslide"/>
          </p:cNvPr>
          <p:cNvSpPr/>
          <p:nvPr/>
        </p:nvSpPr>
        <p:spPr>
          <a:xfrm>
            <a:off x="1295280" y="59436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193920" y="304920"/>
            <a:ext cx="571212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positiv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">
            <a:hlinkClick r:id="" action="ppaction://hlinkshowjump?jump=nextslide"/>
          </p:cNvPr>
          <p:cNvSpPr/>
          <p:nvPr/>
        </p:nvSpPr>
        <p:spPr>
          <a:xfrm>
            <a:off x="1295280" y="6172200"/>
            <a:ext cx="738360" cy="357120"/>
          </a:xfrm>
          <a:custGeom>
            <a:avLst/>
            <a:gdLst>
              <a:gd name="textAreaLeft" fmla="*/ 23040 w 738360"/>
              <a:gd name="textAreaRight" fmla="*/ 715320 w 7383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36" h="21600">
                <a:moveTo>
                  <a:pt x="0" y="0"/>
                </a:moveTo>
                <a:lnTo>
                  <a:pt x="44636" y="0"/>
                </a:lnTo>
                <a:lnTo>
                  <a:pt x="44636" y="21600"/>
                </a:lnTo>
                <a:lnTo>
                  <a:pt x="0" y="21600"/>
                </a:lnTo>
                <a:close/>
              </a:path>
              <a:path fill="lightenLess" w="44636" h="21600">
                <a:moveTo>
                  <a:pt x="0" y="0"/>
                </a:moveTo>
                <a:lnTo>
                  <a:pt x="44636" y="0"/>
                </a:lnTo>
                <a:lnTo>
                  <a:pt x="43236" y="1400"/>
                </a:lnTo>
                <a:lnTo>
                  <a:pt x="1400" y="1400"/>
                </a:lnTo>
                <a:close/>
              </a:path>
              <a:path fill="darken" w="44636" h="21600">
                <a:moveTo>
                  <a:pt x="44636" y="0"/>
                </a:moveTo>
                <a:lnTo>
                  <a:pt x="44636" y="21600"/>
                </a:lnTo>
                <a:lnTo>
                  <a:pt x="43236" y="20200"/>
                </a:lnTo>
                <a:lnTo>
                  <a:pt x="43236" y="1400"/>
                </a:lnTo>
                <a:close/>
              </a:path>
              <a:path fill="darkenLess" w="44636" h="21600">
                <a:moveTo>
                  <a:pt x="44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36" y="20200"/>
                </a:lnTo>
                <a:close/>
              </a:path>
              <a:path fill="lighten" w="44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36" h="21600">
                <a:moveTo>
                  <a:pt x="15311" y="3794"/>
                </a:moveTo>
                <a:lnTo>
                  <a:pt x="29324" y="10800"/>
                </a:lnTo>
                <a:lnTo>
                  <a:pt x="153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4478400" y="304920"/>
            <a:ext cx="4406760" cy="624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304920"/>
            <a:ext cx="86104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 sólo presionar unas teclas en su ordenador puede tener pier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">
            <a:hlinkClick r:id="" action="ppaction://hlinkshowjump?jump=nextslide"/>
          </p:cNvPr>
          <p:cNvSpPr/>
          <p:nvPr/>
        </p:nvSpPr>
        <p:spPr>
          <a:xfrm>
            <a:off x="419112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391520" cy="4935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38080" y="29718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ótesi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">
            <a:hlinkClick r:id="" action="ppaction://hlinkshowjump?jump=nextslide"/>
          </p:cNvPr>
          <p:cNvSpPr/>
          <p:nvPr/>
        </p:nvSpPr>
        <p:spPr>
          <a:xfrm>
            <a:off x="1676520" y="6172200"/>
            <a:ext cx="738000" cy="357120"/>
          </a:xfrm>
          <a:custGeom>
            <a:avLst/>
            <a:gdLst>
              <a:gd name="textAreaLeft" fmla="*/ 23040 w 738000"/>
              <a:gd name="textAreaRight" fmla="*/ 714960 w 7380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3214" y="1400"/>
                </a:lnTo>
                <a:lnTo>
                  <a:pt x="1400" y="1400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3214" y="20200"/>
                </a:lnTo>
                <a:lnTo>
                  <a:pt x="43214" y="1400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4" y="20200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4" h="21600">
                <a:moveTo>
                  <a:pt x="15300" y="3794"/>
                </a:moveTo>
                <a:lnTo>
                  <a:pt x="29313" y="10800"/>
                </a:lnTo>
                <a:lnTo>
                  <a:pt x="153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5013360" y="228600"/>
            <a:ext cx="38527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3:29:31Z</dcterms:created>
  <dc:creator>Boillat Fred</dc:creator>
  <dc:description/>
  <dc:language>en-US</dc:language>
  <cp:lastModifiedBy>Jsotoca</cp:lastModifiedBy>
  <dcterms:modified xsi:type="dcterms:W3CDTF">2013-01-24T09:36:06Z</dcterms:modified>
  <cp:revision>46</cp:revision>
  <dc:subject/>
  <dc:title>Présentation PowerPoint</dc:title>
</cp:coreProperties>
</file>