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FBEF-CA21-47C9-A78C-3DB4C94FBB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C0D9-315F-40C6-A68D-69DAC08C16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E495-D0F8-430E-9476-94B7ADAF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5EFF-9037-4992-9D07-FFF4E3C2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508-4A7F-408A-98A1-DB0D01C5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0DE-49A4-46DA-AB25-B219D74B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EDD-C5A1-4C1C-ABDC-2BFC5ED6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19D4-7209-4EAC-B52B-ADAA4A05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420E-8EB1-4AC3-95D7-73C9B9C9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6EB-F6EE-42A8-AF53-D7FFC5CF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7FE-D64B-4B79-80ED-7B922808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B5B9-9CE7-4E76-AC1C-81219164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342-1900-423D-A4E9-385EF348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F5A-28E2-42CC-B4DD-555EAFC7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EC7B-863A-40A7-8712-4A4EFF14C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0880" y="1676520"/>
            <a:ext cx="4419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ee atinentemente  esta historia  Si llegas a la conclusión correcta y estoy seguro que va a ser  así, no dudes en hacer alg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>
            <a:hlinkClick r:id="" action="ppaction://hlinkshowjump?jump=nextslide"/>
          </p:cNvPr>
          <p:cNvSpPr/>
          <p:nvPr/>
        </p:nvSpPr>
        <p:spPr>
          <a:xfrm>
            <a:off x="4191120" y="6095880"/>
            <a:ext cx="738000" cy="357480"/>
          </a:xfrm>
          <a:custGeom>
            <a:avLst/>
            <a:gdLst>
              <a:gd name="textAreaLeft" fmla="*/ 23040 w 738000"/>
              <a:gd name="textAreaRight" fmla="*/ 714960 w 73800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44569" h="21600">
                <a:moveTo>
                  <a:pt x="0" y="0"/>
                </a:moveTo>
                <a:lnTo>
                  <a:pt x="44569" y="0"/>
                </a:lnTo>
                <a:lnTo>
                  <a:pt x="44569" y="21600"/>
                </a:lnTo>
                <a:lnTo>
                  <a:pt x="0" y="21600"/>
                </a:lnTo>
                <a:close/>
              </a:path>
              <a:path fill="lightenLess" w="44569" h="21600">
                <a:moveTo>
                  <a:pt x="0" y="0"/>
                </a:moveTo>
                <a:lnTo>
                  <a:pt x="44569" y="0"/>
                </a:lnTo>
                <a:lnTo>
                  <a:pt x="43169" y="1400"/>
                </a:lnTo>
                <a:lnTo>
                  <a:pt x="1400" y="1400"/>
                </a:lnTo>
                <a:close/>
              </a:path>
              <a:path fill="darken" w="44569" h="21600">
                <a:moveTo>
                  <a:pt x="44569" y="0"/>
                </a:moveTo>
                <a:lnTo>
                  <a:pt x="44569" y="21600"/>
                </a:lnTo>
                <a:lnTo>
                  <a:pt x="43169" y="20200"/>
                </a:lnTo>
                <a:lnTo>
                  <a:pt x="43169" y="1400"/>
                </a:lnTo>
                <a:close/>
              </a:path>
              <a:path fill="darkenLess" w="44569" h="21600">
                <a:moveTo>
                  <a:pt x="44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169" y="20200"/>
                </a:lnTo>
                <a:close/>
              </a:path>
              <a:path fill="lighten" w="44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569" h="21600">
                <a:moveTo>
                  <a:pt x="15278" y="3794"/>
                </a:moveTo>
                <a:lnTo>
                  <a:pt x="29291" y="10800"/>
                </a:lnTo>
                <a:lnTo>
                  <a:pt x="1527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-304920" y="312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52280" y="304920"/>
            <a:ext cx="67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La vida nos ofrece grandes enseñanz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3">
            <a:hlinkClick r:id="" action="ppaction://hlinkshowjump?jump=nextslide"/>
          </p:cNvPr>
          <p:cNvSpPr/>
          <p:nvPr/>
        </p:nvSpPr>
        <p:spPr>
          <a:xfrm>
            <a:off x="1219320" y="6095880"/>
            <a:ext cx="738000" cy="357480"/>
          </a:xfrm>
          <a:custGeom>
            <a:avLst/>
            <a:gdLst>
              <a:gd name="textAreaLeft" fmla="*/ 23040 w 738000"/>
              <a:gd name="textAreaRight" fmla="*/ 714960 w 73800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44569" h="21600">
                <a:moveTo>
                  <a:pt x="0" y="0"/>
                </a:moveTo>
                <a:lnTo>
                  <a:pt x="44569" y="0"/>
                </a:lnTo>
                <a:lnTo>
                  <a:pt x="44569" y="21600"/>
                </a:lnTo>
                <a:lnTo>
                  <a:pt x="0" y="21600"/>
                </a:lnTo>
                <a:close/>
              </a:path>
              <a:path fill="lightenLess" w="44569" h="21600">
                <a:moveTo>
                  <a:pt x="0" y="0"/>
                </a:moveTo>
                <a:lnTo>
                  <a:pt x="44569" y="0"/>
                </a:lnTo>
                <a:lnTo>
                  <a:pt x="43169" y="1400"/>
                </a:lnTo>
                <a:lnTo>
                  <a:pt x="1400" y="1400"/>
                </a:lnTo>
                <a:close/>
              </a:path>
              <a:path fill="darken" w="44569" h="21600">
                <a:moveTo>
                  <a:pt x="44569" y="0"/>
                </a:moveTo>
                <a:lnTo>
                  <a:pt x="44569" y="21600"/>
                </a:lnTo>
                <a:lnTo>
                  <a:pt x="43169" y="20200"/>
                </a:lnTo>
                <a:lnTo>
                  <a:pt x="43169" y="1400"/>
                </a:lnTo>
                <a:close/>
              </a:path>
              <a:path fill="darkenLess" w="44569" h="21600">
                <a:moveTo>
                  <a:pt x="44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169" y="20200"/>
                </a:lnTo>
                <a:close/>
              </a:path>
              <a:path fill="lighten" w="44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569" h="21600">
                <a:moveTo>
                  <a:pt x="15278" y="3794"/>
                </a:moveTo>
                <a:lnTo>
                  <a:pt x="29291" y="10800"/>
                </a:lnTo>
                <a:lnTo>
                  <a:pt x="1527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443880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90720" y="304920"/>
            <a:ext cx="7315200" cy="16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 reenvías esta presentación a tus amigos, AOL pagará 10 centavos de dólar por cada correo electrónico que envíes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">
            <a:hlinkClick r:id="" action="ppaction://hlinkshowjump?jump=nextslide"/>
          </p:cNvPr>
          <p:cNvSpPr/>
          <p:nvPr/>
        </p:nvSpPr>
        <p:spPr>
          <a:xfrm>
            <a:off x="4191120" y="6248520"/>
            <a:ext cx="738000" cy="357120"/>
          </a:xfrm>
          <a:custGeom>
            <a:avLst/>
            <a:gdLst>
              <a:gd name="textAreaLeft" fmla="*/ 23040 w 738000"/>
              <a:gd name="textAreaRight" fmla="*/ 714960 w 7380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4614" h="21600">
                <a:moveTo>
                  <a:pt x="0" y="0"/>
                </a:moveTo>
                <a:lnTo>
                  <a:pt x="44614" y="0"/>
                </a:lnTo>
                <a:lnTo>
                  <a:pt x="44614" y="21600"/>
                </a:lnTo>
                <a:lnTo>
                  <a:pt x="0" y="21600"/>
                </a:lnTo>
                <a:close/>
              </a:path>
              <a:path fill="lightenLess" w="44614" h="21600">
                <a:moveTo>
                  <a:pt x="0" y="0"/>
                </a:moveTo>
                <a:lnTo>
                  <a:pt x="44614" y="0"/>
                </a:lnTo>
                <a:lnTo>
                  <a:pt x="43214" y="1400"/>
                </a:lnTo>
                <a:lnTo>
                  <a:pt x="1400" y="1400"/>
                </a:lnTo>
                <a:close/>
              </a:path>
              <a:path fill="darken" w="44614" h="21600">
                <a:moveTo>
                  <a:pt x="44614" y="0"/>
                </a:moveTo>
                <a:lnTo>
                  <a:pt x="44614" y="21600"/>
                </a:lnTo>
                <a:lnTo>
                  <a:pt x="43214" y="20200"/>
                </a:lnTo>
                <a:lnTo>
                  <a:pt x="43214" y="1400"/>
                </a:lnTo>
                <a:close/>
              </a:path>
              <a:path fill="darkenLess" w="44614" h="21600">
                <a:moveTo>
                  <a:pt x="44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14" y="20200"/>
                </a:lnTo>
                <a:close/>
              </a:path>
              <a:path fill="lighten" w="44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14" h="21600">
                <a:moveTo>
                  <a:pt x="15300" y="3794"/>
                </a:moveTo>
                <a:lnTo>
                  <a:pt x="29313" y="10800"/>
                </a:lnTo>
                <a:lnTo>
                  <a:pt x="153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391160" cy="49276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3">
            <a:hlinkClick r:id="" action="ppaction://hlinkshowjump?jump=endshow"/>
          </p:cNvPr>
          <p:cNvSpPr/>
          <p:nvPr/>
        </p:nvSpPr>
        <p:spPr>
          <a:xfrm>
            <a:off x="4202280" y="6172200"/>
            <a:ext cx="738000" cy="357120"/>
          </a:xfrm>
          <a:custGeom>
            <a:avLst/>
            <a:gdLst>
              <a:gd name="textAreaLeft" fmla="*/ 23040 w 738000"/>
              <a:gd name="textAreaRight" fmla="*/ 714960 w 7380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4614" h="21600">
                <a:moveTo>
                  <a:pt x="0" y="0"/>
                </a:moveTo>
                <a:lnTo>
                  <a:pt x="44614" y="0"/>
                </a:lnTo>
                <a:lnTo>
                  <a:pt x="44614" y="21600"/>
                </a:lnTo>
                <a:lnTo>
                  <a:pt x="0" y="21600"/>
                </a:lnTo>
                <a:close/>
              </a:path>
              <a:path fill="lightenLess" w="44614" h="21600">
                <a:moveTo>
                  <a:pt x="0" y="0"/>
                </a:moveTo>
                <a:lnTo>
                  <a:pt x="44614" y="0"/>
                </a:lnTo>
                <a:lnTo>
                  <a:pt x="43214" y="1400"/>
                </a:lnTo>
                <a:lnTo>
                  <a:pt x="1400" y="1400"/>
                </a:lnTo>
                <a:close/>
              </a:path>
              <a:path fill="darken" w="44614" h="21600">
                <a:moveTo>
                  <a:pt x="44614" y="0"/>
                </a:moveTo>
                <a:lnTo>
                  <a:pt x="44614" y="21600"/>
                </a:lnTo>
                <a:lnTo>
                  <a:pt x="43214" y="20200"/>
                </a:lnTo>
                <a:lnTo>
                  <a:pt x="43214" y="1400"/>
                </a:lnTo>
                <a:close/>
              </a:path>
              <a:path fill="darkenLess" w="44614" h="21600">
                <a:moveTo>
                  <a:pt x="44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14" y="20200"/>
                </a:lnTo>
                <a:close/>
              </a:path>
              <a:path fill="lighten" w="44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14" h="21600">
                <a:moveTo>
                  <a:pt x="15300" y="3794"/>
                </a:moveTo>
                <a:lnTo>
                  <a:pt x="29313" y="10800"/>
                </a:lnTo>
                <a:lnTo>
                  <a:pt x="15300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220400" y="4952880"/>
            <a:ext cx="671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spero que cuando les mandes está histo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 todos tus amigos decidan actuar.</a:t>
            </a:r>
            <a:br>
              <a:rPr sz="2400"/>
            </a:b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¡Graci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62120" y="457200"/>
            <a:ext cx="71625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hora tienes dos opciones: eliminar esta presentación o reenviar a todos tus amigos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04920" y="6094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í, esta es una gran lección de vida Algo para pensar ..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3">
            <a:hlinkClick r:id="" action="ppaction://hlinkshowjump?jump=nextslide"/>
          </p:cNvPr>
          <p:cNvSpPr/>
          <p:nvPr/>
        </p:nvSpPr>
        <p:spPr>
          <a:xfrm>
            <a:off x="4202280" y="6172200"/>
            <a:ext cx="738000" cy="357120"/>
          </a:xfrm>
          <a:custGeom>
            <a:avLst/>
            <a:gdLst>
              <a:gd name="textAreaLeft" fmla="*/ 23040 w 738000"/>
              <a:gd name="textAreaRight" fmla="*/ 714960 w 7380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4614" h="21600">
                <a:moveTo>
                  <a:pt x="0" y="0"/>
                </a:moveTo>
                <a:lnTo>
                  <a:pt x="44614" y="0"/>
                </a:lnTo>
                <a:lnTo>
                  <a:pt x="44614" y="21600"/>
                </a:lnTo>
                <a:lnTo>
                  <a:pt x="0" y="21600"/>
                </a:lnTo>
                <a:close/>
              </a:path>
              <a:path fill="lightenLess" w="44614" h="21600">
                <a:moveTo>
                  <a:pt x="0" y="0"/>
                </a:moveTo>
                <a:lnTo>
                  <a:pt x="44614" y="0"/>
                </a:lnTo>
                <a:lnTo>
                  <a:pt x="43214" y="1400"/>
                </a:lnTo>
                <a:lnTo>
                  <a:pt x="1400" y="1400"/>
                </a:lnTo>
                <a:close/>
              </a:path>
              <a:path fill="darken" w="44614" h="21600">
                <a:moveTo>
                  <a:pt x="44614" y="0"/>
                </a:moveTo>
                <a:lnTo>
                  <a:pt x="44614" y="21600"/>
                </a:lnTo>
                <a:lnTo>
                  <a:pt x="43214" y="20200"/>
                </a:lnTo>
                <a:lnTo>
                  <a:pt x="43214" y="1400"/>
                </a:lnTo>
                <a:close/>
              </a:path>
              <a:path fill="darkenLess" w="44614" h="21600">
                <a:moveTo>
                  <a:pt x="44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14" y="20200"/>
                </a:lnTo>
                <a:close/>
              </a:path>
              <a:path fill="lighten" w="44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14" h="21600">
                <a:moveTo>
                  <a:pt x="15300" y="3794"/>
                </a:moveTo>
                <a:lnTo>
                  <a:pt x="29313" y="10800"/>
                </a:lnTo>
                <a:lnTo>
                  <a:pt x="153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04920" y="228600"/>
            <a:ext cx="396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Qian Hongyan perdió ambas piernas en un accidente.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u familia china es muy pobre y no pudo permitirse pagarle la prótesis  Por lo que, usa una pelota de baloncesto para ir de un lugar a o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">
            <a:hlinkClick r:id="" action="ppaction://hlinkshowjump?jump=nextslide"/>
          </p:cNvPr>
          <p:cNvSpPr/>
          <p:nvPr/>
        </p:nvSpPr>
        <p:spPr>
          <a:xfrm>
            <a:off x="2438280" y="6172200"/>
            <a:ext cx="738360" cy="357120"/>
          </a:xfrm>
          <a:custGeom>
            <a:avLst/>
            <a:gdLst>
              <a:gd name="textAreaLeft" fmla="*/ 23040 w 738360"/>
              <a:gd name="textAreaRight" fmla="*/ 715320 w 7383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4636" h="21600">
                <a:moveTo>
                  <a:pt x="0" y="0"/>
                </a:moveTo>
                <a:lnTo>
                  <a:pt x="44636" y="0"/>
                </a:lnTo>
                <a:lnTo>
                  <a:pt x="44636" y="21600"/>
                </a:lnTo>
                <a:lnTo>
                  <a:pt x="0" y="21600"/>
                </a:lnTo>
                <a:close/>
              </a:path>
              <a:path fill="lightenLess" w="44636" h="21600">
                <a:moveTo>
                  <a:pt x="0" y="0"/>
                </a:moveTo>
                <a:lnTo>
                  <a:pt x="44636" y="0"/>
                </a:lnTo>
                <a:lnTo>
                  <a:pt x="43236" y="1400"/>
                </a:lnTo>
                <a:lnTo>
                  <a:pt x="1400" y="1400"/>
                </a:lnTo>
                <a:close/>
              </a:path>
              <a:path fill="darken" w="44636" h="21600">
                <a:moveTo>
                  <a:pt x="44636" y="0"/>
                </a:moveTo>
                <a:lnTo>
                  <a:pt x="44636" y="21600"/>
                </a:lnTo>
                <a:lnTo>
                  <a:pt x="43236" y="20200"/>
                </a:lnTo>
                <a:lnTo>
                  <a:pt x="43236" y="1400"/>
                </a:lnTo>
                <a:close/>
              </a:path>
              <a:path fill="darkenLess" w="44636" h="21600">
                <a:moveTo>
                  <a:pt x="44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36" y="20200"/>
                </a:lnTo>
                <a:close/>
              </a:path>
              <a:path fill="lighten" w="44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36" h="21600">
                <a:moveTo>
                  <a:pt x="15311" y="3794"/>
                </a:moveTo>
                <a:lnTo>
                  <a:pt x="29324" y="10800"/>
                </a:lnTo>
                <a:lnTo>
                  <a:pt x="1531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4292640" y="304920"/>
            <a:ext cx="4581360" cy="6248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752480" y="55627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Qian usa dos soportes de madera. Nunca se queja. Ya ha utilizado seis balones de baloncest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">
            <a:hlinkClick r:id="" action="ppaction://hlinkshowjump?jump=nextslide"/>
          </p:cNvPr>
          <p:cNvSpPr/>
          <p:nvPr/>
        </p:nvSpPr>
        <p:spPr>
          <a:xfrm>
            <a:off x="1066680" y="5943600"/>
            <a:ext cx="738360" cy="357120"/>
          </a:xfrm>
          <a:custGeom>
            <a:avLst/>
            <a:gdLst>
              <a:gd name="textAreaLeft" fmla="*/ 23040 w 738360"/>
              <a:gd name="textAreaRight" fmla="*/ 715320 w 7383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4636" h="21600">
                <a:moveTo>
                  <a:pt x="0" y="0"/>
                </a:moveTo>
                <a:lnTo>
                  <a:pt x="44636" y="0"/>
                </a:lnTo>
                <a:lnTo>
                  <a:pt x="44636" y="21600"/>
                </a:lnTo>
                <a:lnTo>
                  <a:pt x="0" y="21600"/>
                </a:lnTo>
                <a:close/>
              </a:path>
              <a:path fill="lightenLess" w="44636" h="21600">
                <a:moveTo>
                  <a:pt x="0" y="0"/>
                </a:moveTo>
                <a:lnTo>
                  <a:pt x="44636" y="0"/>
                </a:lnTo>
                <a:lnTo>
                  <a:pt x="43236" y="1400"/>
                </a:lnTo>
                <a:lnTo>
                  <a:pt x="1400" y="1400"/>
                </a:lnTo>
                <a:close/>
              </a:path>
              <a:path fill="darken" w="44636" h="21600">
                <a:moveTo>
                  <a:pt x="44636" y="0"/>
                </a:moveTo>
                <a:lnTo>
                  <a:pt x="44636" y="21600"/>
                </a:lnTo>
                <a:lnTo>
                  <a:pt x="43236" y="20200"/>
                </a:lnTo>
                <a:lnTo>
                  <a:pt x="43236" y="1400"/>
                </a:lnTo>
                <a:close/>
              </a:path>
              <a:path fill="darkenLess" w="44636" h="21600">
                <a:moveTo>
                  <a:pt x="44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36" y="20200"/>
                </a:lnTo>
                <a:close/>
              </a:path>
              <a:path fill="lighten" w="44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36" h="21600">
                <a:moveTo>
                  <a:pt x="15311" y="3794"/>
                </a:moveTo>
                <a:lnTo>
                  <a:pt x="29324" y="10800"/>
                </a:lnTo>
                <a:lnTo>
                  <a:pt x="1531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962840" cy="51339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5800" y="914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a a 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scuela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">
            <a:hlinkClick r:id="" action="ppaction://hlinkshowjump?jump=nextslide"/>
          </p:cNvPr>
          <p:cNvSpPr/>
          <p:nvPr/>
        </p:nvSpPr>
        <p:spPr>
          <a:xfrm>
            <a:off x="2666880" y="6095880"/>
            <a:ext cx="738360" cy="357480"/>
          </a:xfrm>
          <a:custGeom>
            <a:avLst/>
            <a:gdLst>
              <a:gd name="textAreaLeft" fmla="*/ 23040 w 738360"/>
              <a:gd name="textAreaRight" fmla="*/ 715320 w 7383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44591" h="21600">
                <a:moveTo>
                  <a:pt x="0" y="0"/>
                </a:moveTo>
                <a:lnTo>
                  <a:pt x="44591" y="0"/>
                </a:lnTo>
                <a:lnTo>
                  <a:pt x="44591" y="21600"/>
                </a:lnTo>
                <a:lnTo>
                  <a:pt x="0" y="21600"/>
                </a:lnTo>
                <a:close/>
              </a:path>
              <a:path fill="lightenLess" w="44591" h="21600">
                <a:moveTo>
                  <a:pt x="0" y="0"/>
                </a:moveTo>
                <a:lnTo>
                  <a:pt x="44591" y="0"/>
                </a:lnTo>
                <a:lnTo>
                  <a:pt x="43191" y="1400"/>
                </a:lnTo>
                <a:lnTo>
                  <a:pt x="1400" y="1400"/>
                </a:lnTo>
                <a:close/>
              </a:path>
              <a:path fill="darken" w="44591" h="21600">
                <a:moveTo>
                  <a:pt x="44591" y="0"/>
                </a:moveTo>
                <a:lnTo>
                  <a:pt x="44591" y="21600"/>
                </a:lnTo>
                <a:lnTo>
                  <a:pt x="43191" y="20200"/>
                </a:lnTo>
                <a:lnTo>
                  <a:pt x="43191" y="1400"/>
                </a:lnTo>
                <a:close/>
              </a:path>
              <a:path fill="darkenLess" w="44591" h="21600">
                <a:moveTo>
                  <a:pt x="44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191" y="20200"/>
                </a:lnTo>
                <a:close/>
              </a:path>
              <a:path fill="lighten" w="44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591" h="21600">
                <a:moveTo>
                  <a:pt x="15289" y="3794"/>
                </a:moveTo>
                <a:lnTo>
                  <a:pt x="29302" y="10800"/>
                </a:lnTo>
                <a:lnTo>
                  <a:pt x="152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227480" y="304920"/>
            <a:ext cx="466884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04920" y="1523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Siempre sonri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">
            <a:hlinkClick r:id="" action="ppaction://hlinkshowjump?jump=nextslide"/>
          </p:cNvPr>
          <p:cNvSpPr/>
          <p:nvPr/>
        </p:nvSpPr>
        <p:spPr>
          <a:xfrm>
            <a:off x="1295280" y="5943600"/>
            <a:ext cx="738360" cy="357120"/>
          </a:xfrm>
          <a:custGeom>
            <a:avLst/>
            <a:gdLst>
              <a:gd name="textAreaLeft" fmla="*/ 23040 w 738360"/>
              <a:gd name="textAreaRight" fmla="*/ 715320 w 7383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4636" h="21600">
                <a:moveTo>
                  <a:pt x="0" y="0"/>
                </a:moveTo>
                <a:lnTo>
                  <a:pt x="44636" y="0"/>
                </a:lnTo>
                <a:lnTo>
                  <a:pt x="44636" y="21600"/>
                </a:lnTo>
                <a:lnTo>
                  <a:pt x="0" y="21600"/>
                </a:lnTo>
                <a:close/>
              </a:path>
              <a:path fill="lightenLess" w="44636" h="21600">
                <a:moveTo>
                  <a:pt x="0" y="0"/>
                </a:moveTo>
                <a:lnTo>
                  <a:pt x="44636" y="0"/>
                </a:lnTo>
                <a:lnTo>
                  <a:pt x="43236" y="1400"/>
                </a:lnTo>
                <a:lnTo>
                  <a:pt x="1400" y="1400"/>
                </a:lnTo>
                <a:close/>
              </a:path>
              <a:path fill="darken" w="44636" h="21600">
                <a:moveTo>
                  <a:pt x="44636" y="0"/>
                </a:moveTo>
                <a:lnTo>
                  <a:pt x="44636" y="21600"/>
                </a:lnTo>
                <a:lnTo>
                  <a:pt x="43236" y="20200"/>
                </a:lnTo>
                <a:lnTo>
                  <a:pt x="43236" y="1400"/>
                </a:lnTo>
                <a:close/>
              </a:path>
              <a:path fill="darkenLess" w="44636" h="21600">
                <a:moveTo>
                  <a:pt x="44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36" y="20200"/>
                </a:lnTo>
                <a:close/>
              </a:path>
              <a:path fill="lighten" w="44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36" h="21600">
                <a:moveTo>
                  <a:pt x="15311" y="3794"/>
                </a:moveTo>
                <a:lnTo>
                  <a:pt x="29324" y="10800"/>
                </a:lnTo>
                <a:lnTo>
                  <a:pt x="1531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193920" y="304920"/>
            <a:ext cx="5712120" cy="6248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33520" y="1905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Siempre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positiva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">
            <a:hlinkClick r:id="" action="ppaction://hlinkshowjump?jump=nextslide"/>
          </p:cNvPr>
          <p:cNvSpPr/>
          <p:nvPr/>
        </p:nvSpPr>
        <p:spPr>
          <a:xfrm>
            <a:off x="1295280" y="6172200"/>
            <a:ext cx="738360" cy="357120"/>
          </a:xfrm>
          <a:custGeom>
            <a:avLst/>
            <a:gdLst>
              <a:gd name="textAreaLeft" fmla="*/ 23040 w 738360"/>
              <a:gd name="textAreaRight" fmla="*/ 715320 w 7383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4636" h="21600">
                <a:moveTo>
                  <a:pt x="0" y="0"/>
                </a:moveTo>
                <a:lnTo>
                  <a:pt x="44636" y="0"/>
                </a:lnTo>
                <a:lnTo>
                  <a:pt x="44636" y="21600"/>
                </a:lnTo>
                <a:lnTo>
                  <a:pt x="0" y="21600"/>
                </a:lnTo>
                <a:close/>
              </a:path>
              <a:path fill="lightenLess" w="44636" h="21600">
                <a:moveTo>
                  <a:pt x="0" y="0"/>
                </a:moveTo>
                <a:lnTo>
                  <a:pt x="44636" y="0"/>
                </a:lnTo>
                <a:lnTo>
                  <a:pt x="43236" y="1400"/>
                </a:lnTo>
                <a:lnTo>
                  <a:pt x="1400" y="1400"/>
                </a:lnTo>
                <a:close/>
              </a:path>
              <a:path fill="darken" w="44636" h="21600">
                <a:moveTo>
                  <a:pt x="44636" y="0"/>
                </a:moveTo>
                <a:lnTo>
                  <a:pt x="44636" y="21600"/>
                </a:lnTo>
                <a:lnTo>
                  <a:pt x="43236" y="20200"/>
                </a:lnTo>
                <a:lnTo>
                  <a:pt x="43236" y="1400"/>
                </a:lnTo>
                <a:close/>
              </a:path>
              <a:path fill="darkenLess" w="44636" h="21600">
                <a:moveTo>
                  <a:pt x="44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36" y="20200"/>
                </a:lnTo>
                <a:close/>
              </a:path>
              <a:path fill="lighten" w="44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36" h="21600">
                <a:moveTo>
                  <a:pt x="15311" y="3794"/>
                </a:moveTo>
                <a:lnTo>
                  <a:pt x="29324" y="10800"/>
                </a:lnTo>
                <a:lnTo>
                  <a:pt x="1531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4478400" y="304920"/>
            <a:ext cx="4406760" cy="6248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304920"/>
            <a:ext cx="861048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on sólo presionar unas teclas en su ordenador puede tener pier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3">
            <a:hlinkClick r:id="" action="ppaction://hlinkshowjump?jump=nextslide"/>
          </p:cNvPr>
          <p:cNvSpPr/>
          <p:nvPr/>
        </p:nvSpPr>
        <p:spPr>
          <a:xfrm>
            <a:off x="4191120" y="6172200"/>
            <a:ext cx="738000" cy="357120"/>
          </a:xfrm>
          <a:custGeom>
            <a:avLst/>
            <a:gdLst>
              <a:gd name="textAreaLeft" fmla="*/ 23040 w 738000"/>
              <a:gd name="textAreaRight" fmla="*/ 714960 w 7380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4614" h="21600">
                <a:moveTo>
                  <a:pt x="0" y="0"/>
                </a:moveTo>
                <a:lnTo>
                  <a:pt x="44614" y="0"/>
                </a:lnTo>
                <a:lnTo>
                  <a:pt x="44614" y="21600"/>
                </a:lnTo>
                <a:lnTo>
                  <a:pt x="0" y="21600"/>
                </a:lnTo>
                <a:close/>
              </a:path>
              <a:path fill="lightenLess" w="44614" h="21600">
                <a:moveTo>
                  <a:pt x="0" y="0"/>
                </a:moveTo>
                <a:lnTo>
                  <a:pt x="44614" y="0"/>
                </a:lnTo>
                <a:lnTo>
                  <a:pt x="43214" y="1400"/>
                </a:lnTo>
                <a:lnTo>
                  <a:pt x="1400" y="1400"/>
                </a:lnTo>
                <a:close/>
              </a:path>
              <a:path fill="darken" w="44614" h="21600">
                <a:moveTo>
                  <a:pt x="44614" y="0"/>
                </a:moveTo>
                <a:lnTo>
                  <a:pt x="44614" y="21600"/>
                </a:lnTo>
                <a:lnTo>
                  <a:pt x="43214" y="20200"/>
                </a:lnTo>
                <a:lnTo>
                  <a:pt x="43214" y="1400"/>
                </a:lnTo>
                <a:close/>
              </a:path>
              <a:path fill="darkenLess" w="44614" h="21600">
                <a:moveTo>
                  <a:pt x="44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14" y="20200"/>
                </a:lnTo>
                <a:close/>
              </a:path>
              <a:path fill="lighten" w="44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14" h="21600">
                <a:moveTo>
                  <a:pt x="15300" y="3794"/>
                </a:moveTo>
                <a:lnTo>
                  <a:pt x="29313" y="10800"/>
                </a:lnTo>
                <a:lnTo>
                  <a:pt x="153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7391520" cy="49352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838080" y="29718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o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rótesi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3">
            <a:hlinkClick r:id="" action="ppaction://hlinkshowjump?jump=nextslide"/>
          </p:cNvPr>
          <p:cNvSpPr/>
          <p:nvPr/>
        </p:nvSpPr>
        <p:spPr>
          <a:xfrm>
            <a:off x="1676520" y="6172200"/>
            <a:ext cx="738000" cy="357120"/>
          </a:xfrm>
          <a:custGeom>
            <a:avLst/>
            <a:gdLst>
              <a:gd name="textAreaLeft" fmla="*/ 23040 w 738000"/>
              <a:gd name="textAreaRight" fmla="*/ 714960 w 7380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4614" h="21600">
                <a:moveTo>
                  <a:pt x="0" y="0"/>
                </a:moveTo>
                <a:lnTo>
                  <a:pt x="44614" y="0"/>
                </a:lnTo>
                <a:lnTo>
                  <a:pt x="44614" y="21600"/>
                </a:lnTo>
                <a:lnTo>
                  <a:pt x="0" y="21600"/>
                </a:lnTo>
                <a:close/>
              </a:path>
              <a:path fill="lightenLess" w="44614" h="21600">
                <a:moveTo>
                  <a:pt x="0" y="0"/>
                </a:moveTo>
                <a:lnTo>
                  <a:pt x="44614" y="0"/>
                </a:lnTo>
                <a:lnTo>
                  <a:pt x="43214" y="1400"/>
                </a:lnTo>
                <a:lnTo>
                  <a:pt x="1400" y="1400"/>
                </a:lnTo>
                <a:close/>
              </a:path>
              <a:path fill="darken" w="44614" h="21600">
                <a:moveTo>
                  <a:pt x="44614" y="0"/>
                </a:moveTo>
                <a:lnTo>
                  <a:pt x="44614" y="21600"/>
                </a:lnTo>
                <a:lnTo>
                  <a:pt x="43214" y="20200"/>
                </a:lnTo>
                <a:lnTo>
                  <a:pt x="43214" y="1400"/>
                </a:lnTo>
                <a:close/>
              </a:path>
              <a:path fill="darkenLess" w="44614" h="21600">
                <a:moveTo>
                  <a:pt x="44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14" y="20200"/>
                </a:lnTo>
                <a:close/>
              </a:path>
              <a:path fill="lighten" w="44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14" h="21600">
                <a:moveTo>
                  <a:pt x="15300" y="3794"/>
                </a:moveTo>
                <a:lnTo>
                  <a:pt x="29313" y="10800"/>
                </a:lnTo>
                <a:lnTo>
                  <a:pt x="153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5013360" y="228600"/>
            <a:ext cx="385272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3:29:31Z</dcterms:created>
  <dc:creator>Boillat Fred</dc:creator>
  <dc:description/>
  <dc:language>en-US</dc:language>
  <cp:lastModifiedBy>Jsotoca</cp:lastModifiedBy>
  <dcterms:modified xsi:type="dcterms:W3CDTF">2013-01-24T09:36:06Z</dcterms:modified>
  <cp:revision>46</cp:revision>
  <dc:subject/>
  <dc:title>Présentation PowerPoint</dc:title>
</cp:coreProperties>
</file>