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ntic%20del%20Ct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D6E-5240-49A4-9D8B-36282C8A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ECE-1115-48AF-A3DD-7196414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1C5-709B-42E2-8E3F-1478860F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78C-DAF2-49AB-ACCE-559940C7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42E-0893-4D45-8CAA-A9833EC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DD7-A7DA-42F2-8689-AFBAA848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AF6-C329-4E6C-8D6D-5403C23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81A-3941-415B-9856-066196A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2AF-07C1-429F-8005-17FD89E1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5C7-2BAF-4DC4-8EAD-A402C95C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27A-700F-4D83-B2C9-B37FAB63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D77-46B1-4B84-BD0C-F9BE500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B94-7F68-449A-9AA2-78CC8518710B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ntic%20del%20Ct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68360" y="60958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eff0a"/>
                </a:solidFill>
                <a:latin typeface="Comic Sans MS"/>
              </a:rPr>
              <a:t>Ciclo </a:t>
            </a:r>
            <a:r>
              <a:rPr b="1" lang="ca-ES" sz="3200" spc="-1" strike="noStrike">
                <a:solidFill>
                  <a:srgbClr val="0eff0a"/>
                </a:solidFill>
                <a:latin typeface="Comic Sans MS"/>
              </a:rPr>
              <a:t>A</a:t>
            </a:r>
            <a:r>
              <a:rPr b="1" lang="ca-ES" sz="3200" spc="-1" strike="noStrike">
                <a:solidFill>
                  <a:srgbClr val="0eff0a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2819520"/>
            <a:ext cx="8839080" cy="183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700" spc="-1" strike="noStrike">
                <a:solidFill>
                  <a:srgbClr val="0eff0a"/>
                </a:solidFill>
                <a:latin typeface="Comic Sans MS"/>
              </a:rPr>
              <a:t>XXII domingo</a:t>
            </a:r>
            <a:br>
              <a:rPr sz="5700"/>
            </a:br>
            <a:r>
              <a:rPr b="1" i="1" lang="ca-ES" sz="5700" spc="-1" strike="noStrike">
                <a:solidFill>
                  <a:srgbClr val="0eff0a"/>
                </a:solidFill>
                <a:latin typeface="Comic Sans MS"/>
              </a:rPr>
              <a:t>Tiempo Ordinario</a:t>
            </a:r>
            <a:endParaRPr b="0" lang="en-US" sz="5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31640" y="4581360"/>
            <a:ext cx="63666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eff0a"/>
                </a:solidFill>
                <a:latin typeface="Comic Sans MS"/>
              </a:rPr>
              <a:t>28 de agosto de 2011</a:t>
            </a:r>
            <a:r>
              <a:rPr b="0" i="1" lang="ca-ES" sz="4800" spc="-1" strike="noStrike">
                <a:solidFill>
                  <a:srgbClr val="0eff0a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353360" y="6335640"/>
            <a:ext cx="166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Luxor,Egip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0eff0a"/>
                </a:solidFill>
                <a:latin typeface="Comic Sans MS"/>
              </a:rPr>
              <a:t>Música: </a:t>
            </a:r>
            <a:r>
              <a:rPr b="1" i="1" lang="ca-ES" sz="2800" spc="-1" strike="noStrike">
                <a:solidFill>
                  <a:srgbClr val="0eff0a"/>
                </a:solidFill>
                <a:latin typeface="Comic Sans MS"/>
              </a:rPr>
              <a:t>Cántico de los cánticos</a:t>
            </a:r>
            <a:r>
              <a:rPr b="1" i="1" lang="ca-ES" sz="32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i="1" lang="ca-ES" sz="2400" spc="-1" strike="noStrike">
                <a:solidFill>
                  <a:srgbClr val="0eff0a"/>
                </a:solidFill>
                <a:latin typeface="Comic Sans MS"/>
              </a:rPr>
              <a:t>(Sinagoga hebrea)</a:t>
            </a:r>
            <a:r>
              <a:rPr b="1" i="1" lang="ca-ES" sz="1800" spc="-1" strike="noStrike">
                <a:solidFill>
                  <a:srgbClr val="0eff0a"/>
                </a:solidFill>
                <a:latin typeface="Comic Sans MS"/>
              </a:rPr>
              <a:t> </a:t>
            </a:r>
            <a:r>
              <a:rPr b="1" lang="ca-ES" sz="1800" spc="-1" strike="noStrike">
                <a:solidFill>
                  <a:srgbClr val="0eff0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  <p:sndAc>
      <p:stSnd>
        <p:snd r:embed="rId2" name="cantic%20del%20Ct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04920" y="260280"/>
            <a:ext cx="8839080" cy="6098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8f020e"/>
                </a:solidFill>
                <a:latin typeface="Comic Sans MS"/>
              </a:rPr>
              <a:t>( Del evangeli según san Mateo )  Mt 16: 21-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entonces comenzó Jesús a manifestar a sus discípulos que tenía que ir a Jerusalén y que tenía que sufrir mucho por causa de los ancianos, los jefes de los sacerdotes y los maestros de la ley; que lo matarían y al tercer día resucitaría.</a:t>
            </a:r>
            <a:br>
              <a:rPr sz="2100"/>
            </a:b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2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onces Pedro, tomándolo aparte, se puso a recriminarle: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Dios no lo quiera, Señor; no te ocurrirá eso.</a:t>
            </a:r>
            <a:br>
              <a:rPr sz="2100"/>
            </a:b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3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o Jesús, volviéndose, dijo a Pedro: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¡Ponte detrás de mí, Satanás! Eres para mí un obstáculo, porque tus pensamientos no son como los de Dios, sino como los de los hombres.</a:t>
            </a:r>
            <a:br>
              <a:rPr sz="2100"/>
            </a:b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4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dirigiéndose a sus discípulos añadió: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Si alguno quiere venir detrás de mí, que renuncie a sí mismo, cargue con su cruz, y me siga. </a:t>
            </a: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5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que el que quiera salvar su vida, la perderá; pero el que pierda su vida por mí, la conservará. </a:t>
            </a: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6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es ¿de qué le sirve al hombre ganar todo el mundo, si pierde su vida? ¿O qué puede dar a cambio de su vida? </a:t>
            </a:r>
            <a:r>
              <a:rPr b="1" i="1" lang="es-ES" sz="21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7</a:t>
            </a:r>
            <a:r>
              <a:rPr b="1" i="1" lang="es-ES" sz="2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Hijo del hombre está a punto de venir con la gloria de su Padre y con sus ángeles. Entonces tratará a cada uno según su conducta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5c5c"/>
            </a:gs>
            <a:gs pos="100000">
              <a:srgbClr val="060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80880" y="4419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Ten piedad de mí, Señor, pues te invoco todo el día;</a:t>
            </a:r>
            <a:br>
              <a:rPr sz="2400"/>
            </a:b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colma de alegría a tu siervo, pues a ti, Señor, me acoj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Tú eres, Señor, bueno e indulgente,</a:t>
            </a:r>
            <a:br>
              <a:rPr sz="2400"/>
            </a:b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eres todo amor para cuantos te invoca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</a:t>
            </a:r>
            <a:r>
              <a:rPr b="0" i="1" lang="ca-ES" sz="16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1200" spc="-1" strike="noStrike">
                <a:solidFill>
                  <a:srgbClr val="ffffff"/>
                </a:solidFill>
                <a:latin typeface="Comic Sans MS"/>
              </a:rPr>
              <a:t>85: 3,5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43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resized_profetaSopocaniServiacw"/>
          <p:cNvPicPr/>
          <p:nvPr/>
        </p:nvPicPr>
        <p:blipFill>
          <a:blip r:embed="rId1"/>
          <a:stretch/>
        </p:blipFill>
        <p:spPr>
          <a:xfrm>
            <a:off x="2556000" y="0"/>
            <a:ext cx="3168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714240" y="133200"/>
            <a:ext cx="7605720" cy="5671440"/>
          </a:xfrm>
          <a:prstGeom prst="rect">
            <a:avLst/>
          </a:prstGeom>
          <a:solidFill>
            <a:srgbClr val="9c6a1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ffffff"/>
                </a:solidFill>
                <a:latin typeface="Arial Unicode MS"/>
              </a:rPr>
              <a:t>Jr 20:7-9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ú me sedujiste, Señor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yo me dejé seducir;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 has violentado y me has podido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e ríen de mí sin cesar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odo el mundo se burla de mí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ada vez que hablo tengo que gritar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 anunciar: «Violencia y opresión»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alabra del Señor se ha convertido para mí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n constante motivo de burla e irrisión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Yo me decía: «No pensaré más en él,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o hablaré más en su nombre»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ero era dentro de mí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omo un fuego devorador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ncerrado en mis huesos;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e esforzaba en contenerlo, pero no podí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28920" y="6021360"/>
            <a:ext cx="6607080" cy="1007640"/>
          </a:xfrm>
          <a:prstGeom prst="rect">
            <a:avLst/>
          </a:prstGeom>
          <a:solidFill>
            <a:srgbClr val="9c6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ffffff"/>
                </a:solidFill>
                <a:latin typeface="Arial Unicode MS"/>
              </a:rPr>
              <a:t>Jeremías. Iglesia de Sopocani. Serbi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&#10;Luxor5.jpg 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04200" y="304920"/>
            <a:ext cx="308700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25ff11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ffffff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62</a:t>
            </a:r>
            <a:r>
              <a:rPr b="1" i="1" lang="ca-ES" sz="3200" spc="-1" strike="noStrike">
                <a:solidFill>
                  <a:srgbClr val="25ff1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720800"/>
            <a:ext cx="8915400" cy="128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Oh Dios, tú eres mi Dios, desde el alba te deseo;</a:t>
            </a:r>
            <a:br>
              <a:rPr sz="2600"/>
            </a:br>
            <a:r>
              <a:rPr b="1" i="1" lang="es-ES" sz="2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toy sediento de ti, por ti desfallezco,</a:t>
            </a:r>
            <a:br>
              <a:rPr sz="2600"/>
            </a:br>
            <a:r>
              <a:rPr b="1" i="1" lang="es-ES" sz="26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mo tierra reseca, agostada, sin agua.</a:t>
            </a:r>
            <a:r>
              <a:rPr b="1" i="1" lang="es-E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62120" y="5181480"/>
            <a:ext cx="7010280" cy="1068840"/>
          </a:xfrm>
          <a:prstGeom prst="rect">
            <a:avLst/>
          </a:prstGeom>
          <a:solidFill>
            <a:srgbClr val="060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629400"/>
            <a:ext cx="1752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x000b_Karnak3.jpg 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28600" y="1660680"/>
            <a:ext cx="86868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a1a05"/>
                </a:solidFill>
                <a:latin typeface="Comic Sans MS"/>
                <a:ea typeface="Times New Roman"/>
              </a:rPr>
              <a:t>Quisiera contemplarte en tu santuario, ver tu poder y tu gloria.</a:t>
            </a:r>
            <a:br>
              <a:rPr sz="2800"/>
            </a:br>
            <a:r>
              <a:rPr b="1" i="1" lang="es-ES" sz="2800" spc="-1" strike="noStrike">
                <a:solidFill>
                  <a:srgbClr val="ba1a05"/>
                </a:solidFill>
                <a:latin typeface="Comic Sans MS"/>
                <a:ea typeface="Times New Roman"/>
              </a:rPr>
              <a:t>Tu amor vale más que la vida, te alabarán mis labio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73800" y="4910040"/>
            <a:ext cx="6182280" cy="1191240"/>
          </a:xfrm>
          <a:prstGeom prst="rect">
            <a:avLst/>
          </a:prstGeom>
          <a:solidFill>
            <a:srgbClr val="ba1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94440" y="609444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6629400"/>
            <a:ext cx="19810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_x000b_Luxor7w.jpg                                                    00000013_x000c_Macintosh HD                   B9BE4824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762120" y="1463760"/>
            <a:ext cx="80769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Te bendeciré mientras viva, </a:t>
            </a:r>
            <a:br>
              <a:rPr sz="2800"/>
            </a:b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te invocaré alzando mis manos.</a:t>
            </a:r>
            <a:br>
              <a:rPr sz="2800"/>
            </a:b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Me saciaré como en espléndido banquete,</a:t>
            </a:r>
            <a:br>
              <a:rPr sz="2800"/>
            </a:br>
            <a:r>
              <a:rPr b="1" i="1" lang="es-ES" sz="2800" spc="-1" strike="noStrike">
                <a:solidFill>
                  <a:srgbClr val="0a6611"/>
                </a:solidFill>
                <a:latin typeface="Comic Sans MS"/>
                <a:ea typeface="Times New Roman"/>
              </a:rPr>
              <a:t>y mi boca te alabará con júbilo en los labios.</a:t>
            </a:r>
            <a:r>
              <a:rPr b="1" i="1" lang="es-ES" sz="2800" spc="-1" strike="noStrike">
                <a:solidFill>
                  <a:srgbClr val="0a66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46800" y="4681440"/>
            <a:ext cx="6182280" cy="1191240"/>
          </a:xfrm>
          <a:prstGeom prst="rect">
            <a:avLst/>
          </a:prstGeom>
          <a:solidFill>
            <a:srgbClr val="0a66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7086600" y="6553080"/>
            <a:ext cx="2057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_x000c_Luxor4ww.jpg 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3520" y="1025640"/>
            <a:ext cx="84582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b07ff"/>
                </a:solidFill>
                <a:latin typeface="Comic Sans MS"/>
                <a:ea typeface="Times New Roman"/>
              </a:rPr>
              <a:t>Porque tú has sido mi ayuda,</a:t>
            </a:r>
            <a:br>
              <a:rPr sz="3200"/>
            </a:br>
            <a:r>
              <a:rPr b="1" i="1" lang="es-ES" sz="3200" spc="-1" strike="noStrike">
                <a:solidFill>
                  <a:srgbClr val="fb07ff"/>
                </a:solidFill>
                <a:latin typeface="Comic Sans MS"/>
                <a:ea typeface="Times New Roman"/>
              </a:rPr>
              <a:t>y a la sombra de tus alas grito de júbilo.</a:t>
            </a:r>
            <a:br>
              <a:rPr sz="3200"/>
            </a:br>
            <a:r>
              <a:rPr b="1" i="1" lang="es-ES" sz="3200" spc="-1" strike="noStrike">
                <a:solidFill>
                  <a:srgbClr val="fb07ff"/>
                </a:solidFill>
                <a:latin typeface="Comic Sans MS"/>
                <a:ea typeface="Times New Roman"/>
              </a:rPr>
              <a:t>Estoy unido a ti, tu diestra me sostie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70480" y="4605480"/>
            <a:ext cx="6182280" cy="1191240"/>
          </a:xfrm>
          <a:prstGeom prst="rect">
            <a:avLst/>
          </a:prstGeom>
          <a:solidFill>
            <a:srgbClr val="fb0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Mi alma está sedienta de ti,</a:t>
            </a:r>
            <a:br>
              <a:rPr sz="3600"/>
            </a:br>
            <a:r>
              <a:rPr b="1" i="1" lang="ca-ES" sz="3600" spc="-1" strike="noStrike">
                <a:solidFill>
                  <a:srgbClr val="ffffff"/>
                </a:solidFill>
                <a:latin typeface="Comic Sans MS"/>
              </a:rPr>
              <a:t>Señor, Dios mí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50920" y="36360"/>
            <a:ext cx="864216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ca-ES" sz="2000" spc="-1" strike="noStrike">
                <a:solidFill>
                  <a:srgbClr val="000000"/>
                </a:solidFill>
                <a:latin typeface="Comic Sans MS"/>
              </a:rPr>
              <a:t>(sigue </a:t>
            </a: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CARTA A LOS ROMANOS </a:t>
            </a:r>
            <a:r>
              <a:rPr b="0" lang="ca-ES" sz="2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El misterio de la incredulidad judí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- A pesar del pecado actual de Israel, el PLAN de Salvación de Dios es UNIVERSAL 9-11 </a:t>
            </a:r>
            <a:r>
              <a:rPr b="1" lang="es-ES" sz="1800" spc="-1" strike="noStrike">
                <a:solidFill>
                  <a:srgbClr val="f29c00"/>
                </a:solidFill>
                <a:latin typeface="Arial Unicode MS"/>
              </a:rPr>
              <a:t>Domingos 19-20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                      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II PARTE 12-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 Unicode MS"/>
              </a:rPr>
              <a:t>Nos tenemos que amar ya que TODOS somos Hijos de Dios y SALV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Después de haber visto la misericordia de Dios en la 1ª parte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- Ofrezcámosle el culto de nuestra CARIDAD hacia los hermanos, ya que AMAR 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la plenitud de la ley 12-13</a:t>
            </a:r>
            <a:r>
              <a:rPr b="1" lang="es-ES" sz="1600" spc="-1" strike="noStrike">
                <a:solidFill>
                  <a:srgbClr val="f29c00"/>
                </a:solidFill>
                <a:latin typeface="Arial Unicode MS"/>
              </a:rPr>
              <a:t>  </a:t>
            </a:r>
            <a:r>
              <a:rPr b="1" lang="es-ES" sz="1800" spc="-1" strike="noStrike">
                <a:solidFill>
                  <a:srgbClr val="f29c00"/>
                </a:solidFill>
                <a:latin typeface="Arial Unicode MS"/>
              </a:rPr>
              <a:t>Domingo  21</a:t>
            </a: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- Respetémonos mutuamente, ya que todos "somos del Señor": los débiles y los fuertes 14-15,13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             CONCLUSIÓN 15,14 a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 Unicode MS"/>
              </a:rPr>
              <a:t>El PLAN de Dios es la Buena Nue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Pablo lo ha anunciado a los paganos para que puedan ser presentados a Dios como una Ofrenda agrad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9640" y="5638680"/>
            <a:ext cx="7918560" cy="95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5638680"/>
            <a:ext cx="77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Gloria a Aquél que tiene poder de confirmarnos en la Buena Nueva que es la revelación del PLAN escondido en el silenci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de los sigl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resized_profeta9wn"/>
          <p:cNvPicPr/>
          <p:nvPr/>
        </p:nvPicPr>
        <p:blipFill>
          <a:blip r:embed="rId1"/>
          <a:stretch/>
        </p:blipFill>
        <p:spPr>
          <a:xfrm>
            <a:off x="1476360" y="0"/>
            <a:ext cx="498492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428760" y="571680"/>
            <a:ext cx="8378640" cy="4205520"/>
          </a:xfrm>
          <a:prstGeom prst="rect">
            <a:avLst/>
          </a:prstGeom>
          <a:solidFill>
            <a:srgbClr val="bbe0e3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 Unicode MS"/>
              </a:rPr>
              <a:t>Rm 12:1-2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s pido, pues, hermanos, por la misericordia de Dios, que os ofrezcáis como sacrificio vivo, santo y agradable a Dios. Este ha de ser vuestro auténtico culto. No os acomodéis a los criterios de este mundo; al contrario, transformaos, renovad vuestro interior, para que podáis descubrir cuál es la voluntad de Dios, qué es lo bueno, lo que le agrada, lo perfecto</a:t>
            </a:r>
            <a:r>
              <a:rPr b="0" lang="es-ES" sz="3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34600" y="6021360"/>
            <a:ext cx="2683080" cy="550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Transformao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447920" y="5562720"/>
            <a:ext cx="42670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be0e3"/>
                </a:solidFill>
                <a:latin typeface="Comic Sans MS"/>
              </a:rPr>
              <a:t>Los amigos de D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8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8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&#13;Pyramids2.jpg                                                  00000013_x000c_Macintosh HD                   B9BE4824: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932400" y="609480"/>
            <a:ext cx="794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85060f"/>
                </a:solidFill>
                <a:latin typeface="Comic Sans MS"/>
              </a:rPr>
              <a:t>Aleluya  Ef 1:17-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El Padre de Nuestro Señor Jesucristo ilumine </a:t>
            </a:r>
            <a:br>
              <a:rPr sz="2400"/>
            </a:b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los ojos de nuestro corazón, para que comprendamos </a:t>
            </a:r>
            <a:br>
              <a:rPr sz="2400"/>
            </a:br>
            <a:r>
              <a:rPr b="1" i="1" lang="ca-ES" sz="2400" spc="-1" strike="noStrike">
                <a:solidFill>
                  <a:srgbClr val="000000"/>
                </a:solidFill>
                <a:latin typeface="Comic Sans MS"/>
              </a:rPr>
              <a:t>cuál es la esperanza a la que nos lla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2280" y="6400800"/>
            <a:ext cx="2590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Pirámides. Egip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9:27:35Z</dcterms:created>
  <dc:creator>JOAN RAMIREZ</dc:creator>
  <dc:description/>
  <dc:language>en-US</dc:language>
  <cp:lastModifiedBy>REGINA</cp:lastModifiedBy>
  <dcterms:modified xsi:type="dcterms:W3CDTF">2011-08-14T16:27:55Z</dcterms:modified>
  <cp:revision>17</cp:revision>
  <dc:subject/>
  <dc:title>Presentación de PowerPoint</dc:title>
</cp:coreProperties>
</file>