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02-Muttley%20Laugh.wav" ContentType="audio/x-wav"/>
  <Override PartName="/ppt/media/image4.jpeg" ContentType="image/jpeg"/>
  <Override PartName="/ppt/media/image15.jpeg" ContentType="image/jpeg"/>
  <Override PartName="/ppt/media/image14.jpeg" ContentType="image/jpeg"/>
  <Override PartName="/ppt/media/image13.jpeg" ContentType="image/jpeg"/>
  <Override PartName="/ppt/media/110-Euprecisotefalar.wav" ContentType="audio/x-wav"/>
  <Override PartName="/ppt/media/image1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1CECA-D00A-469B-B8E3-10300B4E2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EB682-A17A-4658-A745-67C459D6C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15E06-7A5C-4124-A6A8-F7A50674C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FEB42-E5D1-42F7-8ED1-06EB2377A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304DB-E16B-41F9-A267-82189832B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C6F93-FB75-4FE6-8267-B5922C9F2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D59DE-0508-4C49-8183-B599AB0B5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48665-7335-474B-AEC1-CED1B7A88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026DB-E760-4F28-9C5D-7E3B4DE92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3F3F6-20FE-4210-99F2-BC75B6BC3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D3CED-FA3C-4C30-B68F-4590E0817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F4346-4A49-4A2A-B418-6468685FE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7DCAF-72EA-416E-8E15-42237F82A4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110-Euprecisotefalar.wav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02-Muttley%20Laugh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435880" cy="531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Diferentes nudos </a:t>
            </a:r>
            <a:br>
              <a:rPr sz="4400"/>
            </a:b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para atarse las zapatill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523960" y="2152800"/>
            <a:ext cx="4096080" cy="34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523960" y="2152800"/>
            <a:ext cx="4096080" cy="34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523960" y="2152800"/>
            <a:ext cx="4096080" cy="34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523960" y="2152800"/>
            <a:ext cx="4096080" cy="34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523960" y="2152800"/>
            <a:ext cx="4096080" cy="34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523960" y="2152800"/>
            <a:ext cx="4096080" cy="34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2523960" y="2152800"/>
            <a:ext cx="4096080" cy="34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Confieso que no sabia</a:t>
            </a:r>
            <a:br>
              <a:rPr sz="4000"/>
            </a:b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cuantas variantes hab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0000"/>
                </a:solidFill>
                <a:latin typeface="Arial"/>
              </a:rPr>
              <a:t>Y ESTE …!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380960" y="0"/>
            <a:ext cx="63820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523960" y="2152800"/>
            <a:ext cx="4096080" cy="34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523960" y="2152800"/>
            <a:ext cx="4096080" cy="34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523960" y="2152800"/>
            <a:ext cx="4096080" cy="34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23960" y="1490760"/>
            <a:ext cx="4096080" cy="34192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523960" y="2152800"/>
            <a:ext cx="4096080" cy="34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523960" y="2152800"/>
            <a:ext cx="4096080" cy="34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523960" y="2152800"/>
            <a:ext cx="4096080" cy="34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523960" y="2152800"/>
            <a:ext cx="4096080" cy="34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5T02:10:38Z</dcterms:created>
  <dc:creator>João Carlos Amodio</dc:creator>
  <dc:description/>
  <dc:language>en-US</dc:language>
  <cp:lastModifiedBy>Etorki</cp:lastModifiedBy>
  <dcterms:modified xsi:type="dcterms:W3CDTF">2008-06-14T18:38:34Z</dcterms:modified>
  <cp:revision>4</cp:revision>
  <dc:subject/>
  <dc:title>    Você sabe colocar corretamente os cadarços em seu tênis!!! Sabe mesmo??? Vamos Checar!!!</dc:title>
</cp:coreProperties>
</file>