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02-Muttley%20Laugh.wav" ContentType="audio/x-wav"/>
  <Override PartName="/ppt/media/image4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110-Euprecisotefalar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7B2-5D62-4D4B-B4D5-BFA80AE6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BC1-86C5-4ACD-AF5D-2D1C3209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BAA-6B0B-41A8-9A57-E8E226C7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1C8-15D2-48B8-ACA5-0F06EBD3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F8C-D504-484B-B120-9CBF0157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D27-B4D0-4B31-A298-64A94F75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D6C-6B2D-4349-AD15-0A127E33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393-5553-4500-9A46-92E6ADB7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750-A0C5-458B-9121-98127697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334-9EC6-49CF-980C-483DCC6D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9D9-2EC6-4918-9679-0B190E7E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950-6B58-45B9-8E93-FC2405AA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0FC6-6671-4F7B-83A8-068B6AC7B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10-Euprecisotefalar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02-Muttley%20Laug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iferentes nudos 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a atarse las zapati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fieso que no sabia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uantas variantes hab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Y ESTE …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80960" y="0"/>
            <a:ext cx="638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23960" y="1490760"/>
            <a:ext cx="4096080" cy="3419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2:10:38Z</dcterms:created>
  <dc:creator>João Carlos Amodio</dc:creator>
  <dc:description/>
  <dc:language>en-US</dc:language>
  <cp:lastModifiedBy>Etorki</cp:lastModifiedBy>
  <dcterms:modified xsi:type="dcterms:W3CDTF">2008-06-14T18:38:34Z</dcterms:modified>
  <cp:revision>4</cp:revision>
  <dc:subject/>
  <dc:title>    Você sabe colocar corretamente os cadarços em seu tênis!!! Sabe mesmo??? Vamos Checar!!!</dc:title>
</cp:coreProperties>
</file>