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0.jpeg" ContentType="image/jpeg"/>
  <Override PartName="/ppt/media/Fafa%20de%20Belem%20-%20Se_Voce_Quer.wav" ContentType="audio/x-wav"/>
  <Override PartName="/ppt/media/image23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4.jpeg" ContentType="image/jpeg"/>
  <Override PartName="/ppt/media/image46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6B2-193E-4EA1-BAFC-7DCB934E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E6D-6AA0-434A-968E-4A76E72A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C4A-6E84-4A18-B555-9CD330F2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43A-5545-45BF-806E-9CA560FD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1BA-58A6-4C9D-B591-D5B67456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667-2880-4C5F-86B0-F5BE0EFB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1EE-E30D-47DA-AA7A-C4A080AD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769-0315-4707-990C-2BB0F49C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AEB-5D47-477D-BB8A-32FE55D7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CBE-7E80-4621-9CCB-E6BD9F8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99F-17E7-4002-80A4-AD466A8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6CF-0CEB-44B1-84A3-5BD5B59E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5598-216B-492E-8A5D-EA5106C5667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Fafa%20de%20Belem%20-%20Se_Voce_Quer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17960" y="4816440"/>
            <a:ext cx="511344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100" spc="-1" strike="noStrike">
                <a:solidFill>
                  <a:srgbClr val="ff0000"/>
                </a:solidFill>
                <a:latin typeface="Garamond"/>
              </a:rPr>
              <a:t>PATRÍCIA ARAÚJ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4b4e6"/>
                </a:solidFill>
                <a:latin typeface="Garamond"/>
              </a:rPr>
              <a:t>MUSA FASHION RIO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200" y="122400"/>
            <a:ext cx="3881520" cy="666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05480" y="-22320"/>
            <a:ext cx="3693960" cy="467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88000" y="60865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Arial"/>
              </a:rPr>
              <a:t>1.80 m.</a:t>
            </a:r>
            <a:r>
              <a:rPr b="0" i="1" lang="es-PE" sz="1800" spc="-1" strike="noStrike">
                <a:solidFill>
                  <a:srgbClr val="ccff66"/>
                </a:solidFill>
                <a:latin typeface="Arial"/>
              </a:rPr>
              <a:t> (estatura) </a:t>
            </a:r>
            <a:r>
              <a:rPr b="0" i="1" lang="es-PE" sz="1800" spc="-1" strike="noStrike">
                <a:solidFill>
                  <a:srgbClr val="ffffff"/>
                </a:solidFill>
                <a:latin typeface="Arial"/>
              </a:rPr>
              <a:t>y 68 Kg.</a:t>
            </a:r>
            <a:r>
              <a:rPr b="0" i="1" lang="es-PE" sz="1800" spc="-1" strike="noStrike">
                <a:solidFill>
                  <a:srgbClr val="ccff66"/>
                </a:solidFill>
                <a:latin typeface="Arial"/>
              </a:rPr>
              <a:t> (pe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vert"/>
    <p:sndAc>
      <p:stSnd>
        <p:snd r:embed="rId3" name="Fafa%20de%20Belem%20-%20Se_Voce_Qu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-11160"/>
            <a:ext cx="4410000" cy="6958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07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8542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49640" y="0"/>
            <a:ext cx="4644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51240" y="0"/>
            <a:ext cx="4476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7760" y="42840"/>
            <a:ext cx="4848480" cy="6772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47760" y="42840"/>
            <a:ext cx="4848480" cy="6772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47760" y="42840"/>
            <a:ext cx="4848480" cy="6772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47760" y="42840"/>
            <a:ext cx="4848480" cy="6772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4632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78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440" y="237960"/>
            <a:ext cx="8785440" cy="2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100" spc="-1" strike="noStrike">
                <a:solidFill>
                  <a:srgbClr val="ccff66"/>
                </a:solidFill>
                <a:latin typeface="Garamond"/>
              </a:rPr>
              <a:t>Patricia Araujo, carioca (nacida en Río de Janeiro) tiene 25 años, es una de las modelos más famosas del Brasil. Aparte de ser bella, joven y de poseer un cuerpo envidiable es también novia de un jugador de fútbol de la selección Brasilera "ADRIANO"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2046240"/>
            <a:ext cx="5616720" cy="48132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36600"/>
            <a:ext cx="9252000" cy="6257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8200" y="1484280"/>
            <a:ext cx="83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Hasta aquí... Todo es normal. No tiene nada de raro que una hermosa modelo sea novia de un jugador de fútbol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8200" y="2413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perooo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8480" y="30621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si, si así como lo leen ¡¡¡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Patricia Araujo</a:t>
            </a: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 o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Felipe Araujo</a:t>
            </a: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 es el transexual más famoso de Brasil!!!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4640" y="24130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esta chica no es una ch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75560" y="2413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es un "chico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8200" y="24098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per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42814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Si tienes alguna duda veamos las siguientes fotografías.</a:t>
            </a:r>
            <a:r>
              <a:rPr b="0" i="1" lang="es-ES" sz="1800" spc="-1" strike="noStrike">
                <a:solidFill>
                  <a:srgbClr val="93b1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5300640"/>
            <a:ext cx="4032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3000">
    <p:randomBar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"/>
                            </p:stCondLst>
                            <p:childTnLst>
                              <p:par>
                                <p:cTn id="385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0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85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11480" y="0"/>
            <a:ext cx="4721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62160" y="95400"/>
            <a:ext cx="481968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71800" y="95400"/>
            <a:ext cx="500040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76640" y="95400"/>
            <a:ext cx="459072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95480" y="95400"/>
            <a:ext cx="515304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19160" y="95400"/>
            <a:ext cx="530568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5640" y="95400"/>
            <a:ext cx="475272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4440" y="314280"/>
            <a:ext cx="8115120" cy="622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65240" y="-11160"/>
            <a:ext cx="515160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71800" y="95400"/>
            <a:ext cx="500040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3b1dd"/>
                </a:solidFill>
                <a:latin typeface="Arial"/>
              </a:rPr>
              <a:t>Después de ver las imágen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155680"/>
            <a:ext cx="761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3b1dd"/>
                </a:solidFill>
                <a:latin typeface="Arial"/>
              </a:rPr>
              <a:t>Tu que crees... ¿es un desperdici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6320" y="3201840"/>
            <a:ext cx="360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3b1dd"/>
                </a:solidFill>
                <a:latin typeface="Arial"/>
              </a:rPr>
              <a:t>¿como homb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9080" y="3201840"/>
            <a:ext cx="574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93b1dd"/>
                </a:solidFill>
                <a:latin typeface="Arial"/>
              </a:rPr>
              <a:t>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3240000"/>
            <a:ext cx="36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3b1dd"/>
                </a:solidFill>
                <a:latin typeface="Arial"/>
              </a:rPr>
              <a:t>¿como mujer.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4724280"/>
            <a:ext cx="489600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DE4E-62C8-438F-ACB4-CC0DD062D902}" type="datetime10">
              <a:rPr b="1" lang="es-ES" sz="4400" spc="-1" strike="noStrike">
                <a:solidFill>
                  <a:srgbClr val="ff0000"/>
                </a:solidFill>
                <a:latin typeface="Garamond"/>
                <a:ea typeface="Arial"/>
              </a:rPr>
              <a:t>16:44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D3D5-E5C5-425A-9A1E-4A63E0BBE112}" type="datetime3">
              <a:rPr b="1" lang="es-ES" sz="2800" spc="-1" strike="noStrike">
                <a:solidFill>
                  <a:srgbClr val="ebd7c3"/>
                </a:solidFill>
                <a:latin typeface="Garamond"/>
                <a:ea typeface="Arial"/>
              </a:rPr>
              <a:t>31 de julio de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500"/>
                            </p:stCondLst>
                            <p:childTnLst>
                              <p:par>
                                <p:cTn id="542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85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4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934920"/>
            <a:ext cx="6875640" cy="5158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71800" y="95400"/>
            <a:ext cx="500040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1:57:43Z</dcterms:created>
  <dc:creator>Paulo Roberto Wortmann</dc:creator>
  <dc:description/>
  <dc:language>en-US</dc:language>
  <cp:lastModifiedBy>Carlos Augusto Matienzo Flores</cp:lastModifiedBy>
  <dcterms:modified xsi:type="dcterms:W3CDTF">2009-11-07T21:30:00Z</dcterms:modified>
  <cp:revision>18</cp:revision>
  <dc:subject/>
  <dc:title>Slide 1</dc:title>
</cp:coreProperties>
</file>