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3.jpeg" ContentType="image/jpeg"/>
  <Override PartName="/ppt/media/image40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0.jpeg" ContentType="image/jpeg"/>
  <Override PartName="/ppt/media/Fafa%20de%20Belem%20-%20Se_Voce_Quer.wav" ContentType="audio/x-wav"/>
  <Override PartName="/ppt/media/image23.jpeg" ContentType="image/jpeg"/>
  <Override PartName="/ppt/media/image9.jpeg" ContentType="image/jpeg"/>
  <Override PartName="/ppt/media/image11.jpeg" ContentType="image/jpeg"/>
  <Override PartName="/ppt/media/image2.jpeg" ContentType="image/jpeg"/>
  <Override PartName="/ppt/media/image36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45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43.jpeg" ContentType="image/jpeg"/>
  <Override PartName="/ppt/media/image29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44.jpeg" ContentType="image/jpeg"/>
  <Override PartName="/ppt/media/image46.jpeg" ContentType="image/jpeg"/>
  <Override PartName="/ppt/media/image34.png" ContentType="image/png"/>
  <Override PartName="/ppt/media/image12.jpeg" ContentType="image/jpeg"/>
  <Override PartName="/ppt/media/image3.jpeg" ContentType="image/jpeg"/>
  <Override PartName="/ppt/media/image37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D8E08-8F14-4C6E-B3E4-514DA9A6E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F6580-8463-4CC2-9457-CF868A3CA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3AC63-1A09-46FA-A907-21EE287F7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96598-4660-47DC-A548-C514ADF9A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8B0A3-282C-4D75-B644-D4961FFA9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29CBC-E82E-4828-A7D2-48ABB1330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DC4FE-04B1-4D5F-8C62-E66557370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36635-D4E7-40A3-AF01-D51131883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68E38-A470-4F31-85D9-59FF0B3E7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561AB-7707-43DE-B1D3-846A973D8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3BA61-6A4B-43E5-8C16-E253DDE7C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0B8A6-7C7A-4CB6-B20C-3585E489F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9103D-E69E-4593-AC2A-252908316F73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audio" Target="../media/Fafa%20de%20Belem%20-%20Se_Voce_Quer.wav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2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2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2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2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2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2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017960" y="4816440"/>
            <a:ext cx="5113440" cy="120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100" spc="-1" strike="noStrike">
                <a:solidFill>
                  <a:srgbClr val="ff0000"/>
                </a:solidFill>
                <a:latin typeface="Garamond"/>
              </a:rPr>
              <a:t>PATRÍCIA ARAÚJO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b4b4e6"/>
                </a:solidFill>
                <a:latin typeface="Garamond"/>
              </a:rPr>
              <a:t>MUSA FASHION RIO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06200" y="122400"/>
            <a:ext cx="3881520" cy="66690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5505480" y="-22320"/>
            <a:ext cx="3693960" cy="46753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4788000" y="6086520"/>
            <a:ext cx="36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PE" sz="1800" spc="-1" strike="noStrike">
                <a:solidFill>
                  <a:srgbClr val="ffffff"/>
                </a:solidFill>
                <a:latin typeface="Arial"/>
              </a:rPr>
              <a:t>1.80 m.</a:t>
            </a:r>
            <a:r>
              <a:rPr b="0" i="1" lang="es-PE" sz="1800" spc="-1" strike="noStrike">
                <a:solidFill>
                  <a:srgbClr val="ccff66"/>
                </a:solidFill>
                <a:latin typeface="Arial"/>
              </a:rPr>
              <a:t> (estatura) </a:t>
            </a:r>
            <a:r>
              <a:rPr b="0" i="1" lang="es-PE" sz="1800" spc="-1" strike="noStrike">
                <a:solidFill>
                  <a:srgbClr val="ffffff"/>
                </a:solidFill>
                <a:latin typeface="Arial"/>
              </a:rPr>
              <a:t>y 68 Kg.</a:t>
            </a:r>
            <a:r>
              <a:rPr b="0" i="1" lang="es-PE" sz="1800" spc="-1" strike="noStrike">
                <a:solidFill>
                  <a:srgbClr val="ccff66"/>
                </a:solidFill>
                <a:latin typeface="Arial"/>
              </a:rPr>
              <a:t> (pes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6000">
    <p:randomBar dir="vert"/>
    <p:sndAc>
      <p:stSnd>
        <p:snd r:embed="rId3" name="Fafa%20de%20Belem%20-%20Se_Voce_Quer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3000"/>
                            </p:stCondLst>
                            <p:childTnLst>
                              <p:par>
                                <p:cTn id="20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7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7000"/>
                            </p:stCondLst>
                            <p:childTnLst>
                              <p:par>
                                <p:cTn id="31" nodeType="afterEffect" fill="hold" presetClass="entr" presetID="19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484360" y="-11160"/>
            <a:ext cx="4410000" cy="695808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randomBar dir="vert"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268360" y="0"/>
            <a:ext cx="460728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randomBar dir="vert"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274840" y="0"/>
            <a:ext cx="459432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randomBar dir="vert"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0016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randomBar dir="vert"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00016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randomBar dir="vert"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144880" y="0"/>
            <a:ext cx="485424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randomBar dir="vert"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00016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randomBar dir="vert"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00016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randomBar dir="vert"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001960" y="0"/>
            <a:ext cx="514008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randomBar dir="vert"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249640" y="0"/>
            <a:ext cx="464472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randomBar dir="vert"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451240" y="0"/>
            <a:ext cx="44766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randomBar dir="vert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001960" y="0"/>
            <a:ext cx="514008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randomBar dir="vert"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147760" y="42840"/>
            <a:ext cx="4848480" cy="677232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randomBar dir="vert"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0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147760" y="42840"/>
            <a:ext cx="4848480" cy="677232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randomBar dir="vert"/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0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147760" y="42840"/>
            <a:ext cx="4848480" cy="677232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randomBar dir="vert"/>
  </p:transition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0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147760" y="42840"/>
            <a:ext cx="4848480" cy="677232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randomBar dir="vert"/>
  </p:transition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0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146320" y="0"/>
            <a:ext cx="485136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randomBar dir="vert"/>
  </p:transition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0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200016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randomBar dir="vert"/>
  </p:transition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2178000" y="0"/>
            <a:ext cx="4788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randomBar dir="vert"/>
  </p:transition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0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2292480" y="0"/>
            <a:ext cx="455904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randomBar dir="vert"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200016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randomBar dir="vert"/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0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90440" y="237960"/>
            <a:ext cx="8785440" cy="235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100" spc="-1" strike="noStrike">
                <a:solidFill>
                  <a:srgbClr val="ccff66"/>
                </a:solidFill>
                <a:latin typeface="Garamond"/>
              </a:rPr>
              <a:t>Patricia Araujo, carioca (nacida en Río de Janeiro) tiene 25 años, es una de las modelos más famosas del Brasil. Aparte de ser bella, joven y de poseer un cuerpo envidiable es también novia de un jugador de fútbol de la selección Brasilera "ADRIANO"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763640" y="2046240"/>
            <a:ext cx="5616720" cy="4813200"/>
          </a:xfrm>
          <a:prstGeom prst="rect">
            <a:avLst/>
          </a:prstGeom>
          <a:ln w="0">
            <a:noFill/>
          </a:ln>
        </p:spPr>
      </p:pic>
    </p:spTree>
  </p:cSld>
  <p:transition spd="slow" advTm="13000">
    <p:randomBar dir="vert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3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3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3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3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5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3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randomBar dir="vert"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46080"/>
            <a:ext cx="9144000" cy="676584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randomBar dir="vert"/>
  </p:transition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0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336600"/>
            <a:ext cx="9252000" cy="625788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randomBar dir="vert"/>
  </p:transition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0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136440"/>
            <a:ext cx="9144000" cy="658512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randomBar dir="vert"/>
  </p:transition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0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124000" y="0"/>
            <a:ext cx="514836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randomBar dir="vert"/>
  </p:transition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8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38200" y="1484280"/>
            <a:ext cx="8354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93b1dd"/>
                </a:solidFill>
                <a:latin typeface="Arial"/>
              </a:rPr>
              <a:t>Hasta aquí... Todo es normal. No tiene nada de raro que una hermosa modelo sea novia de un jugador de fútbol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38200" y="241308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93b1dd"/>
                </a:solidFill>
                <a:latin typeface="Arial"/>
              </a:rPr>
              <a:t>peroooo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28480" y="3062160"/>
            <a:ext cx="813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93b1dd"/>
                </a:solidFill>
                <a:latin typeface="Arial"/>
              </a:rPr>
              <a:t>si, si así como lo leen ¡¡¡</a:t>
            </a:r>
            <a:r>
              <a:rPr b="0" i="1" lang="es-ES" sz="2400" spc="-1" strike="noStrike">
                <a:solidFill>
                  <a:srgbClr val="ff0000"/>
                </a:solidFill>
                <a:latin typeface="Arial"/>
              </a:rPr>
              <a:t>Patricia Araujo</a:t>
            </a:r>
            <a:r>
              <a:rPr b="0" i="1" lang="es-ES" sz="2400" spc="-1" strike="noStrike">
                <a:solidFill>
                  <a:srgbClr val="93b1dd"/>
                </a:solidFill>
                <a:latin typeface="Arial"/>
              </a:rPr>
              <a:t> o </a:t>
            </a:r>
            <a:r>
              <a:rPr b="0" i="1" lang="es-ES" sz="2400" spc="-1" strike="noStrike">
                <a:solidFill>
                  <a:srgbClr val="ff0000"/>
                </a:solidFill>
                <a:latin typeface="Arial"/>
              </a:rPr>
              <a:t>Felipe Araujo</a:t>
            </a:r>
            <a:r>
              <a:rPr b="0" i="1" lang="es-ES" sz="2400" spc="-1" strike="noStrike">
                <a:solidFill>
                  <a:srgbClr val="93b1dd"/>
                </a:solidFill>
                <a:latin typeface="Arial"/>
              </a:rPr>
              <a:t> es el transexual más famoso de Brasil!!!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14640" y="2413080"/>
            <a:ext cx="388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93b1dd"/>
                </a:solidFill>
                <a:latin typeface="Arial"/>
              </a:rPr>
              <a:t>esta chica no es una chica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775560" y="2413080"/>
            <a:ext cx="21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93b1dd"/>
                </a:solidFill>
                <a:latin typeface="Arial"/>
              </a:rPr>
              <a:t>es un "chico"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978200" y="2409840"/>
            <a:ext cx="11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93b1dd"/>
                </a:solidFill>
                <a:latin typeface="Arial"/>
              </a:rPr>
              <a:t>pero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39640" y="4281480"/>
            <a:ext cx="79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93b1dd"/>
                </a:solidFill>
                <a:latin typeface="Arial"/>
              </a:rPr>
              <a:t>Si tienes alguna duda veamos las siguientes fotografías.</a:t>
            </a:r>
            <a:r>
              <a:rPr b="0" i="1" lang="es-ES" sz="1800" spc="-1" strike="noStrike">
                <a:solidFill>
                  <a:srgbClr val="93b1dd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284720" y="5300640"/>
            <a:ext cx="403236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3000">
    <p:randomBar dir="vert"/>
  </p:transition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0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3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3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3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3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3000"/>
                            </p:stCondLst>
                            <p:childTnLst>
                              <p:par>
                                <p:cTn id="380" nodeType="afterEffect" fill="hold" presetClass="entr" presetID="23" presetSubtype="16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7000"/>
                            </p:stCondLst>
                            <p:childTnLst>
                              <p:par>
                                <p:cTn id="385" nodeType="afterEffect" fill="hold" presetClass="entr" presetID="19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12500"/>
                            </p:stCondLst>
                            <p:childTnLst>
                              <p:par>
                                <p:cTn id="390" nodeType="afterEffect" fill="hold" presetClass="entr" presetID="3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92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93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94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95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15500"/>
                            </p:stCondLst>
                            <p:childTnLst>
                              <p:par>
                                <p:cTn id="397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18000"/>
                            </p:stCondLst>
                            <p:childTnLst>
                              <p:par>
                                <p:cTn id="402" nodeType="afterEffect" fill="hold" presetClass="entr" presetID="25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1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22500"/>
                            </p:stCondLst>
                            <p:childTnLst>
                              <p:par>
                                <p:cTn id="413" nodeType="afterEffect" fill="hold" presetClass="entr" presetID="25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2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28500"/>
                            </p:stCondLst>
                            <p:childTnLst>
                              <p:par>
                                <p:cTn id="424" nodeType="afterEffect" fill="hold" presetClass="entr" presetID="3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2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2211480" y="0"/>
            <a:ext cx="472104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randomBar dir="vert"/>
  </p:transition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0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8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2162160" y="95400"/>
            <a:ext cx="4819680" cy="66672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randomBar dir="vert"/>
  </p:transition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0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7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071800" y="95400"/>
            <a:ext cx="5000400" cy="66672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randomBar dir="vert"/>
  </p:transition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0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6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2276640" y="95400"/>
            <a:ext cx="4590720" cy="66672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randomBar dir="vert"/>
  </p:transition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fill="hold">
                      <p:stCondLst>
                        <p:cond delay="0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5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00016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randomBar dir="vert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995480" y="95400"/>
            <a:ext cx="5153040" cy="66672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randomBar dir="vert"/>
  </p:transition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fill="hold">
                      <p:stCondLst>
                        <p:cond delay="0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919160" y="95400"/>
            <a:ext cx="5305680" cy="66672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randomBar dir="vert"/>
  </p:transition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fill="hold">
                      <p:stCondLst>
                        <p:cond delay="0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2195640" y="95400"/>
            <a:ext cx="4752720" cy="66672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randomBar dir="vert"/>
  </p:transition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fill="hold">
                      <p:stCondLst>
                        <p:cond delay="0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514440" y="314280"/>
            <a:ext cx="8115120" cy="622944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randomBar dir="vert"/>
  </p:transition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fill="hold">
                      <p:stCondLst>
                        <p:cond delay="0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965240" y="-11160"/>
            <a:ext cx="5151600" cy="686916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randomBar dir="vert"/>
  </p:transition>
  <p:timing>
    <p:tnLst>
      <p:par>
        <p:cTn id="502" dur="indefinite" restart="never" nodeType="tmRoot">
          <p:childTnLst>
            <p:seq>
              <p:cTn id="503" dur="indefinite" nodeType="mainSeq">
                <p:childTnLst>
                  <p:par>
                    <p:cTn id="504" fill="hold">
                      <p:stCondLst>
                        <p:cond delay="0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2071800" y="95400"/>
            <a:ext cx="5000400" cy="66672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randomBar dir="vert"/>
  </p:transition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fill="hold">
                      <p:stCondLst>
                        <p:cond delay="0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2292480" y="0"/>
            <a:ext cx="455904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randomBar dir="vert"/>
  </p:transition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fill="hold">
                      <p:stCondLst>
                        <p:cond delay="0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7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42920" y="1341360"/>
            <a:ext cx="7416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93b1dd"/>
                </a:solidFill>
                <a:latin typeface="Arial"/>
              </a:rPr>
              <a:t>Después de ver las imágenes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00000" y="2155680"/>
            <a:ext cx="76122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93b1dd"/>
                </a:solidFill>
                <a:latin typeface="Arial"/>
              </a:rPr>
              <a:t>Tu que crees... ¿es un desperdicio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76320" y="3201840"/>
            <a:ext cx="360036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93b1dd"/>
                </a:solidFill>
                <a:latin typeface="Arial"/>
              </a:rPr>
              <a:t>¿como homb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29080" y="3201840"/>
            <a:ext cx="57456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600" spc="-1" strike="noStrike">
                <a:solidFill>
                  <a:srgbClr val="93b1dd"/>
                </a:solidFill>
                <a:latin typeface="Arial"/>
              </a:rPr>
              <a:t>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88000" y="3240000"/>
            <a:ext cx="367164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93b1dd"/>
                </a:solidFill>
                <a:latin typeface="Arial"/>
              </a:rPr>
              <a:t>¿como mujer...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908000" y="4724280"/>
            <a:ext cx="4896000" cy="13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97C2A-FDAB-4908-9C91-95FCD51F0253}" type="datetime10">
              <a:rPr b="1" lang="es-ES" sz="4400" spc="-1" strike="noStrike">
                <a:solidFill>
                  <a:srgbClr val="ff0000"/>
                </a:solidFill>
                <a:latin typeface="Garamond"/>
                <a:ea typeface="Arial"/>
              </a:rPr>
              <a:t>07:17</a:t>
            </a:fld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DBC89-BE2F-410E-9407-5D9A1C6FD472}" type="datetime3">
              <a:rPr b="1" lang="es-ES" sz="2800" spc="-1" strike="noStrike">
                <a:solidFill>
                  <a:srgbClr val="ebd7c3"/>
                </a:solidFill>
                <a:latin typeface="Garamond"/>
                <a:ea typeface="Arial"/>
              </a:rPr>
              <a:t>29 de julio de 2026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2000">
    <p:randomBar dir="vert"/>
  </p:transition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0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fill="hold">
                            <p:stCondLst>
                              <p:cond delay="2000"/>
                            </p:stCondLst>
                            <p:childTnLst>
                              <p:par>
                                <p:cTn id="537" nodeType="after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5500"/>
                            </p:stCondLst>
                            <p:childTnLst>
                              <p:par>
                                <p:cTn id="542" nodeType="afterEffect" fill="hold" presetClass="entr" presetID="2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fill="hold">
                            <p:stCondLst>
                              <p:cond delay="8500"/>
                            </p:stCondLst>
                            <p:childTnLst>
                              <p:par>
                                <p:cTn id="553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10000"/>
                            </p:stCondLst>
                            <p:childTnLst>
                              <p:par>
                                <p:cTn id="558" nodeType="afterEffect" fill="hold" presetClass="entr" presetID="2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fill="hold">
                            <p:stCondLst>
                              <p:cond delay="12000"/>
                            </p:stCondLst>
                            <p:childTnLst>
                              <p:par>
                                <p:cTn id="569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1" dur="2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2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16000"/>
                            </p:stCondLst>
                            <p:childTnLst>
                              <p:par>
                                <p:cTn id="574" nodeType="afterEffect" fill="hold" presetClass="entr" presetID="2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3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116000" y="934920"/>
            <a:ext cx="6875640" cy="515808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randomBar dir="vert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071800" y="95400"/>
            <a:ext cx="5000400" cy="66672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randomBar dir="vert"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00016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randomBar dir="vert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00016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randomBar dir="vert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286000" y="0"/>
            <a:ext cx="4572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randomBar dir="vert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5T01:57:43Z</dcterms:created>
  <dc:creator>Paulo Roberto Wortmann</dc:creator>
  <dc:description/>
  <dc:language>en-US</dc:language>
  <cp:lastModifiedBy>Carlos Augusto Matienzo Flores</cp:lastModifiedBy>
  <dcterms:modified xsi:type="dcterms:W3CDTF">2009-11-07T21:30:00Z</dcterms:modified>
  <cp:revision>18</cp:revision>
  <dc:subject/>
  <dc:title>Slide 1</dc:title>
</cp:coreProperties>
</file>