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EE98-D02E-4FC6-AED4-712E12096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527E-8443-409A-A0DA-A8E57A88E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AA38-E540-4C6D-89B2-195863C13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6C6A-BC20-4D01-94D0-6E78F622D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F06F-D8BC-495F-859A-4099E8673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518B-5877-4356-90E0-0883A7B78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9482-F53E-473E-B2B8-1D1587DFB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6C54-40DD-4D36-B802-DBDD4B080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9FC4-74BA-4C40-847F-64FFC294F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877B-7FC1-4F81-A6A5-7947FF3C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530E-EC62-438E-917E-CB1F289F6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FFDC-1C4E-41C3-9387-41BACDC3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F655A-B618-4DBE-817D-80BE29CA1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03280" y="692280"/>
            <a:ext cx="663732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ff66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¿SABIAS IDENTIFICAR </a:t>
            </a:r>
            <a:endParaRPr b="0" lang="en-US" sz="1800" spc="1" strike="noStrike">
              <a:ln w="41400">
                <a:solidFill>
                  <a:srgbClr val="ff66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ff66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L SEXO </a:t>
            </a:r>
            <a:endParaRPr b="0" lang="en-US" sz="1800" spc="1" strike="noStrike">
              <a:ln w="41400">
                <a:solidFill>
                  <a:srgbClr val="ff66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ff66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 LOS CANGREJOS?</a:t>
            </a:r>
            <a:endParaRPr b="0" lang="en-US" sz="1800" spc="1" strike="noStrike">
              <a:ln w="41400">
                <a:solidFill>
                  <a:srgbClr val="ff66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403280" y="692280"/>
            <a:ext cx="663732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ff66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ANGREJO</a:t>
            </a:r>
            <a:endParaRPr b="0" lang="en-US" sz="1800" spc="1" strike="noStrike">
              <a:ln w="41400">
                <a:solidFill>
                  <a:srgbClr val="ff66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ff66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ACHO</a:t>
            </a:r>
            <a:endParaRPr b="0" lang="en-US" sz="1800" spc="1" strike="noStrike">
              <a:ln w="41400">
                <a:solidFill>
                  <a:srgbClr val="ff66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403280" y="692280"/>
            <a:ext cx="663732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ff66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ANGREJO</a:t>
            </a:r>
            <a:endParaRPr b="0" lang="en-US" sz="1800" spc="1" strike="noStrike">
              <a:ln w="41400">
                <a:solidFill>
                  <a:srgbClr val="ff66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ff66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EMBRA</a:t>
            </a:r>
            <a:endParaRPr b="0" lang="en-US" sz="1800" spc="1" strike="noStrike">
              <a:ln w="41400">
                <a:solidFill>
                  <a:srgbClr val="ff66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748720" cy="6892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22:03:24Z</dcterms:created>
  <dc:creator>PENTIUM_IV</dc:creator>
  <dc:description/>
  <dc:language>en-US</dc:language>
  <cp:lastModifiedBy>PENTIUM_IV</cp:lastModifiedBy>
  <dcterms:modified xsi:type="dcterms:W3CDTF">2009-01-09T22:03:39Z</dcterms:modified>
  <cp:revision>1</cp:revision>
  <dc:subject/>
  <dc:title>Diapositiva 1</dc:title>
</cp:coreProperties>
</file>