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B080F-DBCF-4D77-B4A7-65ABFD261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ABED3-373B-4E1A-8F57-0054B129C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0D8D9-8EAA-4752-919E-48308786C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89BE2-8890-43E3-B886-951EDE2B1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441A4-9105-4A46-973F-BDFBDC39C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3684B-ADB0-422C-BB77-E380D984A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2840B-B14C-4557-B7C3-C2190EEE9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50864-ABD4-4D63-B23B-BDB68CD4C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3E386-46F5-4344-A60D-A846E1721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9917D-DB06-4834-B16D-38DF06167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E22FA-8E90-4718-9223-3368AB10B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02128-8A35-4ACB-8E25-375D93650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86EA4-5685-4FB4-BD21-8AEB93BAE3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403280" y="692280"/>
            <a:ext cx="6637320" cy="554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41400">
                  <a:solidFill>
                    <a:srgbClr val="ff66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¿SABIAS IDENTIFICAR </a:t>
            </a:r>
            <a:endParaRPr b="0" lang="en-US" sz="1800" spc="1" strike="noStrike">
              <a:ln w="41400">
                <a:solidFill>
                  <a:srgbClr val="ff66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41400">
                  <a:solidFill>
                    <a:srgbClr val="ff66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EL SEXO </a:t>
            </a:r>
            <a:endParaRPr b="0" lang="en-US" sz="1800" spc="1" strike="noStrike">
              <a:ln w="41400">
                <a:solidFill>
                  <a:srgbClr val="ff66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41400">
                  <a:solidFill>
                    <a:srgbClr val="ff66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A LOS CANGREJOS?</a:t>
            </a:r>
            <a:endParaRPr b="0" lang="en-US" sz="1800" spc="1" strike="noStrike">
              <a:ln w="41400">
                <a:solidFill>
                  <a:srgbClr val="ff66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>
    <p:split dir="out" orient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1403280" y="692280"/>
            <a:ext cx="6637320" cy="554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41400">
                  <a:solidFill>
                    <a:srgbClr val="ff66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CANGREJO</a:t>
            </a:r>
            <a:endParaRPr b="0" lang="en-US" sz="1800" spc="1" strike="noStrike">
              <a:ln w="41400">
                <a:solidFill>
                  <a:srgbClr val="ff66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41400">
                  <a:solidFill>
                    <a:srgbClr val="ff66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MACHO</a:t>
            </a:r>
            <a:endParaRPr b="0" lang="en-US" sz="1800" spc="1" strike="noStrike">
              <a:ln w="41400">
                <a:solidFill>
                  <a:srgbClr val="ff66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>
    <p:split dir="out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356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1403280" y="692280"/>
            <a:ext cx="6637320" cy="554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41400">
                  <a:solidFill>
                    <a:srgbClr val="ff66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CANGREJO</a:t>
            </a:r>
            <a:endParaRPr b="0" lang="en-US" sz="1800" spc="1" strike="noStrike">
              <a:ln w="41400">
                <a:solidFill>
                  <a:srgbClr val="ff66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41400">
                  <a:solidFill>
                    <a:srgbClr val="ff66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EMBRA</a:t>
            </a:r>
            <a:endParaRPr b="0" lang="en-US" sz="1800" spc="1" strike="noStrike">
              <a:ln w="41400">
                <a:solidFill>
                  <a:srgbClr val="ff66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>
    <p:split dir="out" orient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79280" y="0"/>
            <a:ext cx="8748720" cy="689292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9T22:03:24Z</dcterms:created>
  <dc:creator>PENTIUM_IV</dc:creator>
  <dc:description/>
  <dc:language>en-US</dc:language>
  <cp:lastModifiedBy>PENTIUM_IV</cp:lastModifiedBy>
  <dcterms:modified xsi:type="dcterms:W3CDTF">2009-01-09T22:03:39Z</dcterms:modified>
  <cp:revision>1</cp:revision>
  <dc:subject/>
  <dc:title>Diapositiva 1</dc:title>
</cp:coreProperties>
</file>