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Willy%20Chirino%20-%20y%20dice%20ese%20maricon.wav" ContentType="audio/x-wav"/>
  <Override PartName="/ppt/media/image21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42.jpeg" ContentType="image/jpeg"/>
  <Override PartName="/ppt/media/image59.jpeg" ContentType="image/jpeg"/>
  <Override PartName="/ppt/media/image67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B31E-B3DF-42A0-BD41-59DEBDCF3B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32C4-2EB1-4C7A-B2EF-24DFB63BD0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49C0-4462-49A0-960C-34CF5DDC8F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2A3F-B0D6-4EBE-B06B-409052360E9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B66A-B0EE-4FDB-AF9F-CF31FC4BD8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1831-F24C-4D00-A29A-C3C471A85B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2A93-B820-44A3-B50E-C2847ABBB2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1159-6AF6-43DE-98B2-66B23A5B02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879C-BBF8-483F-BCD5-94D1B4AF995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7F75-A814-430F-A419-91C86B0D4FA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1125-E8BE-4D77-84FA-B75D429D58D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CA85-B008-4CEB-A4D4-5A20858EC5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E5C8-EBC6-4A54-A832-382EE9E5A2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0B30-4C3E-420A-BE30-A99B8B8A40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9ABF-F32D-4317-AF77-759C4369AC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B454-2061-4A8E-9F15-0B7D21C952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92F7-2A47-4209-AE5D-F548967F7D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24AA-7237-4C03-8798-BA98C908E46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BF13-6AB0-4134-A260-62E8AF4A51A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93DF-2D4B-48B2-9A10-14BB085EEE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6A45-B27D-4A5B-A83F-3311F0DBCF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2AB6-C026-4E15-A243-4AC21DA3FED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206E-2867-4511-AE49-77D3C715E4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C44-6600-4E3A-A5F2-029FC282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2069-D0FF-4B51-AC33-BE6DA8C8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7D0-9230-4BBF-9651-C9189E10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A00-18AD-454A-8E87-1D55C372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A97-4C25-4034-9A38-62E341EB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826-B0BD-4BEB-BF42-83068530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618F-CAE5-41A6-968A-3060AC7B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5B1A-0A45-4F92-8DF7-15653734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E51F-DD97-481D-BE99-E2BB4593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03A-9788-4F32-8E3F-5B842A1B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A5E-08DB-459B-BFC9-020E58ED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935-6579-417F-BA98-037F36B1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AE24-6DA3-489B-A70D-5C0D8465AA7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lly%20Chirino%20-%20y%20dice%20ese%20maricon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600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Calibri"/>
              </a:rPr>
              <a:t>EN CUBA NO FALTA NAD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2 CuadroTexto"/>
          <p:cNvSpPr/>
          <p:nvPr/>
        </p:nvSpPr>
        <p:spPr>
          <a:xfrm>
            <a:off x="1103400" y="4535640"/>
            <a:ext cx="7089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(Canción para Fidel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  <p:sndAc>
      <p:stSnd>
        <p:snd r:embed="rId1" name="Willy%20Chirino%20-%20y%20dice%20ese%20maric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3 Marcador de contenido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3 Marcador de contenido" descr="10.jpg"/>
          <p:cNvPicPr/>
          <p:nvPr/>
        </p:nvPicPr>
        <p:blipFill>
          <a:blip r:embed="rId1"/>
          <a:stretch/>
        </p:blipFill>
        <p:spPr>
          <a:xfrm>
            <a:off x="1928880" y="-14400"/>
            <a:ext cx="4714920" cy="691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3 Marcador de contenido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3 Marcador de contenido" descr="12.jpg"/>
          <p:cNvPicPr/>
          <p:nvPr/>
        </p:nvPicPr>
        <p:blipFill>
          <a:blip r:embed="rId1"/>
          <a:stretch/>
        </p:blipFill>
        <p:spPr>
          <a:xfrm>
            <a:off x="1928880" y="-22320"/>
            <a:ext cx="4714920" cy="693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3 Marcador de contenido" descr="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3 Marcador de contenido" descr="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3 Marcador de contenido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3 Marcador de contenido" descr="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3 Marcador de contenido" descr="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3 Marcador de contenido" descr="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3 Marcador de contenido" descr="2.jpg"/>
          <p:cNvPicPr/>
          <p:nvPr/>
        </p:nvPicPr>
        <p:blipFill>
          <a:blip r:embed="rId1"/>
          <a:stretch/>
        </p:blipFill>
        <p:spPr>
          <a:xfrm>
            <a:off x="1928880" y="-39600"/>
            <a:ext cx="4714920" cy="6940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3 Marcador de contenido" descr="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3 Marcador de contenido" descr="20.jpg"/>
          <p:cNvPicPr/>
          <p:nvPr/>
        </p:nvPicPr>
        <p:blipFill>
          <a:blip r:embed="rId1"/>
          <a:stretch/>
        </p:blipFill>
        <p:spPr>
          <a:xfrm>
            <a:off x="1928880" y="-44280"/>
            <a:ext cx="4668840" cy="6902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3 Marcador de contenido" descr="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3 Marcador de contenido" descr="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3 Marcador de contenido" descr="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yself99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myself41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email32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Myself9"/>
          <p:cNvPicPr/>
          <p:nvPr/>
        </p:nvPicPr>
        <p:blipFill>
          <a:blip r:embed="rId1"/>
          <a:stretch/>
        </p:blipFill>
        <p:spPr>
          <a:xfrm>
            <a:off x="1989000" y="0"/>
            <a:ext cx="5166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myself17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3 Marcador de contenido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myself10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myself27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myself29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myself56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0038-pueblo-edif-13"/>
          <p:cNvPicPr/>
          <p:nvPr/>
        </p:nvPicPr>
        <p:blipFill>
          <a:blip r:embed="rId1"/>
          <a:stretch/>
        </p:blipFill>
        <p:spPr>
          <a:xfrm>
            <a:off x="1143000" y="846000"/>
            <a:ext cx="6858000" cy="516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00398-city_hav"/>
          <p:cNvPicPr/>
          <p:nvPr/>
        </p:nvPicPr>
        <p:blipFill>
          <a:blip r:embed="rId1"/>
          <a:stretch/>
        </p:blipFill>
        <p:spPr>
          <a:xfrm>
            <a:off x="182520" y="503280"/>
            <a:ext cx="8778960" cy="5851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email30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00400-city_hav"/>
          <p:cNvPicPr/>
          <p:nvPr/>
        </p:nvPicPr>
        <p:blipFill>
          <a:blip r:embed="rId1"/>
          <a:stretch/>
        </p:blipFill>
        <p:spPr>
          <a:xfrm>
            <a:off x="7920" y="0"/>
            <a:ext cx="4683240" cy="6357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00401-city_hav"/>
          <p:cNvPicPr/>
          <p:nvPr/>
        </p:nvPicPr>
        <p:blipFill>
          <a:blip r:embed="rId2"/>
          <a:stretch/>
        </p:blipFill>
        <p:spPr>
          <a:xfrm>
            <a:off x="4352760" y="-31680"/>
            <a:ext cx="4791240" cy="638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3 Marcador de contenido" descr="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3 Marcador de contenido" descr="26.jpg"/>
          <p:cNvPicPr/>
          <p:nvPr/>
        </p:nvPicPr>
        <p:blipFill>
          <a:blip r:embed="rId1"/>
          <a:stretch/>
        </p:blipFill>
        <p:spPr>
          <a:xfrm>
            <a:off x="0" y="0"/>
            <a:ext cx="9299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3 Marcador de contenido" descr="03cfrbtxi163xfsltp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00354-havana_edificio"/>
          <p:cNvPicPr/>
          <p:nvPr/>
        </p:nvPicPr>
        <p:blipFill>
          <a:blip r:embed="rId1"/>
          <a:stretch/>
        </p:blipFill>
        <p:spPr>
          <a:xfrm>
            <a:off x="304920" y="0"/>
            <a:ext cx="4343400" cy="3371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00388-city_hav"/>
          <p:cNvPicPr/>
          <p:nvPr/>
        </p:nvPicPr>
        <p:blipFill>
          <a:blip r:embed="rId2"/>
          <a:stretch/>
        </p:blipFill>
        <p:spPr>
          <a:xfrm>
            <a:off x="4952880" y="685800"/>
            <a:ext cx="3810240" cy="507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00394-city_hav"/>
          <p:cNvPicPr/>
          <p:nvPr/>
        </p:nvPicPr>
        <p:blipFill>
          <a:blip r:embed="rId3"/>
          <a:stretch/>
        </p:blipFill>
        <p:spPr>
          <a:xfrm>
            <a:off x="15228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00325-people_view"/>
          <p:cNvPicPr/>
          <p:nvPr/>
        </p:nvPicPr>
        <p:blipFill>
          <a:blip r:embed="rId1"/>
          <a:stretch/>
        </p:blipFill>
        <p:spPr>
          <a:xfrm>
            <a:off x="5334120" y="152280"/>
            <a:ext cx="3333600" cy="3391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00348-havana_pobres_en_cuba"/>
          <p:cNvPicPr/>
          <p:nvPr/>
        </p:nvPicPr>
        <p:blipFill>
          <a:blip r:embed="rId2"/>
          <a:stretch/>
        </p:blipFill>
        <p:spPr>
          <a:xfrm>
            <a:off x="0" y="0"/>
            <a:ext cx="4937040" cy="4743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00422-city_havana"/>
          <p:cNvPicPr/>
          <p:nvPr/>
        </p:nvPicPr>
        <p:blipFill>
          <a:blip r:embed="rId3"/>
          <a:stretch/>
        </p:blipFill>
        <p:spPr>
          <a:xfrm>
            <a:off x="4800600" y="360036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Myself6"/>
          <p:cNvPicPr/>
          <p:nvPr/>
        </p:nvPicPr>
        <p:blipFill>
          <a:blip r:embed="rId1"/>
          <a:stretch/>
        </p:blipFill>
        <p:spPr>
          <a:xfrm>
            <a:off x="324000" y="-15840"/>
            <a:ext cx="8820000" cy="6645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Myself7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myself12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00407-city_havana"/>
          <p:cNvPicPr/>
          <p:nvPr/>
        </p:nvPicPr>
        <p:blipFill>
          <a:blip r:embed="rId1"/>
          <a:stretch/>
        </p:blipFill>
        <p:spPr>
          <a:xfrm>
            <a:off x="182520" y="457200"/>
            <a:ext cx="877896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myself38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myself43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3 Marcador de contenido" descr="27.jpg"/>
          <p:cNvPicPr/>
          <p:nvPr/>
        </p:nvPicPr>
        <p:blipFill>
          <a:blip r:embed="rId1"/>
          <a:stretch/>
        </p:blipFill>
        <p:spPr>
          <a:xfrm>
            <a:off x="1928880" y="-19080"/>
            <a:ext cx="4714920" cy="692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3 Marcador de contenido" descr="28.jpg"/>
          <p:cNvPicPr/>
          <p:nvPr/>
        </p:nvPicPr>
        <p:blipFill>
          <a:blip r:embed="rId1"/>
          <a:stretch/>
        </p:blipFill>
        <p:spPr>
          <a:xfrm>
            <a:off x="1928880" y="-52560"/>
            <a:ext cx="4714920" cy="6983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3 Marcador de contenido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3 Marcador de contenido" descr="29.jpg"/>
          <p:cNvPicPr/>
          <p:nvPr/>
        </p:nvPicPr>
        <p:blipFill>
          <a:blip r:embed="rId1"/>
          <a:stretch/>
        </p:blipFill>
        <p:spPr>
          <a:xfrm>
            <a:off x="0" y="0"/>
            <a:ext cx="92757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3 Marcador de contenido" descr="30.jpg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3 Marcador de contenido" descr="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3 Marcador de contenido" descr="32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3 Marcador de contenido" descr="33.jpg"/>
          <p:cNvPicPr/>
          <p:nvPr/>
        </p:nvPicPr>
        <p:blipFill>
          <a:blip r:embed="rId1"/>
          <a:stretch/>
        </p:blipFill>
        <p:spPr>
          <a:xfrm>
            <a:off x="1857240" y="0"/>
            <a:ext cx="4786560" cy="6892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3 Marcador de contenido" descr="34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3 Marcador de contenido" descr="35.jpg"/>
          <p:cNvPicPr/>
          <p:nvPr/>
        </p:nvPicPr>
        <p:blipFill>
          <a:blip r:embed="rId1"/>
          <a:stretch/>
        </p:blipFill>
        <p:spPr>
          <a:xfrm>
            <a:off x="1928880" y="-4680"/>
            <a:ext cx="4714920" cy="6900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3 Marcador de contenido" descr="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3 Marcador de contenido" descr="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3 Marcador de contenido" descr="38.jpg"/>
          <p:cNvPicPr/>
          <p:nvPr/>
        </p:nvPicPr>
        <p:blipFill>
          <a:blip r:embed="rId1"/>
          <a:stretch/>
        </p:blipFill>
        <p:spPr>
          <a:xfrm>
            <a:off x="1928880" y="19080"/>
            <a:ext cx="4701960" cy="683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3 Marcador de contenido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3 Marcador de contenido" descr="39.jpg"/>
          <p:cNvPicPr/>
          <p:nvPr/>
        </p:nvPicPr>
        <p:blipFill>
          <a:blip r:embed="rId1"/>
          <a:stretch/>
        </p:blipFill>
        <p:spPr>
          <a:xfrm>
            <a:off x="1928880" y="3240"/>
            <a:ext cx="4694040" cy="6854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3 Marcador de contenido" descr="40.jpg"/>
          <p:cNvPicPr/>
          <p:nvPr/>
        </p:nvPicPr>
        <p:blipFill>
          <a:blip r:embed="rId1"/>
          <a:stretch/>
        </p:blipFill>
        <p:spPr>
          <a:xfrm>
            <a:off x="1928880" y="-15840"/>
            <a:ext cx="468288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3 Marcador de contenido" descr="41.jpg"/>
          <p:cNvPicPr/>
          <p:nvPr/>
        </p:nvPicPr>
        <p:blipFill>
          <a:blip r:embed="rId1"/>
          <a:stretch/>
        </p:blipFill>
        <p:spPr>
          <a:xfrm>
            <a:off x="0" y="0"/>
            <a:ext cx="9218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3 Marcador de contenido" descr="42.jpg"/>
          <p:cNvPicPr/>
          <p:nvPr/>
        </p:nvPicPr>
        <p:blipFill>
          <a:blip r:embed="rId1"/>
          <a:stretch/>
        </p:blipFill>
        <p:spPr>
          <a:xfrm>
            <a:off x="1928880" y="-11160"/>
            <a:ext cx="4714920" cy="691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14240" y="1357200"/>
            <a:ext cx="7772400" cy="375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 CUBA </a:t>
            </a:r>
            <a:br>
              <a:rPr sz="6000"/>
            </a:b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FALTA NADA…</a:t>
            </a:r>
            <a:br>
              <a:rPr sz="6000"/>
            </a:b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¡¡HAY QUE SER MARICONZÓN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2 CuadroTexto"/>
          <p:cNvSpPr/>
          <p:nvPr/>
        </p:nvSpPr>
        <p:spPr>
          <a:xfrm>
            <a:off x="583200" y="6202440"/>
            <a:ext cx="46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úsica: Willy Chirino “Y dice ese maricó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 CuadroTexto"/>
          <p:cNvSpPr/>
          <p:nvPr/>
        </p:nvSpPr>
        <p:spPr>
          <a:xfrm>
            <a:off x="8066160" y="642924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GC&gt;&gt;AR’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3 Marcador de contenido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3 Marcador de contenido" descr="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3 Marcador de contenido" descr="8.jpg"/>
          <p:cNvPicPr/>
          <p:nvPr/>
        </p:nvPicPr>
        <p:blipFill>
          <a:blip r:embed="rId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20:08:12Z</dcterms:created>
  <dc:creator> </dc:creator>
  <dc:description/>
  <dc:language>en-US</dc:language>
  <cp:lastModifiedBy>PC</cp:lastModifiedBy>
  <dcterms:modified xsi:type="dcterms:W3CDTF">2009-10-14T09:24:56Z</dcterms:modified>
  <cp:revision>7</cp:revision>
  <dc:subject/>
  <dc:title>EN CUBA NO FALTA NADA</dc:title>
</cp:coreProperties>
</file>