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Willy%20Chirino%20-%20y%20dice%20ese%20maricon.wav" ContentType="audio/x-wav"/>
  <Override PartName="/ppt/media/image21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59.jpeg" ContentType="image/jpeg"/>
  <Override PartName="/ppt/media/image67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2F53-7FC9-453D-8A67-01CF1494CC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6EB9-74BB-4471-A469-49C6A0DE00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59C4-F320-4860-A840-5F94895965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19B8-9E93-4A6E-AA6C-20FE10A93D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EF73-8DFF-49C0-8D3F-EC64CF8D2E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D048-6C3C-4007-8E4C-9A1C6B7F33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0BB9-CFAD-46CE-956A-FDD1C63897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20F9-F85F-44DC-A1B6-5FEF98EA06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0C9B-D5DC-444F-BDC3-3BC8E229CE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5A33-7566-44E3-ABB9-C6FA47473C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EA46-4B0F-4F77-BB7F-17515F45AB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91D0-DCBF-4EDB-B02A-B36BA0BE72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3D3B-5353-4396-98E9-ABEE89803F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D946-F43E-471E-8859-EE4E70DD91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CC42-88B6-430C-9D59-A945F587DF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5839-0E91-4B21-A4DE-397457B178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B18F-C5D5-4504-A2CA-62CEBEE3FB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A76E-BE92-41A9-A245-EB1BFA3B48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FFAE-0D5E-4D27-A39F-5B51A8D259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D458-2000-4574-941D-C395A60FB2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EFA9-09FC-465F-B822-1F42941DCA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E54B-996D-41B5-9A48-4D9D187BC7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70F-FC84-40B5-A239-A8992992D7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C91-2BCF-4CBB-98A2-B61F628A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49E-ECC8-404B-9EE8-E8240E0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5D4-37B2-4DDD-A5C2-9F3EB573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16F-AE50-4D23-B8C6-4118B583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A33-98B5-4E91-9CC7-C9360781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1B3-A6EB-4883-9135-B8E8B9CF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1F0-C9AE-4EF0-A8DF-60C52B6A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2A3-5C8A-41AB-A177-314C98F2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794-BB3E-45FA-874C-62986096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2EE-9A20-4A24-8700-0DD2F8E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BBA-1220-4451-A3E5-D16A9F2E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8F9-FA97-422D-B4BA-C14B839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6202-7BC4-40E1-94A5-FE4724130C8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lly%20Chirino%20-%20y%20dice%20ese%20maricon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Calibri"/>
              </a:rPr>
              <a:t>EN CUBA NO FALTA NAD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1103400" y="4535640"/>
            <a:ext cx="708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(Canción para Fidel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1" name="Willy%20Chirino%20-%20y%20dice%20ese%20maric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Marcador de contenido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Marcador de contenido" descr="10.jpg"/>
          <p:cNvPicPr/>
          <p:nvPr/>
        </p:nvPicPr>
        <p:blipFill>
          <a:blip r:embed="rId1"/>
          <a:stretch/>
        </p:blipFill>
        <p:spPr>
          <a:xfrm>
            <a:off x="1928880" y="-14400"/>
            <a:ext cx="471492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3 Marcador de contenido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3 Marcador de contenido" descr="12.jpg"/>
          <p:cNvPicPr/>
          <p:nvPr/>
        </p:nvPicPr>
        <p:blipFill>
          <a:blip r:embed="rId1"/>
          <a:stretch/>
        </p:blipFill>
        <p:spPr>
          <a:xfrm>
            <a:off x="1928880" y="-22320"/>
            <a:ext cx="47149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3 Marcador de contenido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3 Marcador de contenido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3 Marcador de contenido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3 Marcador de contenido" descr="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3 Marcador de contenido" descr="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2.jpg"/>
          <p:cNvPicPr/>
          <p:nvPr/>
        </p:nvPicPr>
        <p:blipFill>
          <a:blip r:embed="rId1"/>
          <a:stretch/>
        </p:blipFill>
        <p:spPr>
          <a:xfrm>
            <a:off x="1928880" y="-39600"/>
            <a:ext cx="4714920" cy="694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3 Marcador de contenido" descr="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3 Marcador de contenido" descr="20.jpg"/>
          <p:cNvPicPr/>
          <p:nvPr/>
        </p:nvPicPr>
        <p:blipFill>
          <a:blip r:embed="rId1"/>
          <a:stretch/>
        </p:blipFill>
        <p:spPr>
          <a:xfrm>
            <a:off x="1928880" y="-44280"/>
            <a:ext cx="4668840" cy="6902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3 Marcador de contenido" descr="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3 Marcador de contenido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3 Marcador de contenido" descr="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yself99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myself41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email32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Myself9"/>
          <p:cNvPicPr/>
          <p:nvPr/>
        </p:nvPicPr>
        <p:blipFill>
          <a:blip r:embed="rId1"/>
          <a:stretch/>
        </p:blipFill>
        <p:spPr>
          <a:xfrm>
            <a:off x="1989000" y="0"/>
            <a:ext cx="516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yself17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myself1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myself27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myself29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myself56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038-pueblo-edif-13"/>
          <p:cNvPicPr/>
          <p:nvPr/>
        </p:nvPicPr>
        <p:blipFill>
          <a:blip r:embed="rId1"/>
          <a:stretch/>
        </p:blipFill>
        <p:spPr>
          <a:xfrm>
            <a:off x="1143000" y="846000"/>
            <a:ext cx="6858000" cy="516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0398-city_hav"/>
          <p:cNvPicPr/>
          <p:nvPr/>
        </p:nvPicPr>
        <p:blipFill>
          <a:blip r:embed="rId1"/>
          <a:stretch/>
        </p:blipFill>
        <p:spPr>
          <a:xfrm>
            <a:off x="182520" y="503280"/>
            <a:ext cx="8778960" cy="585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email3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0400-city_hav"/>
          <p:cNvPicPr/>
          <p:nvPr/>
        </p:nvPicPr>
        <p:blipFill>
          <a:blip r:embed="rId1"/>
          <a:stretch/>
        </p:blipFill>
        <p:spPr>
          <a:xfrm>
            <a:off x="7920" y="0"/>
            <a:ext cx="4683240" cy="6357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00401-city_hav"/>
          <p:cNvPicPr/>
          <p:nvPr/>
        </p:nvPicPr>
        <p:blipFill>
          <a:blip r:embed="rId2"/>
          <a:stretch/>
        </p:blipFill>
        <p:spPr>
          <a:xfrm>
            <a:off x="4352760" y="-31680"/>
            <a:ext cx="4791240" cy="638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3 Marcador de contenido" descr="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3 Marcador de contenido" descr="26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03cfrbtxi163xfsltp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0354-havana_edificio"/>
          <p:cNvPicPr/>
          <p:nvPr/>
        </p:nvPicPr>
        <p:blipFill>
          <a:blip r:embed="rId1"/>
          <a:stretch/>
        </p:blipFill>
        <p:spPr>
          <a:xfrm>
            <a:off x="304920" y="0"/>
            <a:ext cx="4343400" cy="337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00388-city_hav"/>
          <p:cNvPicPr/>
          <p:nvPr/>
        </p:nvPicPr>
        <p:blipFill>
          <a:blip r:embed="rId2"/>
          <a:stretch/>
        </p:blipFill>
        <p:spPr>
          <a:xfrm>
            <a:off x="4952880" y="68580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00394-city_hav"/>
          <p:cNvPicPr/>
          <p:nvPr/>
        </p:nvPicPr>
        <p:blipFill>
          <a:blip r:embed="rId3"/>
          <a:stretch/>
        </p:blipFill>
        <p:spPr>
          <a:xfrm>
            <a:off x="15228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0325-people_view"/>
          <p:cNvPicPr/>
          <p:nvPr/>
        </p:nvPicPr>
        <p:blipFill>
          <a:blip r:embed="rId1"/>
          <a:stretch/>
        </p:blipFill>
        <p:spPr>
          <a:xfrm>
            <a:off x="5334120" y="152280"/>
            <a:ext cx="3333600" cy="339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00348-havana_pobres_en_cuba"/>
          <p:cNvPicPr/>
          <p:nvPr/>
        </p:nvPicPr>
        <p:blipFill>
          <a:blip r:embed="rId2"/>
          <a:stretch/>
        </p:blipFill>
        <p:spPr>
          <a:xfrm>
            <a:off x="0" y="0"/>
            <a:ext cx="4937040" cy="474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00422-city_havana"/>
          <p:cNvPicPr/>
          <p:nvPr/>
        </p:nvPicPr>
        <p:blipFill>
          <a:blip r:embed="rId3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yself6"/>
          <p:cNvPicPr/>
          <p:nvPr/>
        </p:nvPicPr>
        <p:blipFill>
          <a:blip r:embed="rId1"/>
          <a:stretch/>
        </p:blipFill>
        <p:spPr>
          <a:xfrm>
            <a:off x="324000" y="-15840"/>
            <a:ext cx="8820000" cy="6645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Myself7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myself12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0407-city_havana"/>
          <p:cNvPicPr/>
          <p:nvPr/>
        </p:nvPicPr>
        <p:blipFill>
          <a:blip r:embed="rId1"/>
          <a:stretch/>
        </p:blipFill>
        <p:spPr>
          <a:xfrm>
            <a:off x="182520" y="457200"/>
            <a:ext cx="877896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myself38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yself43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3 Marcador de contenido" descr="27.jpg"/>
          <p:cNvPicPr/>
          <p:nvPr/>
        </p:nvPicPr>
        <p:blipFill>
          <a:blip r:embed="rId1"/>
          <a:stretch/>
        </p:blipFill>
        <p:spPr>
          <a:xfrm>
            <a:off x="1928880" y="-19080"/>
            <a:ext cx="4714920" cy="692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3 Marcador de contenido" descr="28.jpg"/>
          <p:cNvPicPr/>
          <p:nvPr/>
        </p:nvPicPr>
        <p:blipFill>
          <a:blip r:embed="rId1"/>
          <a:stretch/>
        </p:blipFill>
        <p:spPr>
          <a:xfrm>
            <a:off x="1928880" y="-52560"/>
            <a:ext cx="4714920" cy="698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3 Marcador de contenido" descr="29.jpg"/>
          <p:cNvPicPr/>
          <p:nvPr/>
        </p:nvPicPr>
        <p:blipFill>
          <a:blip r:embed="rId1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3 Marcador de contenido" descr="30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3 Marcador de contenido" descr="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3 Marcador de contenido" descr="32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3 Marcador de contenido" descr="33.jpg"/>
          <p:cNvPicPr/>
          <p:nvPr/>
        </p:nvPicPr>
        <p:blipFill>
          <a:blip r:embed="rId1"/>
          <a:stretch/>
        </p:blipFill>
        <p:spPr>
          <a:xfrm>
            <a:off x="1857240" y="0"/>
            <a:ext cx="4786560" cy="689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3 Marcador de contenido" descr="34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3 Marcador de contenido" descr="35.jpg"/>
          <p:cNvPicPr/>
          <p:nvPr/>
        </p:nvPicPr>
        <p:blipFill>
          <a:blip r:embed="rId1"/>
          <a:stretch/>
        </p:blipFill>
        <p:spPr>
          <a:xfrm>
            <a:off x="1928880" y="-4680"/>
            <a:ext cx="471492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3 Marcador de contenido" descr="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3 Marcador de contenido" descr="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3 Marcador de contenido" descr="38.jpg"/>
          <p:cNvPicPr/>
          <p:nvPr/>
        </p:nvPicPr>
        <p:blipFill>
          <a:blip r:embed="rId1"/>
          <a:stretch/>
        </p:blipFill>
        <p:spPr>
          <a:xfrm>
            <a:off x="1928880" y="19080"/>
            <a:ext cx="4701960" cy="683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3 Marcador de contenido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3 Marcador de contenido" descr="39.jpg"/>
          <p:cNvPicPr/>
          <p:nvPr/>
        </p:nvPicPr>
        <p:blipFill>
          <a:blip r:embed="rId1"/>
          <a:stretch/>
        </p:blipFill>
        <p:spPr>
          <a:xfrm>
            <a:off x="1928880" y="3240"/>
            <a:ext cx="4694040" cy="685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3 Marcador de contenido" descr="40.jpg"/>
          <p:cNvPicPr/>
          <p:nvPr/>
        </p:nvPicPr>
        <p:blipFill>
          <a:blip r:embed="rId1"/>
          <a:stretch/>
        </p:blipFill>
        <p:spPr>
          <a:xfrm>
            <a:off x="1928880" y="-15840"/>
            <a:ext cx="46828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3 Marcador de contenido" descr="41.jpg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3 Marcador de contenido" descr="42.jpg"/>
          <p:cNvPicPr/>
          <p:nvPr/>
        </p:nvPicPr>
        <p:blipFill>
          <a:blip r:embed="rId1"/>
          <a:stretch/>
        </p:blipFill>
        <p:spPr>
          <a:xfrm>
            <a:off x="1928880" y="-11160"/>
            <a:ext cx="4714920" cy="691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1357200"/>
            <a:ext cx="7772400" cy="37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CUBA </a:t>
            </a:r>
            <a:br>
              <a:rPr sz="6000"/>
            </a:b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FALTA NADA…</a:t>
            </a:r>
            <a:br>
              <a:rPr sz="6000"/>
            </a:b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¡HAY QUE SER MARICONZÓN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2 CuadroTexto"/>
          <p:cNvSpPr/>
          <p:nvPr/>
        </p:nvSpPr>
        <p:spPr>
          <a:xfrm>
            <a:off x="583200" y="620244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úsica: Willy Chirino “Y dice ese maric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CuadroTexto"/>
          <p:cNvSpPr/>
          <p:nvPr/>
        </p:nvSpPr>
        <p:spPr>
          <a:xfrm>
            <a:off x="8066160" y="642924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GC&gt;&gt;AR’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Marcador de contenido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3 Marcador de contenido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8.jpg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20:08:12Z</dcterms:created>
  <dc:creator> </dc:creator>
  <dc:description/>
  <dc:language>en-US</dc:language>
  <cp:lastModifiedBy>PC</cp:lastModifiedBy>
  <dcterms:modified xsi:type="dcterms:W3CDTF">2009-10-14T09:24:56Z</dcterms:modified>
  <cp:revision>7</cp:revision>
  <dc:subject/>
  <dc:title>EN CUBA NO FALTA NADA</dc:title>
</cp:coreProperties>
</file>